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2BC4-45F0-46A0-A6FC-00C2D9676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11AE-75D8-4FAF-8D9A-D18E4D8A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47DD-279D-402C-AA3C-90F92F1EA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3D83-3C11-4797-92BF-EC958EF6C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17C6-EF02-4C88-91ED-704B169D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2117-94DD-4D2A-BF0E-AD1579AC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C2FD-EC1D-4ACA-9528-6B85E251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E3F1-7896-4BE8-99F3-C15824C6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12F1-3B47-4A29-96CB-DA52527B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326E-DF2D-44F4-BFD8-FA4E6033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430C-778B-4FAF-A322-F21E4306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FB1E-13CD-4CB0-9A08-ED4EA817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ACDF-EC27-4080-B5C9-68B55CE8968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ysteme_solaire"/>
          <p:cNvPicPr/>
          <p:nvPr/>
        </p:nvPicPr>
        <p:blipFill>
          <a:blip r:embed="rId1"/>
          <a:stretch/>
        </p:blipFill>
        <p:spPr>
          <a:xfrm>
            <a:off x="0" y="1928880"/>
            <a:ext cx="9144000" cy="34574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2454120" y="500040"/>
            <a:ext cx="463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 Système Solai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0:29:38Z</dcterms:created>
  <dc:creator>carole.beeston</dc:creator>
  <dc:description/>
  <dc:language>en-US</dc:language>
  <cp:lastModifiedBy>Clare Seccombe</cp:lastModifiedBy>
  <dcterms:modified xsi:type="dcterms:W3CDTF">2010-11-02T13:45:56Z</dcterms:modified>
  <cp:revision>1</cp:revision>
  <dc:subject/>
  <dc:title>Slide 1</dc:title>
</cp:coreProperties>
</file>