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403-D687-4B1B-947F-5A7414C4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1C2-2B39-412B-89B1-8E77613E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9F0-7BA0-42F3-AC66-AC9EBB72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A63-DD6F-4622-9701-E0A984DC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88B-F985-48C7-8556-8438D979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767-4EE9-47D4-947A-FEB23E97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ABA-690D-41EF-BF61-5A6E4CA0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04C-317E-43EA-B340-5AC4316E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0DF-E7D5-4D46-9D01-CEF73073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029-65A8-463E-A5FE-F5B24D1A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611-02DA-4668-A2C1-83C5821B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0D3-645C-4E36-813D-6D2C67C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F154-0929-4B0C-BD50-6AD325F1E0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ysteme_solaire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3457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454120" y="500040"/>
            <a:ext cx="46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 Système Sola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0:29:38Z</dcterms:created>
  <dc:creator>carole.beeston</dc:creator>
  <dc:description/>
  <dc:language>en-US</dc:language>
  <cp:lastModifiedBy>Clare Seccombe</cp:lastModifiedBy>
  <dcterms:modified xsi:type="dcterms:W3CDTF">2010-11-02T13:45:56Z</dcterms:modified>
  <cp:revision>1</cp:revision>
  <dc:subject/>
  <dc:title>Slide 1</dc:title>
</cp:coreProperties>
</file>