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2586-E948-4525-979C-5E52F2DCC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74FC-DDEA-4E0F-A7A5-00BC52CCF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5C36-3B59-4371-ACBB-B15129A42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D6FB-B710-4406-8CD3-9BBBF7C7B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5F39-AF3F-448D-8CE3-D99CA883B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B90F-BAD7-404A-BF8A-1A9694FAA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F741-55A9-4879-8282-D42AE0AB8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869A-43D0-4BA0-AAAC-E352203DE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C8BD-8728-428E-BD68-3F7C7CD55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50DA-DA95-4FA6-8E6F-54CCBD6E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60E8-C62B-4930-B703-1CCA1AAA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CA78-A9B7-4F79-B7CC-19A53688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41616-61C1-4D8B-9ACA-5AD9865589EF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zamandayolculuk.com/Cetinbal/AE/A-planet-mercury.gif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chuckayoub.googlepages.com/planet_Venus.jpg&amp;imgrefurl=http://chuckayoub.googlepages.com/planet_venus__the_planetscom.htm&amp;usg=__mYAyBGTNSHvYyoFOeCwxX9i3LFk=&amp;h=250&amp;w=250&amp;sz=16&amp;hl=en&amp;start=3&amp;tbnid=V9LJ49bbf8o2IM:&amp;tbnh=111&amp;tbnw=111&amp;prev=/images?q=venus+planet&amp;gbv=2&amp;hl=en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rps.psu.edu/probing/graphics/earth2.jpg&amp;imgrefurl=http://www.rps.psu.edu/probing/rotation.html&amp;h=300&amp;w=300&amp;sz=83&amp;hl=en&amp;start=48&amp;tbnid=I1KHCb5NSOFT9M:&amp;tbnh=116&amp;tbnw=116&amp;prev=/images?q=the+Earth&amp;start=40&amp;gbv=2&amp;ndsp=20&amp;svnum=10&amp;hl=en&amp;safe=active&amp;sa=N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starstryder.com/wp-content/uploads/2007/06/mars.jpg&amp;imgrefurl=http://www.starstryder.com/index.php?s=coronal&amp;h=310&amp;w=310&amp;sz=22&amp;hl=en&amp;start=19&amp;tbnid=Xdhlak0qBhByiM:&amp;tbnh=117&amp;tbnw=117&amp;prev=/images?q=the+planet+mars&amp;gbv=2&amp;svnum=10&amp;hl=en&amp;safe=active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jpl.nasa.gov/wallpaper/art/pia02873-1280-1024.jpg&amp;imgrefurl=http://www.biochem.szote.u-szeged.hu/astrojan/jupiter.htm&amp;h=1024&amp;w=1280&amp;sz=53&amp;hl=en&amp;start=9&amp;tbnid=QXCHYotkEqde0M:&amp;tbnh=120&amp;tbnw=150&amp;prev=/images?q=the+planet+jupiter&amp;gbv=2&amp;ndsp=20&amp;svnum=10&amp;hl=en&amp;safe=active&amp;sa=N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seeingwithsound.com/saturn.gif&amp;imgrefurl=http://www.seeingwithsound.com/saturn.htm&amp;h=288&amp;w=352&amp;sz=46&amp;hl=en&amp;start=3&amp;tbnid=zir4IfG6GSPfkM:&amp;tbnh=98&amp;tbnw=120&amp;prev=/images?q=the+planet+saturn&amp;gbv=2&amp;svnum=10&amp;hl=en&amp;safe=active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crystalinks.com/uranus01.jpg&amp;imgrefurl=http://www.crystalinks.com/aquarius2001.html&amp;h=300&amp;w=400&amp;sz=47&amp;hl=en&amp;start=15&amp;tbnid=mYHHGKtxNkDCqM:&amp;tbnh=93&amp;tbnw=124&amp;prev=/images?q=the+planet+uranus&amp;gbv=2&amp;svnum=10&amp;hl=en&amp;safe=active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hyfiles.org/coolimages/images/csi/hst.jpg&amp;imgrefurl=http://whyfiles.org/coolimages/index.html?id=1016725781.html&amp;h=311&amp;w=300&amp;sz=11&amp;hl=en&amp;start=7&amp;tbnid=BmWS4S5PZ__cNM:&amp;tbnh=117&amp;tbnw=113&amp;prev=/images?q=the+planet+neptune&amp;gbv=2&amp;svnum=10&amp;hl=en&amp;safe=active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When printing these pictures for the Pelmanism activity select the handouts option and print 6 per pag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Remember to print only slides 2 – 10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AutoShape 4"/>
          <p:cNvSpPr/>
          <p:nvPr/>
        </p:nvSpPr>
        <p:spPr>
          <a:xfrm>
            <a:off x="684360" y="6922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AutoShape 5"/>
          <p:cNvSpPr/>
          <p:nvPr/>
        </p:nvSpPr>
        <p:spPr>
          <a:xfrm>
            <a:off x="6227640" y="47628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9" name="AutoShape 6"/>
          <p:cNvSpPr/>
          <p:nvPr/>
        </p:nvSpPr>
        <p:spPr>
          <a:xfrm>
            <a:off x="3132000" y="141300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0" name="AutoShape 7"/>
          <p:cNvSpPr/>
          <p:nvPr/>
        </p:nvSpPr>
        <p:spPr>
          <a:xfrm>
            <a:off x="1908000" y="620640"/>
            <a:ext cx="287640" cy="216000"/>
          </a:xfrm>
          <a:custGeom>
            <a:avLst/>
            <a:gdLst>
              <a:gd name="textAreaLeft" fmla="*/ 88920 w 287640"/>
              <a:gd name="textAreaRight" fmla="*/ 198720 w 287640"/>
              <a:gd name="textAreaTop" fmla="*/ 82440 h 216000"/>
              <a:gd name="textAreaBottom" fmla="*/ 165240 h 216000"/>
            </a:gdLst>
            <a:ahLst/>
            <a:rect l="textAreaLeft" t="textAreaTop" r="textAreaRight" b="textAreaBottom"/>
            <a:pathLst>
              <a:path w="287338" h="215900">
                <a:moveTo>
                  <a:pt x="0" y="82466"/>
                </a:moveTo>
                <a:lnTo>
                  <a:pt x="109754" y="82467"/>
                </a:lnTo>
                <a:lnTo>
                  <a:pt x="143669" y="0"/>
                </a:lnTo>
                <a:lnTo>
                  <a:pt x="177584" y="82467"/>
                </a:lnTo>
                <a:lnTo>
                  <a:pt x="287338" y="82466"/>
                </a:lnTo>
                <a:lnTo>
                  <a:pt x="198545" y="133433"/>
                </a:lnTo>
                <a:lnTo>
                  <a:pt x="232461" y="215899"/>
                </a:lnTo>
                <a:lnTo>
                  <a:pt x="143669" y="164932"/>
                </a:lnTo>
                <a:lnTo>
                  <a:pt x="54877" y="215899"/>
                </a:lnTo>
                <a:lnTo>
                  <a:pt x="88793" y="133433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1" name="AutoShape 8"/>
          <p:cNvSpPr/>
          <p:nvPr/>
        </p:nvSpPr>
        <p:spPr>
          <a:xfrm>
            <a:off x="6732720" y="1125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AutoShape 9"/>
          <p:cNvSpPr/>
          <p:nvPr/>
        </p:nvSpPr>
        <p:spPr>
          <a:xfrm>
            <a:off x="4932360" y="4762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3" name="AutoShape 10"/>
          <p:cNvSpPr/>
          <p:nvPr/>
        </p:nvSpPr>
        <p:spPr>
          <a:xfrm>
            <a:off x="7236000" y="1413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4" name="AutoShape 11"/>
          <p:cNvSpPr/>
          <p:nvPr/>
        </p:nvSpPr>
        <p:spPr>
          <a:xfrm>
            <a:off x="1042920" y="1773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AutoShape 12"/>
          <p:cNvSpPr/>
          <p:nvPr/>
        </p:nvSpPr>
        <p:spPr>
          <a:xfrm>
            <a:off x="2124000" y="1268280"/>
            <a:ext cx="289080" cy="289080"/>
          </a:xfrm>
          <a:custGeom>
            <a:avLst/>
            <a:gdLst>
              <a:gd name="textAreaLeft" fmla="*/ 89280 w 289080"/>
              <a:gd name="textAreaRight" fmla="*/ 199800 w 289080"/>
              <a:gd name="textAreaTop" fmla="*/ 110520 h 289080"/>
              <a:gd name="textAreaBottom" fmla="*/ 221040 h 289080"/>
            </a:gdLst>
            <a:ahLst/>
            <a:rect l="textAreaLeft" t="textAreaTop" r="textAreaRight" b="textAreaBottom"/>
            <a:pathLst>
              <a:path w="288925" h="288925">
                <a:moveTo>
                  <a:pt x="0" y="110359"/>
                </a:moveTo>
                <a:lnTo>
                  <a:pt x="110360" y="110360"/>
                </a:lnTo>
                <a:lnTo>
                  <a:pt x="144463" y="0"/>
                </a:lnTo>
                <a:lnTo>
                  <a:pt x="178565" y="110360"/>
                </a:lnTo>
                <a:lnTo>
                  <a:pt x="288925" y="110359"/>
                </a:lnTo>
                <a:lnTo>
                  <a:pt x="199641" y="178565"/>
                </a:lnTo>
                <a:lnTo>
                  <a:pt x="233745" y="288924"/>
                </a:lnTo>
                <a:lnTo>
                  <a:pt x="144463" y="220718"/>
                </a:lnTo>
                <a:lnTo>
                  <a:pt x="55180" y="288924"/>
                </a:lnTo>
                <a:lnTo>
                  <a:pt x="89284" y="178565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6" name="AutoShape 13"/>
          <p:cNvSpPr/>
          <p:nvPr/>
        </p:nvSpPr>
        <p:spPr>
          <a:xfrm>
            <a:off x="1547640" y="177336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7" name="AutoShape 14"/>
          <p:cNvSpPr/>
          <p:nvPr/>
        </p:nvSpPr>
        <p:spPr>
          <a:xfrm>
            <a:off x="755640" y="3789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8" name="AutoShape 15"/>
          <p:cNvSpPr/>
          <p:nvPr/>
        </p:nvSpPr>
        <p:spPr>
          <a:xfrm>
            <a:off x="3924360" y="765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9" name="AutoShape 16"/>
          <p:cNvSpPr/>
          <p:nvPr/>
        </p:nvSpPr>
        <p:spPr>
          <a:xfrm>
            <a:off x="8172360" y="314172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AutoShape 17"/>
          <p:cNvSpPr/>
          <p:nvPr/>
        </p:nvSpPr>
        <p:spPr>
          <a:xfrm>
            <a:off x="7308720" y="580536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1" name="AutoShape 18"/>
          <p:cNvSpPr/>
          <p:nvPr/>
        </p:nvSpPr>
        <p:spPr>
          <a:xfrm>
            <a:off x="1332000" y="530064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2" name="AutoShape 19"/>
          <p:cNvSpPr/>
          <p:nvPr/>
        </p:nvSpPr>
        <p:spPr>
          <a:xfrm>
            <a:off x="900000" y="83664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3" name="AutoShape 20"/>
          <p:cNvSpPr/>
          <p:nvPr/>
        </p:nvSpPr>
        <p:spPr>
          <a:xfrm>
            <a:off x="250920" y="2349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4" name="AutoShape 21"/>
          <p:cNvSpPr/>
          <p:nvPr/>
        </p:nvSpPr>
        <p:spPr>
          <a:xfrm>
            <a:off x="4067280" y="90792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5" name="AutoShape 22"/>
          <p:cNvSpPr/>
          <p:nvPr/>
        </p:nvSpPr>
        <p:spPr>
          <a:xfrm>
            <a:off x="5508720" y="12682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6" name="AutoShape 23"/>
          <p:cNvSpPr/>
          <p:nvPr/>
        </p:nvSpPr>
        <p:spPr>
          <a:xfrm>
            <a:off x="8028000" y="1989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7" name="AutoShape 24"/>
          <p:cNvSpPr/>
          <p:nvPr/>
        </p:nvSpPr>
        <p:spPr>
          <a:xfrm>
            <a:off x="1979640" y="35002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8" name="AutoShape 25"/>
          <p:cNvSpPr/>
          <p:nvPr/>
        </p:nvSpPr>
        <p:spPr>
          <a:xfrm>
            <a:off x="5148360" y="29242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9" name="AutoShape 26"/>
          <p:cNvSpPr/>
          <p:nvPr/>
        </p:nvSpPr>
        <p:spPr>
          <a:xfrm>
            <a:off x="1332000" y="3284640"/>
            <a:ext cx="287280" cy="217440"/>
          </a:xfrm>
          <a:custGeom>
            <a:avLst/>
            <a:gdLst>
              <a:gd name="textAreaLeft" fmla="*/ 88560 w 287280"/>
              <a:gd name="textAreaRight" fmla="*/ 198720 w 287280"/>
              <a:gd name="textAreaTop" fmla="*/ 83160 h 217440"/>
              <a:gd name="textAreaBottom" fmla="*/ 166320 h 217440"/>
            </a:gdLst>
            <a:ahLst/>
            <a:rect l="textAreaLeft" t="textAreaTop" r="textAreaRight" b="textAreaBottom"/>
            <a:pathLst>
              <a:path w="287337" h="217487">
                <a:moveTo>
                  <a:pt x="0" y="83072"/>
                </a:moveTo>
                <a:lnTo>
                  <a:pt x="109754" y="83073"/>
                </a:lnTo>
                <a:lnTo>
                  <a:pt x="143669" y="0"/>
                </a:lnTo>
                <a:lnTo>
                  <a:pt x="177583" y="83073"/>
                </a:lnTo>
                <a:lnTo>
                  <a:pt x="287337" y="83072"/>
                </a:lnTo>
                <a:lnTo>
                  <a:pt x="198544" y="134414"/>
                </a:lnTo>
                <a:lnTo>
                  <a:pt x="232461" y="217486"/>
                </a:lnTo>
                <a:lnTo>
                  <a:pt x="143669" y="166144"/>
                </a:lnTo>
                <a:lnTo>
                  <a:pt x="54876" y="217486"/>
                </a:lnTo>
                <a:lnTo>
                  <a:pt x="88793" y="134414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0" name="AutoShape 27"/>
          <p:cNvSpPr/>
          <p:nvPr/>
        </p:nvSpPr>
        <p:spPr>
          <a:xfrm>
            <a:off x="8388360" y="692280"/>
            <a:ext cx="287280" cy="288720"/>
          </a:xfrm>
          <a:custGeom>
            <a:avLst/>
            <a:gdLst>
              <a:gd name="textAreaLeft" fmla="*/ 88560 w 287280"/>
              <a:gd name="textAreaRight" fmla="*/ 198720 w 287280"/>
              <a:gd name="textAreaTop" fmla="*/ 110160 h 288720"/>
              <a:gd name="textAreaBottom" fmla="*/ 220680 h 288720"/>
            </a:gdLst>
            <a:ahLst/>
            <a:rect l="textAreaLeft" t="textAreaTop" r="textAreaRight" b="textAreaBottom"/>
            <a:pathLst>
              <a:path w="287338" h="288925">
                <a:moveTo>
                  <a:pt x="0" y="110359"/>
                </a:moveTo>
                <a:lnTo>
                  <a:pt x="109754" y="110360"/>
                </a:lnTo>
                <a:lnTo>
                  <a:pt x="143669" y="0"/>
                </a:lnTo>
                <a:lnTo>
                  <a:pt x="177584" y="110360"/>
                </a:lnTo>
                <a:lnTo>
                  <a:pt x="287338" y="110359"/>
                </a:lnTo>
                <a:lnTo>
                  <a:pt x="198545" y="178565"/>
                </a:lnTo>
                <a:lnTo>
                  <a:pt x="232461" y="288924"/>
                </a:lnTo>
                <a:lnTo>
                  <a:pt x="143669" y="220718"/>
                </a:lnTo>
                <a:lnTo>
                  <a:pt x="54877" y="288924"/>
                </a:lnTo>
                <a:lnTo>
                  <a:pt x="88793" y="178565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1" name="AutoShape 28"/>
          <p:cNvSpPr/>
          <p:nvPr/>
        </p:nvSpPr>
        <p:spPr>
          <a:xfrm>
            <a:off x="971640" y="4005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2" name="AutoShape 29"/>
          <p:cNvSpPr/>
          <p:nvPr/>
        </p:nvSpPr>
        <p:spPr>
          <a:xfrm>
            <a:off x="2770200" y="3500280"/>
            <a:ext cx="144360" cy="142920"/>
          </a:xfrm>
          <a:prstGeom prst="pi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3" name="AutoShape 30"/>
          <p:cNvSpPr/>
          <p:nvPr/>
        </p:nvSpPr>
        <p:spPr>
          <a:xfrm>
            <a:off x="8317080" y="551664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4" name="AutoShape 31"/>
          <p:cNvSpPr/>
          <p:nvPr/>
        </p:nvSpPr>
        <p:spPr>
          <a:xfrm>
            <a:off x="7596360" y="3573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5" name="AutoShape 32"/>
          <p:cNvSpPr/>
          <p:nvPr/>
        </p:nvSpPr>
        <p:spPr>
          <a:xfrm>
            <a:off x="3417840" y="4148280"/>
            <a:ext cx="144360" cy="142560"/>
          </a:xfrm>
          <a:custGeom>
            <a:avLst/>
            <a:gdLst>
              <a:gd name="textAreaLeft" fmla="*/ 44640 w 144360"/>
              <a:gd name="textAreaRight" fmla="*/ 99720 w 144360"/>
              <a:gd name="textAreaTop" fmla="*/ 54360 h 142560"/>
              <a:gd name="textAreaBottom" fmla="*/ 109080 h 14256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AutoShape 33"/>
          <p:cNvSpPr/>
          <p:nvPr/>
        </p:nvSpPr>
        <p:spPr>
          <a:xfrm>
            <a:off x="7020000" y="3213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7" name="AutoShape 34"/>
          <p:cNvSpPr/>
          <p:nvPr/>
        </p:nvSpPr>
        <p:spPr>
          <a:xfrm>
            <a:off x="7667640" y="407664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8" name="AutoShape 35"/>
          <p:cNvSpPr/>
          <p:nvPr/>
        </p:nvSpPr>
        <p:spPr>
          <a:xfrm>
            <a:off x="4500720" y="5445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AutoShape 36"/>
          <p:cNvSpPr/>
          <p:nvPr/>
        </p:nvSpPr>
        <p:spPr>
          <a:xfrm>
            <a:off x="3203640" y="59500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0" name="AutoShape 37"/>
          <p:cNvSpPr/>
          <p:nvPr/>
        </p:nvSpPr>
        <p:spPr>
          <a:xfrm>
            <a:off x="4643280" y="5157720"/>
            <a:ext cx="216000" cy="287280"/>
          </a:xfrm>
          <a:custGeom>
            <a:avLst/>
            <a:gdLst>
              <a:gd name="textAreaLeft" fmla="*/ 66600 w 216000"/>
              <a:gd name="textAreaRight" fmla="*/ 149400 w 216000"/>
              <a:gd name="textAreaTop" fmla="*/ 109800 h 287280"/>
              <a:gd name="textAreaBottom" fmla="*/ 219600 h 287280"/>
            </a:gdLst>
            <a:ahLst/>
            <a:rect l="textAreaLeft" t="textAreaTop" r="textAreaRight" b="textAreaBottom"/>
            <a:pathLst>
              <a:path w="215900" h="287337">
                <a:moveTo>
                  <a:pt x="0" y="109753"/>
                </a:moveTo>
                <a:lnTo>
                  <a:pt x="82467" y="109753"/>
                </a:lnTo>
                <a:lnTo>
                  <a:pt x="107950" y="0"/>
                </a:lnTo>
                <a:lnTo>
                  <a:pt x="133433" y="109753"/>
                </a:lnTo>
                <a:lnTo>
                  <a:pt x="215900" y="109753"/>
                </a:lnTo>
                <a:lnTo>
                  <a:pt x="149183" y="177583"/>
                </a:lnTo>
                <a:lnTo>
                  <a:pt x="174667" y="287336"/>
                </a:lnTo>
                <a:lnTo>
                  <a:pt x="107950" y="219504"/>
                </a:lnTo>
                <a:lnTo>
                  <a:pt x="41233" y="287336"/>
                </a:lnTo>
                <a:lnTo>
                  <a:pt x="66717" y="177583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AutoShape 38"/>
          <p:cNvSpPr/>
          <p:nvPr/>
        </p:nvSpPr>
        <p:spPr>
          <a:xfrm>
            <a:off x="6948360" y="573408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2" name="AutoShape 39"/>
          <p:cNvSpPr/>
          <p:nvPr/>
        </p:nvSpPr>
        <p:spPr>
          <a:xfrm>
            <a:off x="6877080" y="5300640"/>
            <a:ext cx="360360" cy="287280"/>
          </a:xfrm>
          <a:custGeom>
            <a:avLst/>
            <a:gdLst>
              <a:gd name="textAreaLeft" fmla="*/ 111240 w 360360"/>
              <a:gd name="textAreaRight" fmla="*/ 249120 w 360360"/>
              <a:gd name="textAreaTop" fmla="*/ 109800 h 287280"/>
              <a:gd name="textAreaBottom" fmla="*/ 219600 h 287280"/>
            </a:gdLst>
            <a:ahLst/>
            <a:rect l="textAreaLeft" t="textAreaTop" r="textAreaRight" b="textAreaBottom"/>
            <a:pathLst>
              <a:path w="360363" h="287337">
                <a:moveTo>
                  <a:pt x="0" y="109753"/>
                </a:moveTo>
                <a:lnTo>
                  <a:pt x="137647" y="109753"/>
                </a:lnTo>
                <a:lnTo>
                  <a:pt x="180182" y="0"/>
                </a:lnTo>
                <a:lnTo>
                  <a:pt x="222716" y="109753"/>
                </a:lnTo>
                <a:lnTo>
                  <a:pt x="360363" y="109753"/>
                </a:lnTo>
                <a:lnTo>
                  <a:pt x="249004" y="177583"/>
                </a:lnTo>
                <a:lnTo>
                  <a:pt x="291540" y="287336"/>
                </a:lnTo>
                <a:lnTo>
                  <a:pt x="180182" y="219504"/>
                </a:lnTo>
                <a:lnTo>
                  <a:pt x="68823" y="287336"/>
                </a:lnTo>
                <a:lnTo>
                  <a:pt x="111359" y="177583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AutoShape 40"/>
          <p:cNvSpPr/>
          <p:nvPr/>
        </p:nvSpPr>
        <p:spPr>
          <a:xfrm>
            <a:off x="684360" y="981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4" name="AutoShape 41"/>
          <p:cNvSpPr/>
          <p:nvPr/>
        </p:nvSpPr>
        <p:spPr>
          <a:xfrm>
            <a:off x="2268360" y="76500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5" name="AutoShape 42"/>
          <p:cNvSpPr/>
          <p:nvPr/>
        </p:nvSpPr>
        <p:spPr>
          <a:xfrm>
            <a:off x="2124000" y="765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6" name="AutoShape 43"/>
          <p:cNvSpPr/>
          <p:nvPr/>
        </p:nvSpPr>
        <p:spPr>
          <a:xfrm>
            <a:off x="3276720" y="1557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7" name="AutoShape 44"/>
          <p:cNvSpPr/>
          <p:nvPr/>
        </p:nvSpPr>
        <p:spPr>
          <a:xfrm>
            <a:off x="1690560" y="242100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AutoShape 45"/>
          <p:cNvSpPr/>
          <p:nvPr/>
        </p:nvSpPr>
        <p:spPr>
          <a:xfrm>
            <a:off x="8244000" y="90792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9" name="AutoShape 46"/>
          <p:cNvSpPr/>
          <p:nvPr/>
        </p:nvSpPr>
        <p:spPr>
          <a:xfrm>
            <a:off x="5651640" y="1484280"/>
            <a:ext cx="288720" cy="216000"/>
          </a:xfrm>
          <a:custGeom>
            <a:avLst/>
            <a:gdLst>
              <a:gd name="textAreaLeft" fmla="*/ 89280 w 288720"/>
              <a:gd name="textAreaRight" fmla="*/ 199440 w 288720"/>
              <a:gd name="textAreaTop" fmla="*/ 82440 h 216000"/>
              <a:gd name="textAreaBottom" fmla="*/ 165240 h 216000"/>
            </a:gdLst>
            <a:ahLst/>
            <a:rect l="textAreaLeft" t="textAreaTop" r="textAreaRight" b="textAreaBottom"/>
            <a:pathLst>
              <a:path w="288925" h="215900">
                <a:moveTo>
                  <a:pt x="0" y="82466"/>
                </a:moveTo>
                <a:lnTo>
                  <a:pt x="110360" y="82467"/>
                </a:lnTo>
                <a:lnTo>
                  <a:pt x="144463" y="0"/>
                </a:lnTo>
                <a:lnTo>
                  <a:pt x="178565" y="82467"/>
                </a:lnTo>
                <a:lnTo>
                  <a:pt x="288925" y="82466"/>
                </a:lnTo>
                <a:lnTo>
                  <a:pt x="199641" y="133433"/>
                </a:lnTo>
                <a:lnTo>
                  <a:pt x="233745" y="215899"/>
                </a:lnTo>
                <a:lnTo>
                  <a:pt x="144463" y="164932"/>
                </a:lnTo>
                <a:lnTo>
                  <a:pt x="55180" y="215899"/>
                </a:lnTo>
                <a:lnTo>
                  <a:pt x="89284" y="133433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0" name="AutoShape 47"/>
          <p:cNvSpPr/>
          <p:nvPr/>
        </p:nvSpPr>
        <p:spPr>
          <a:xfrm>
            <a:off x="8244000" y="62064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1" name="AutoShape 48"/>
          <p:cNvSpPr/>
          <p:nvPr/>
        </p:nvSpPr>
        <p:spPr>
          <a:xfrm>
            <a:off x="468360" y="6021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2" name="AutoShape 49"/>
          <p:cNvSpPr/>
          <p:nvPr/>
        </p:nvSpPr>
        <p:spPr>
          <a:xfrm>
            <a:off x="5867280" y="357336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3" name="AutoShape 50"/>
          <p:cNvSpPr/>
          <p:nvPr/>
        </p:nvSpPr>
        <p:spPr>
          <a:xfrm>
            <a:off x="5364000" y="155736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4" name="AutoShape 51"/>
          <p:cNvSpPr/>
          <p:nvPr/>
        </p:nvSpPr>
        <p:spPr>
          <a:xfrm>
            <a:off x="611280" y="6237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5" name="AutoShape 52"/>
          <p:cNvSpPr/>
          <p:nvPr/>
        </p:nvSpPr>
        <p:spPr>
          <a:xfrm>
            <a:off x="3417840" y="4148280"/>
            <a:ext cx="144360" cy="142560"/>
          </a:xfrm>
          <a:prstGeom prst="pi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AutoShape 53"/>
          <p:cNvSpPr/>
          <p:nvPr/>
        </p:nvSpPr>
        <p:spPr>
          <a:xfrm>
            <a:off x="3132000" y="573408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7" name="AutoShape 54"/>
          <p:cNvSpPr/>
          <p:nvPr/>
        </p:nvSpPr>
        <p:spPr>
          <a:xfrm>
            <a:off x="1619280" y="530064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8" name="AutoShape 55"/>
          <p:cNvSpPr/>
          <p:nvPr/>
        </p:nvSpPr>
        <p:spPr>
          <a:xfrm>
            <a:off x="4356000" y="522936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9" name="AutoShape 56"/>
          <p:cNvSpPr/>
          <p:nvPr/>
        </p:nvSpPr>
        <p:spPr>
          <a:xfrm>
            <a:off x="1476360" y="5516640"/>
            <a:ext cx="358920" cy="288720"/>
          </a:xfrm>
          <a:custGeom>
            <a:avLst/>
            <a:gdLst>
              <a:gd name="textAreaLeft" fmla="*/ 110880 w 358920"/>
              <a:gd name="textAreaRight" fmla="*/ 248040 w 358920"/>
              <a:gd name="textAreaTop" fmla="*/ 110160 h 288720"/>
              <a:gd name="textAreaBottom" fmla="*/ 220680 h 288720"/>
            </a:gdLst>
            <a:ahLst/>
            <a:rect l="textAreaLeft" t="textAreaTop" r="textAreaRight" b="textAreaBottom"/>
            <a:pathLst>
              <a:path w="358775" h="288925">
                <a:moveTo>
                  <a:pt x="0" y="110359"/>
                </a:moveTo>
                <a:lnTo>
                  <a:pt x="137041" y="110360"/>
                </a:lnTo>
                <a:lnTo>
                  <a:pt x="179388" y="0"/>
                </a:lnTo>
                <a:lnTo>
                  <a:pt x="221734" y="110360"/>
                </a:lnTo>
                <a:lnTo>
                  <a:pt x="358775" y="110359"/>
                </a:lnTo>
                <a:lnTo>
                  <a:pt x="247906" y="178565"/>
                </a:lnTo>
                <a:lnTo>
                  <a:pt x="290255" y="288924"/>
                </a:lnTo>
                <a:lnTo>
                  <a:pt x="179388" y="220718"/>
                </a:lnTo>
                <a:lnTo>
                  <a:pt x="68520" y="288924"/>
                </a:lnTo>
                <a:lnTo>
                  <a:pt x="110869" y="178565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AutoShape 57"/>
          <p:cNvSpPr/>
          <p:nvPr/>
        </p:nvSpPr>
        <p:spPr>
          <a:xfrm>
            <a:off x="4788000" y="515772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1" name="AutoShape 58"/>
          <p:cNvSpPr/>
          <p:nvPr/>
        </p:nvSpPr>
        <p:spPr>
          <a:xfrm>
            <a:off x="6516720" y="4797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2" name="AutoShape 59"/>
          <p:cNvSpPr/>
          <p:nvPr/>
        </p:nvSpPr>
        <p:spPr>
          <a:xfrm>
            <a:off x="5580000" y="57340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53" name="Picture 63" descr="plutanb"/>
          <p:cNvPicPr/>
          <p:nvPr/>
        </p:nvPicPr>
        <p:blipFill>
          <a:blip r:embed="rId1"/>
          <a:stretch/>
        </p:blipFill>
        <p:spPr>
          <a:xfrm>
            <a:off x="3000240" y="1785960"/>
            <a:ext cx="35719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2"/>
          <p:cNvSpPr/>
          <p:nvPr/>
        </p:nvSpPr>
        <p:spPr>
          <a:xfrm>
            <a:off x="684360" y="6922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AutoShape 3"/>
          <p:cNvSpPr/>
          <p:nvPr/>
        </p:nvSpPr>
        <p:spPr>
          <a:xfrm>
            <a:off x="6227640" y="47628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3132000" y="141300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1908000" y="620640"/>
            <a:ext cx="287640" cy="216000"/>
          </a:xfrm>
          <a:custGeom>
            <a:avLst/>
            <a:gdLst>
              <a:gd name="textAreaLeft" fmla="*/ 88920 w 287640"/>
              <a:gd name="textAreaRight" fmla="*/ 198720 w 287640"/>
              <a:gd name="textAreaTop" fmla="*/ 82440 h 216000"/>
              <a:gd name="textAreaBottom" fmla="*/ 165240 h 216000"/>
            </a:gdLst>
            <a:ahLst/>
            <a:rect l="textAreaLeft" t="textAreaTop" r="textAreaRight" b="textAreaBottom"/>
            <a:pathLst>
              <a:path w="287338" h="215900">
                <a:moveTo>
                  <a:pt x="0" y="82466"/>
                </a:moveTo>
                <a:lnTo>
                  <a:pt x="109754" y="82467"/>
                </a:lnTo>
                <a:lnTo>
                  <a:pt x="143669" y="0"/>
                </a:lnTo>
                <a:lnTo>
                  <a:pt x="177584" y="82467"/>
                </a:lnTo>
                <a:lnTo>
                  <a:pt x="287338" y="82466"/>
                </a:lnTo>
                <a:lnTo>
                  <a:pt x="198545" y="133433"/>
                </a:lnTo>
                <a:lnTo>
                  <a:pt x="232461" y="215899"/>
                </a:lnTo>
                <a:lnTo>
                  <a:pt x="143669" y="164932"/>
                </a:lnTo>
                <a:lnTo>
                  <a:pt x="54877" y="215899"/>
                </a:lnTo>
                <a:lnTo>
                  <a:pt x="88793" y="133433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6732720" y="1125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AutoShape 7"/>
          <p:cNvSpPr/>
          <p:nvPr/>
        </p:nvSpPr>
        <p:spPr>
          <a:xfrm>
            <a:off x="4932360" y="4762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AutoShape 8"/>
          <p:cNvSpPr/>
          <p:nvPr/>
        </p:nvSpPr>
        <p:spPr>
          <a:xfrm>
            <a:off x="7236000" y="1413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AutoShape 9"/>
          <p:cNvSpPr/>
          <p:nvPr/>
        </p:nvSpPr>
        <p:spPr>
          <a:xfrm>
            <a:off x="1042920" y="1773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AutoShape 10"/>
          <p:cNvSpPr/>
          <p:nvPr/>
        </p:nvSpPr>
        <p:spPr>
          <a:xfrm>
            <a:off x="2124000" y="1268280"/>
            <a:ext cx="289080" cy="289080"/>
          </a:xfrm>
          <a:custGeom>
            <a:avLst/>
            <a:gdLst>
              <a:gd name="textAreaLeft" fmla="*/ 89280 w 289080"/>
              <a:gd name="textAreaRight" fmla="*/ 199800 w 289080"/>
              <a:gd name="textAreaTop" fmla="*/ 110520 h 289080"/>
              <a:gd name="textAreaBottom" fmla="*/ 221040 h 289080"/>
            </a:gdLst>
            <a:ahLst/>
            <a:rect l="textAreaLeft" t="textAreaTop" r="textAreaRight" b="textAreaBottom"/>
            <a:pathLst>
              <a:path w="288925" h="288925">
                <a:moveTo>
                  <a:pt x="0" y="110359"/>
                </a:moveTo>
                <a:lnTo>
                  <a:pt x="110360" y="110360"/>
                </a:lnTo>
                <a:lnTo>
                  <a:pt x="144463" y="0"/>
                </a:lnTo>
                <a:lnTo>
                  <a:pt x="178565" y="110360"/>
                </a:lnTo>
                <a:lnTo>
                  <a:pt x="288925" y="110359"/>
                </a:lnTo>
                <a:lnTo>
                  <a:pt x="199641" y="178565"/>
                </a:lnTo>
                <a:lnTo>
                  <a:pt x="233745" y="288924"/>
                </a:lnTo>
                <a:lnTo>
                  <a:pt x="144463" y="220718"/>
                </a:lnTo>
                <a:lnTo>
                  <a:pt x="55180" y="288924"/>
                </a:lnTo>
                <a:lnTo>
                  <a:pt x="89284" y="178565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AutoShape 11"/>
          <p:cNvSpPr/>
          <p:nvPr/>
        </p:nvSpPr>
        <p:spPr>
          <a:xfrm>
            <a:off x="1547640" y="177336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AutoShape 12"/>
          <p:cNvSpPr/>
          <p:nvPr/>
        </p:nvSpPr>
        <p:spPr>
          <a:xfrm>
            <a:off x="755640" y="3789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AutoShape 13"/>
          <p:cNvSpPr/>
          <p:nvPr/>
        </p:nvSpPr>
        <p:spPr>
          <a:xfrm>
            <a:off x="3924360" y="765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AutoShape 14"/>
          <p:cNvSpPr/>
          <p:nvPr/>
        </p:nvSpPr>
        <p:spPr>
          <a:xfrm>
            <a:off x="8172360" y="314172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AutoShape 15"/>
          <p:cNvSpPr/>
          <p:nvPr/>
        </p:nvSpPr>
        <p:spPr>
          <a:xfrm>
            <a:off x="7308720" y="580536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AutoShape 16"/>
          <p:cNvSpPr/>
          <p:nvPr/>
        </p:nvSpPr>
        <p:spPr>
          <a:xfrm>
            <a:off x="1332000" y="530064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AutoShape 17"/>
          <p:cNvSpPr/>
          <p:nvPr/>
        </p:nvSpPr>
        <p:spPr>
          <a:xfrm>
            <a:off x="900000" y="83664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AutoShape 18"/>
          <p:cNvSpPr/>
          <p:nvPr/>
        </p:nvSpPr>
        <p:spPr>
          <a:xfrm>
            <a:off x="250920" y="2349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AutoShape 19"/>
          <p:cNvSpPr/>
          <p:nvPr/>
        </p:nvSpPr>
        <p:spPr>
          <a:xfrm>
            <a:off x="4067280" y="90792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AutoShape 20"/>
          <p:cNvSpPr/>
          <p:nvPr/>
        </p:nvSpPr>
        <p:spPr>
          <a:xfrm>
            <a:off x="5508720" y="12682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AutoShape 21"/>
          <p:cNvSpPr/>
          <p:nvPr/>
        </p:nvSpPr>
        <p:spPr>
          <a:xfrm>
            <a:off x="8028000" y="1989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AutoShape 22"/>
          <p:cNvSpPr/>
          <p:nvPr/>
        </p:nvSpPr>
        <p:spPr>
          <a:xfrm>
            <a:off x="1979640" y="35002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AutoShape 23"/>
          <p:cNvSpPr/>
          <p:nvPr/>
        </p:nvSpPr>
        <p:spPr>
          <a:xfrm>
            <a:off x="5148360" y="29242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AutoShape 24"/>
          <p:cNvSpPr/>
          <p:nvPr/>
        </p:nvSpPr>
        <p:spPr>
          <a:xfrm>
            <a:off x="1332000" y="3284640"/>
            <a:ext cx="287280" cy="217440"/>
          </a:xfrm>
          <a:custGeom>
            <a:avLst/>
            <a:gdLst>
              <a:gd name="textAreaLeft" fmla="*/ 88560 w 287280"/>
              <a:gd name="textAreaRight" fmla="*/ 198720 w 287280"/>
              <a:gd name="textAreaTop" fmla="*/ 83160 h 217440"/>
              <a:gd name="textAreaBottom" fmla="*/ 166320 h 217440"/>
            </a:gdLst>
            <a:ahLst/>
            <a:rect l="textAreaLeft" t="textAreaTop" r="textAreaRight" b="textAreaBottom"/>
            <a:pathLst>
              <a:path w="287337" h="217487">
                <a:moveTo>
                  <a:pt x="0" y="83072"/>
                </a:moveTo>
                <a:lnTo>
                  <a:pt x="109754" y="83073"/>
                </a:lnTo>
                <a:lnTo>
                  <a:pt x="143669" y="0"/>
                </a:lnTo>
                <a:lnTo>
                  <a:pt x="177583" y="83073"/>
                </a:lnTo>
                <a:lnTo>
                  <a:pt x="287337" y="83072"/>
                </a:lnTo>
                <a:lnTo>
                  <a:pt x="198544" y="134414"/>
                </a:lnTo>
                <a:lnTo>
                  <a:pt x="232461" y="217486"/>
                </a:lnTo>
                <a:lnTo>
                  <a:pt x="143669" y="166144"/>
                </a:lnTo>
                <a:lnTo>
                  <a:pt x="54876" y="217486"/>
                </a:lnTo>
                <a:lnTo>
                  <a:pt x="88793" y="134414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AutoShape 25"/>
          <p:cNvSpPr/>
          <p:nvPr/>
        </p:nvSpPr>
        <p:spPr>
          <a:xfrm>
            <a:off x="8388360" y="692280"/>
            <a:ext cx="287280" cy="288720"/>
          </a:xfrm>
          <a:custGeom>
            <a:avLst/>
            <a:gdLst>
              <a:gd name="textAreaLeft" fmla="*/ 88560 w 287280"/>
              <a:gd name="textAreaRight" fmla="*/ 198720 w 287280"/>
              <a:gd name="textAreaTop" fmla="*/ 110160 h 288720"/>
              <a:gd name="textAreaBottom" fmla="*/ 220680 h 288720"/>
            </a:gdLst>
            <a:ahLst/>
            <a:rect l="textAreaLeft" t="textAreaTop" r="textAreaRight" b="textAreaBottom"/>
            <a:pathLst>
              <a:path w="287338" h="288925">
                <a:moveTo>
                  <a:pt x="0" y="110359"/>
                </a:moveTo>
                <a:lnTo>
                  <a:pt x="109754" y="110360"/>
                </a:lnTo>
                <a:lnTo>
                  <a:pt x="143669" y="0"/>
                </a:lnTo>
                <a:lnTo>
                  <a:pt x="177584" y="110360"/>
                </a:lnTo>
                <a:lnTo>
                  <a:pt x="287338" y="110359"/>
                </a:lnTo>
                <a:lnTo>
                  <a:pt x="198545" y="178565"/>
                </a:lnTo>
                <a:lnTo>
                  <a:pt x="232461" y="288924"/>
                </a:lnTo>
                <a:lnTo>
                  <a:pt x="143669" y="220718"/>
                </a:lnTo>
                <a:lnTo>
                  <a:pt x="54877" y="288924"/>
                </a:lnTo>
                <a:lnTo>
                  <a:pt x="88793" y="178565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AutoShape 26"/>
          <p:cNvSpPr/>
          <p:nvPr/>
        </p:nvSpPr>
        <p:spPr>
          <a:xfrm>
            <a:off x="971640" y="4005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AutoShape 27"/>
          <p:cNvSpPr/>
          <p:nvPr/>
        </p:nvSpPr>
        <p:spPr>
          <a:xfrm>
            <a:off x="2770200" y="3500280"/>
            <a:ext cx="144360" cy="142920"/>
          </a:xfrm>
          <a:prstGeom prst="pi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AutoShape 28"/>
          <p:cNvSpPr/>
          <p:nvPr/>
        </p:nvSpPr>
        <p:spPr>
          <a:xfrm>
            <a:off x="8317080" y="551664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AutoShape 29"/>
          <p:cNvSpPr/>
          <p:nvPr/>
        </p:nvSpPr>
        <p:spPr>
          <a:xfrm>
            <a:off x="7596360" y="3573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AutoShape 30"/>
          <p:cNvSpPr/>
          <p:nvPr/>
        </p:nvSpPr>
        <p:spPr>
          <a:xfrm>
            <a:off x="3417840" y="4148280"/>
            <a:ext cx="144360" cy="142560"/>
          </a:xfrm>
          <a:custGeom>
            <a:avLst/>
            <a:gdLst>
              <a:gd name="textAreaLeft" fmla="*/ 44640 w 144360"/>
              <a:gd name="textAreaRight" fmla="*/ 99720 w 144360"/>
              <a:gd name="textAreaTop" fmla="*/ 54360 h 142560"/>
              <a:gd name="textAreaBottom" fmla="*/ 109080 h 14256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AutoShape 31"/>
          <p:cNvSpPr/>
          <p:nvPr/>
        </p:nvSpPr>
        <p:spPr>
          <a:xfrm>
            <a:off x="7020000" y="3213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AutoShape 32"/>
          <p:cNvSpPr/>
          <p:nvPr/>
        </p:nvSpPr>
        <p:spPr>
          <a:xfrm>
            <a:off x="7667640" y="407664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AutoShape 33"/>
          <p:cNvSpPr/>
          <p:nvPr/>
        </p:nvSpPr>
        <p:spPr>
          <a:xfrm>
            <a:off x="4500720" y="5445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AutoShape 34"/>
          <p:cNvSpPr/>
          <p:nvPr/>
        </p:nvSpPr>
        <p:spPr>
          <a:xfrm>
            <a:off x="3203640" y="59500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AutoShape 35"/>
          <p:cNvSpPr/>
          <p:nvPr/>
        </p:nvSpPr>
        <p:spPr>
          <a:xfrm>
            <a:off x="4643280" y="5157720"/>
            <a:ext cx="216000" cy="287280"/>
          </a:xfrm>
          <a:custGeom>
            <a:avLst/>
            <a:gdLst>
              <a:gd name="textAreaLeft" fmla="*/ 66600 w 216000"/>
              <a:gd name="textAreaRight" fmla="*/ 149400 w 216000"/>
              <a:gd name="textAreaTop" fmla="*/ 109800 h 287280"/>
              <a:gd name="textAreaBottom" fmla="*/ 219600 h 287280"/>
            </a:gdLst>
            <a:ahLst/>
            <a:rect l="textAreaLeft" t="textAreaTop" r="textAreaRight" b="textAreaBottom"/>
            <a:pathLst>
              <a:path w="215900" h="287337">
                <a:moveTo>
                  <a:pt x="0" y="109753"/>
                </a:moveTo>
                <a:lnTo>
                  <a:pt x="82467" y="109753"/>
                </a:lnTo>
                <a:lnTo>
                  <a:pt x="107950" y="0"/>
                </a:lnTo>
                <a:lnTo>
                  <a:pt x="133433" y="109753"/>
                </a:lnTo>
                <a:lnTo>
                  <a:pt x="215900" y="109753"/>
                </a:lnTo>
                <a:lnTo>
                  <a:pt x="149183" y="177583"/>
                </a:lnTo>
                <a:lnTo>
                  <a:pt x="174667" y="287336"/>
                </a:lnTo>
                <a:lnTo>
                  <a:pt x="107950" y="219504"/>
                </a:lnTo>
                <a:lnTo>
                  <a:pt x="41233" y="287336"/>
                </a:lnTo>
                <a:lnTo>
                  <a:pt x="66717" y="177583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AutoShape 36"/>
          <p:cNvSpPr/>
          <p:nvPr/>
        </p:nvSpPr>
        <p:spPr>
          <a:xfrm>
            <a:off x="6948360" y="573408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AutoShape 37"/>
          <p:cNvSpPr/>
          <p:nvPr/>
        </p:nvSpPr>
        <p:spPr>
          <a:xfrm>
            <a:off x="6877080" y="5300640"/>
            <a:ext cx="360360" cy="287280"/>
          </a:xfrm>
          <a:custGeom>
            <a:avLst/>
            <a:gdLst>
              <a:gd name="textAreaLeft" fmla="*/ 111240 w 360360"/>
              <a:gd name="textAreaRight" fmla="*/ 249120 w 360360"/>
              <a:gd name="textAreaTop" fmla="*/ 109800 h 287280"/>
              <a:gd name="textAreaBottom" fmla="*/ 219600 h 287280"/>
            </a:gdLst>
            <a:ahLst/>
            <a:rect l="textAreaLeft" t="textAreaTop" r="textAreaRight" b="textAreaBottom"/>
            <a:pathLst>
              <a:path w="360363" h="287337">
                <a:moveTo>
                  <a:pt x="0" y="109753"/>
                </a:moveTo>
                <a:lnTo>
                  <a:pt x="137647" y="109753"/>
                </a:lnTo>
                <a:lnTo>
                  <a:pt x="180182" y="0"/>
                </a:lnTo>
                <a:lnTo>
                  <a:pt x="222716" y="109753"/>
                </a:lnTo>
                <a:lnTo>
                  <a:pt x="360363" y="109753"/>
                </a:lnTo>
                <a:lnTo>
                  <a:pt x="249004" y="177583"/>
                </a:lnTo>
                <a:lnTo>
                  <a:pt x="291540" y="287336"/>
                </a:lnTo>
                <a:lnTo>
                  <a:pt x="180182" y="219504"/>
                </a:lnTo>
                <a:lnTo>
                  <a:pt x="68823" y="287336"/>
                </a:lnTo>
                <a:lnTo>
                  <a:pt x="111359" y="177583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AutoShape 38"/>
          <p:cNvSpPr/>
          <p:nvPr/>
        </p:nvSpPr>
        <p:spPr>
          <a:xfrm>
            <a:off x="684360" y="981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AutoShape 39"/>
          <p:cNvSpPr/>
          <p:nvPr/>
        </p:nvSpPr>
        <p:spPr>
          <a:xfrm>
            <a:off x="2268360" y="76500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AutoShape 40"/>
          <p:cNvSpPr/>
          <p:nvPr/>
        </p:nvSpPr>
        <p:spPr>
          <a:xfrm>
            <a:off x="2124000" y="765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AutoShape 41"/>
          <p:cNvSpPr/>
          <p:nvPr/>
        </p:nvSpPr>
        <p:spPr>
          <a:xfrm>
            <a:off x="3276720" y="1557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AutoShape 42"/>
          <p:cNvSpPr/>
          <p:nvPr/>
        </p:nvSpPr>
        <p:spPr>
          <a:xfrm>
            <a:off x="1690560" y="242100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AutoShape 43"/>
          <p:cNvSpPr/>
          <p:nvPr/>
        </p:nvSpPr>
        <p:spPr>
          <a:xfrm>
            <a:off x="8244000" y="90792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AutoShape 44"/>
          <p:cNvSpPr/>
          <p:nvPr/>
        </p:nvSpPr>
        <p:spPr>
          <a:xfrm>
            <a:off x="5651640" y="1484280"/>
            <a:ext cx="288720" cy="216000"/>
          </a:xfrm>
          <a:custGeom>
            <a:avLst/>
            <a:gdLst>
              <a:gd name="textAreaLeft" fmla="*/ 89280 w 288720"/>
              <a:gd name="textAreaRight" fmla="*/ 199440 w 288720"/>
              <a:gd name="textAreaTop" fmla="*/ 82440 h 216000"/>
              <a:gd name="textAreaBottom" fmla="*/ 165240 h 216000"/>
            </a:gdLst>
            <a:ahLst/>
            <a:rect l="textAreaLeft" t="textAreaTop" r="textAreaRight" b="textAreaBottom"/>
            <a:pathLst>
              <a:path w="288925" h="215900">
                <a:moveTo>
                  <a:pt x="0" y="82466"/>
                </a:moveTo>
                <a:lnTo>
                  <a:pt x="110360" y="82467"/>
                </a:lnTo>
                <a:lnTo>
                  <a:pt x="144463" y="0"/>
                </a:lnTo>
                <a:lnTo>
                  <a:pt x="178565" y="82467"/>
                </a:lnTo>
                <a:lnTo>
                  <a:pt x="288925" y="82466"/>
                </a:lnTo>
                <a:lnTo>
                  <a:pt x="199641" y="133433"/>
                </a:lnTo>
                <a:lnTo>
                  <a:pt x="233745" y="215899"/>
                </a:lnTo>
                <a:lnTo>
                  <a:pt x="144463" y="164932"/>
                </a:lnTo>
                <a:lnTo>
                  <a:pt x="55180" y="215899"/>
                </a:lnTo>
                <a:lnTo>
                  <a:pt x="89284" y="133433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AutoShape 45"/>
          <p:cNvSpPr/>
          <p:nvPr/>
        </p:nvSpPr>
        <p:spPr>
          <a:xfrm>
            <a:off x="8244000" y="62064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AutoShape 46"/>
          <p:cNvSpPr/>
          <p:nvPr/>
        </p:nvSpPr>
        <p:spPr>
          <a:xfrm>
            <a:off x="468360" y="6021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AutoShape 47"/>
          <p:cNvSpPr/>
          <p:nvPr/>
        </p:nvSpPr>
        <p:spPr>
          <a:xfrm>
            <a:off x="5867280" y="357336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AutoShape 48"/>
          <p:cNvSpPr/>
          <p:nvPr/>
        </p:nvSpPr>
        <p:spPr>
          <a:xfrm>
            <a:off x="5364000" y="155736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AutoShape 49"/>
          <p:cNvSpPr/>
          <p:nvPr/>
        </p:nvSpPr>
        <p:spPr>
          <a:xfrm>
            <a:off x="611280" y="6237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AutoShape 50"/>
          <p:cNvSpPr/>
          <p:nvPr/>
        </p:nvSpPr>
        <p:spPr>
          <a:xfrm>
            <a:off x="3417840" y="4148280"/>
            <a:ext cx="144360" cy="142560"/>
          </a:xfrm>
          <a:prstGeom prst="pi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AutoShape 51"/>
          <p:cNvSpPr/>
          <p:nvPr/>
        </p:nvSpPr>
        <p:spPr>
          <a:xfrm>
            <a:off x="3132000" y="573408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AutoShape 52"/>
          <p:cNvSpPr/>
          <p:nvPr/>
        </p:nvSpPr>
        <p:spPr>
          <a:xfrm>
            <a:off x="1619280" y="530064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AutoShape 53"/>
          <p:cNvSpPr/>
          <p:nvPr/>
        </p:nvSpPr>
        <p:spPr>
          <a:xfrm>
            <a:off x="4356000" y="522936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AutoShape 54"/>
          <p:cNvSpPr/>
          <p:nvPr/>
        </p:nvSpPr>
        <p:spPr>
          <a:xfrm>
            <a:off x="1476360" y="5516640"/>
            <a:ext cx="358920" cy="288720"/>
          </a:xfrm>
          <a:custGeom>
            <a:avLst/>
            <a:gdLst>
              <a:gd name="textAreaLeft" fmla="*/ 110880 w 358920"/>
              <a:gd name="textAreaRight" fmla="*/ 248040 w 358920"/>
              <a:gd name="textAreaTop" fmla="*/ 110160 h 288720"/>
              <a:gd name="textAreaBottom" fmla="*/ 220680 h 288720"/>
            </a:gdLst>
            <a:ahLst/>
            <a:rect l="textAreaLeft" t="textAreaTop" r="textAreaRight" b="textAreaBottom"/>
            <a:pathLst>
              <a:path w="358775" h="288925">
                <a:moveTo>
                  <a:pt x="0" y="110359"/>
                </a:moveTo>
                <a:lnTo>
                  <a:pt x="137041" y="110360"/>
                </a:lnTo>
                <a:lnTo>
                  <a:pt x="179388" y="0"/>
                </a:lnTo>
                <a:lnTo>
                  <a:pt x="221734" y="110360"/>
                </a:lnTo>
                <a:lnTo>
                  <a:pt x="358775" y="110359"/>
                </a:lnTo>
                <a:lnTo>
                  <a:pt x="247906" y="178565"/>
                </a:lnTo>
                <a:lnTo>
                  <a:pt x="290255" y="288924"/>
                </a:lnTo>
                <a:lnTo>
                  <a:pt x="179388" y="220718"/>
                </a:lnTo>
                <a:lnTo>
                  <a:pt x="68520" y="288924"/>
                </a:lnTo>
                <a:lnTo>
                  <a:pt x="110869" y="178565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AutoShape 55"/>
          <p:cNvSpPr/>
          <p:nvPr/>
        </p:nvSpPr>
        <p:spPr>
          <a:xfrm>
            <a:off x="4788000" y="515772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AutoShape 56"/>
          <p:cNvSpPr/>
          <p:nvPr/>
        </p:nvSpPr>
        <p:spPr>
          <a:xfrm>
            <a:off x="6516720" y="4797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AutoShape 57"/>
          <p:cNvSpPr/>
          <p:nvPr/>
        </p:nvSpPr>
        <p:spPr>
          <a:xfrm>
            <a:off x="5580000" y="57340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8" name="Picture 10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14760" y="1571760"/>
            <a:ext cx="371448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AutoShape 2"/>
          <p:cNvSpPr/>
          <p:nvPr/>
        </p:nvSpPr>
        <p:spPr>
          <a:xfrm>
            <a:off x="684360" y="6922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AutoShape 3"/>
          <p:cNvSpPr/>
          <p:nvPr/>
        </p:nvSpPr>
        <p:spPr>
          <a:xfrm>
            <a:off x="6227640" y="47628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3132000" y="141300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AutoShape 5"/>
          <p:cNvSpPr/>
          <p:nvPr/>
        </p:nvSpPr>
        <p:spPr>
          <a:xfrm>
            <a:off x="1908000" y="620640"/>
            <a:ext cx="287640" cy="216000"/>
          </a:xfrm>
          <a:custGeom>
            <a:avLst/>
            <a:gdLst>
              <a:gd name="textAreaLeft" fmla="*/ 88920 w 287640"/>
              <a:gd name="textAreaRight" fmla="*/ 198720 w 287640"/>
              <a:gd name="textAreaTop" fmla="*/ 82440 h 216000"/>
              <a:gd name="textAreaBottom" fmla="*/ 165240 h 216000"/>
            </a:gdLst>
            <a:ahLst/>
            <a:rect l="textAreaLeft" t="textAreaTop" r="textAreaRight" b="textAreaBottom"/>
            <a:pathLst>
              <a:path w="287338" h="215900">
                <a:moveTo>
                  <a:pt x="0" y="82466"/>
                </a:moveTo>
                <a:lnTo>
                  <a:pt x="109754" y="82467"/>
                </a:lnTo>
                <a:lnTo>
                  <a:pt x="143669" y="0"/>
                </a:lnTo>
                <a:lnTo>
                  <a:pt x="177584" y="82467"/>
                </a:lnTo>
                <a:lnTo>
                  <a:pt x="287338" y="82466"/>
                </a:lnTo>
                <a:lnTo>
                  <a:pt x="198545" y="133433"/>
                </a:lnTo>
                <a:lnTo>
                  <a:pt x="232461" y="215899"/>
                </a:lnTo>
                <a:lnTo>
                  <a:pt x="143669" y="164932"/>
                </a:lnTo>
                <a:lnTo>
                  <a:pt x="54877" y="215899"/>
                </a:lnTo>
                <a:lnTo>
                  <a:pt x="88793" y="133433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AutoShape 6"/>
          <p:cNvSpPr/>
          <p:nvPr/>
        </p:nvSpPr>
        <p:spPr>
          <a:xfrm>
            <a:off x="6732720" y="1125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AutoShape 7"/>
          <p:cNvSpPr/>
          <p:nvPr/>
        </p:nvSpPr>
        <p:spPr>
          <a:xfrm>
            <a:off x="4932360" y="4762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AutoShape 8"/>
          <p:cNvSpPr/>
          <p:nvPr/>
        </p:nvSpPr>
        <p:spPr>
          <a:xfrm>
            <a:off x="7236000" y="1413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AutoShape 9"/>
          <p:cNvSpPr/>
          <p:nvPr/>
        </p:nvSpPr>
        <p:spPr>
          <a:xfrm>
            <a:off x="1042920" y="1773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AutoShape 10"/>
          <p:cNvSpPr/>
          <p:nvPr/>
        </p:nvSpPr>
        <p:spPr>
          <a:xfrm>
            <a:off x="2124000" y="1268280"/>
            <a:ext cx="289080" cy="289080"/>
          </a:xfrm>
          <a:custGeom>
            <a:avLst/>
            <a:gdLst>
              <a:gd name="textAreaLeft" fmla="*/ 89280 w 289080"/>
              <a:gd name="textAreaRight" fmla="*/ 199800 w 289080"/>
              <a:gd name="textAreaTop" fmla="*/ 110520 h 289080"/>
              <a:gd name="textAreaBottom" fmla="*/ 221040 h 289080"/>
            </a:gdLst>
            <a:ahLst/>
            <a:rect l="textAreaLeft" t="textAreaTop" r="textAreaRight" b="textAreaBottom"/>
            <a:pathLst>
              <a:path w="288925" h="288925">
                <a:moveTo>
                  <a:pt x="0" y="110359"/>
                </a:moveTo>
                <a:lnTo>
                  <a:pt x="110360" y="110360"/>
                </a:lnTo>
                <a:lnTo>
                  <a:pt x="144463" y="0"/>
                </a:lnTo>
                <a:lnTo>
                  <a:pt x="178565" y="110360"/>
                </a:lnTo>
                <a:lnTo>
                  <a:pt x="288925" y="110359"/>
                </a:lnTo>
                <a:lnTo>
                  <a:pt x="199641" y="178565"/>
                </a:lnTo>
                <a:lnTo>
                  <a:pt x="233745" y="288924"/>
                </a:lnTo>
                <a:lnTo>
                  <a:pt x="144463" y="220718"/>
                </a:lnTo>
                <a:lnTo>
                  <a:pt x="55180" y="288924"/>
                </a:lnTo>
                <a:lnTo>
                  <a:pt x="89284" y="178565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AutoShape 11"/>
          <p:cNvSpPr/>
          <p:nvPr/>
        </p:nvSpPr>
        <p:spPr>
          <a:xfrm>
            <a:off x="1547640" y="177336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AutoShape 12"/>
          <p:cNvSpPr/>
          <p:nvPr/>
        </p:nvSpPr>
        <p:spPr>
          <a:xfrm>
            <a:off x="755640" y="3789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AutoShape 13"/>
          <p:cNvSpPr/>
          <p:nvPr/>
        </p:nvSpPr>
        <p:spPr>
          <a:xfrm>
            <a:off x="3924360" y="765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AutoShape 14"/>
          <p:cNvSpPr/>
          <p:nvPr/>
        </p:nvSpPr>
        <p:spPr>
          <a:xfrm>
            <a:off x="8172360" y="314172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AutoShape 15"/>
          <p:cNvSpPr/>
          <p:nvPr/>
        </p:nvSpPr>
        <p:spPr>
          <a:xfrm>
            <a:off x="7308720" y="580536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1332000" y="530064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900000" y="83664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250920" y="2349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4067280" y="90792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5508720" y="12682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8028000" y="1989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1979640" y="35002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148360" y="29242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AutoShape 24"/>
          <p:cNvSpPr/>
          <p:nvPr/>
        </p:nvSpPr>
        <p:spPr>
          <a:xfrm>
            <a:off x="1332000" y="3284640"/>
            <a:ext cx="287280" cy="217440"/>
          </a:xfrm>
          <a:custGeom>
            <a:avLst/>
            <a:gdLst>
              <a:gd name="textAreaLeft" fmla="*/ 88560 w 287280"/>
              <a:gd name="textAreaRight" fmla="*/ 198720 w 287280"/>
              <a:gd name="textAreaTop" fmla="*/ 83160 h 217440"/>
              <a:gd name="textAreaBottom" fmla="*/ 166320 h 217440"/>
            </a:gdLst>
            <a:ahLst/>
            <a:rect l="textAreaLeft" t="textAreaTop" r="textAreaRight" b="textAreaBottom"/>
            <a:pathLst>
              <a:path w="287337" h="217487">
                <a:moveTo>
                  <a:pt x="0" y="83072"/>
                </a:moveTo>
                <a:lnTo>
                  <a:pt x="109754" y="83073"/>
                </a:lnTo>
                <a:lnTo>
                  <a:pt x="143669" y="0"/>
                </a:lnTo>
                <a:lnTo>
                  <a:pt x="177583" y="83073"/>
                </a:lnTo>
                <a:lnTo>
                  <a:pt x="287337" y="83072"/>
                </a:lnTo>
                <a:lnTo>
                  <a:pt x="198544" y="134414"/>
                </a:lnTo>
                <a:lnTo>
                  <a:pt x="232461" y="217486"/>
                </a:lnTo>
                <a:lnTo>
                  <a:pt x="143669" y="166144"/>
                </a:lnTo>
                <a:lnTo>
                  <a:pt x="54876" y="217486"/>
                </a:lnTo>
                <a:lnTo>
                  <a:pt x="88793" y="134414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25"/>
          <p:cNvSpPr/>
          <p:nvPr/>
        </p:nvSpPr>
        <p:spPr>
          <a:xfrm>
            <a:off x="8388360" y="692280"/>
            <a:ext cx="287280" cy="288720"/>
          </a:xfrm>
          <a:custGeom>
            <a:avLst/>
            <a:gdLst>
              <a:gd name="textAreaLeft" fmla="*/ 88560 w 287280"/>
              <a:gd name="textAreaRight" fmla="*/ 198720 w 287280"/>
              <a:gd name="textAreaTop" fmla="*/ 110160 h 288720"/>
              <a:gd name="textAreaBottom" fmla="*/ 220680 h 288720"/>
            </a:gdLst>
            <a:ahLst/>
            <a:rect l="textAreaLeft" t="textAreaTop" r="textAreaRight" b="textAreaBottom"/>
            <a:pathLst>
              <a:path w="287338" h="288925">
                <a:moveTo>
                  <a:pt x="0" y="110359"/>
                </a:moveTo>
                <a:lnTo>
                  <a:pt x="109754" y="110360"/>
                </a:lnTo>
                <a:lnTo>
                  <a:pt x="143669" y="0"/>
                </a:lnTo>
                <a:lnTo>
                  <a:pt x="177584" y="110360"/>
                </a:lnTo>
                <a:lnTo>
                  <a:pt x="287338" y="110359"/>
                </a:lnTo>
                <a:lnTo>
                  <a:pt x="198545" y="178565"/>
                </a:lnTo>
                <a:lnTo>
                  <a:pt x="232461" y="288924"/>
                </a:lnTo>
                <a:lnTo>
                  <a:pt x="143669" y="220718"/>
                </a:lnTo>
                <a:lnTo>
                  <a:pt x="54877" y="288924"/>
                </a:lnTo>
                <a:lnTo>
                  <a:pt x="88793" y="178565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6"/>
          <p:cNvSpPr/>
          <p:nvPr/>
        </p:nvSpPr>
        <p:spPr>
          <a:xfrm>
            <a:off x="971640" y="4005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27"/>
          <p:cNvSpPr/>
          <p:nvPr/>
        </p:nvSpPr>
        <p:spPr>
          <a:xfrm>
            <a:off x="2770200" y="3500280"/>
            <a:ext cx="144360" cy="142920"/>
          </a:xfrm>
          <a:prstGeom prst="pi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28"/>
          <p:cNvSpPr/>
          <p:nvPr/>
        </p:nvSpPr>
        <p:spPr>
          <a:xfrm>
            <a:off x="8317080" y="551664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29"/>
          <p:cNvSpPr/>
          <p:nvPr/>
        </p:nvSpPr>
        <p:spPr>
          <a:xfrm>
            <a:off x="7596360" y="3573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30"/>
          <p:cNvSpPr/>
          <p:nvPr/>
        </p:nvSpPr>
        <p:spPr>
          <a:xfrm>
            <a:off x="3417840" y="4148280"/>
            <a:ext cx="144360" cy="142560"/>
          </a:xfrm>
          <a:custGeom>
            <a:avLst/>
            <a:gdLst>
              <a:gd name="textAreaLeft" fmla="*/ 44640 w 144360"/>
              <a:gd name="textAreaRight" fmla="*/ 99720 w 144360"/>
              <a:gd name="textAreaTop" fmla="*/ 54360 h 142560"/>
              <a:gd name="textAreaBottom" fmla="*/ 109080 h 14256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31"/>
          <p:cNvSpPr/>
          <p:nvPr/>
        </p:nvSpPr>
        <p:spPr>
          <a:xfrm>
            <a:off x="7020000" y="3213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32"/>
          <p:cNvSpPr/>
          <p:nvPr/>
        </p:nvSpPr>
        <p:spPr>
          <a:xfrm>
            <a:off x="7667640" y="407664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33"/>
          <p:cNvSpPr/>
          <p:nvPr/>
        </p:nvSpPr>
        <p:spPr>
          <a:xfrm>
            <a:off x="4500720" y="5445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34"/>
          <p:cNvSpPr/>
          <p:nvPr/>
        </p:nvSpPr>
        <p:spPr>
          <a:xfrm>
            <a:off x="3203640" y="59500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35"/>
          <p:cNvSpPr/>
          <p:nvPr/>
        </p:nvSpPr>
        <p:spPr>
          <a:xfrm>
            <a:off x="4643280" y="5157720"/>
            <a:ext cx="216000" cy="287280"/>
          </a:xfrm>
          <a:custGeom>
            <a:avLst/>
            <a:gdLst>
              <a:gd name="textAreaLeft" fmla="*/ 66600 w 216000"/>
              <a:gd name="textAreaRight" fmla="*/ 149400 w 216000"/>
              <a:gd name="textAreaTop" fmla="*/ 109800 h 287280"/>
              <a:gd name="textAreaBottom" fmla="*/ 219600 h 287280"/>
            </a:gdLst>
            <a:ahLst/>
            <a:rect l="textAreaLeft" t="textAreaTop" r="textAreaRight" b="textAreaBottom"/>
            <a:pathLst>
              <a:path w="215900" h="287337">
                <a:moveTo>
                  <a:pt x="0" y="109753"/>
                </a:moveTo>
                <a:lnTo>
                  <a:pt x="82467" y="109753"/>
                </a:lnTo>
                <a:lnTo>
                  <a:pt x="107950" y="0"/>
                </a:lnTo>
                <a:lnTo>
                  <a:pt x="133433" y="109753"/>
                </a:lnTo>
                <a:lnTo>
                  <a:pt x="215900" y="109753"/>
                </a:lnTo>
                <a:lnTo>
                  <a:pt x="149183" y="177583"/>
                </a:lnTo>
                <a:lnTo>
                  <a:pt x="174667" y="287336"/>
                </a:lnTo>
                <a:lnTo>
                  <a:pt x="107950" y="219504"/>
                </a:lnTo>
                <a:lnTo>
                  <a:pt x="41233" y="287336"/>
                </a:lnTo>
                <a:lnTo>
                  <a:pt x="66717" y="177583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36"/>
          <p:cNvSpPr/>
          <p:nvPr/>
        </p:nvSpPr>
        <p:spPr>
          <a:xfrm>
            <a:off x="6948360" y="573408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37"/>
          <p:cNvSpPr/>
          <p:nvPr/>
        </p:nvSpPr>
        <p:spPr>
          <a:xfrm>
            <a:off x="6877080" y="5300640"/>
            <a:ext cx="360360" cy="287280"/>
          </a:xfrm>
          <a:custGeom>
            <a:avLst/>
            <a:gdLst>
              <a:gd name="textAreaLeft" fmla="*/ 111240 w 360360"/>
              <a:gd name="textAreaRight" fmla="*/ 249120 w 360360"/>
              <a:gd name="textAreaTop" fmla="*/ 109800 h 287280"/>
              <a:gd name="textAreaBottom" fmla="*/ 219600 h 287280"/>
            </a:gdLst>
            <a:ahLst/>
            <a:rect l="textAreaLeft" t="textAreaTop" r="textAreaRight" b="textAreaBottom"/>
            <a:pathLst>
              <a:path w="360363" h="287337">
                <a:moveTo>
                  <a:pt x="0" y="109753"/>
                </a:moveTo>
                <a:lnTo>
                  <a:pt x="137647" y="109753"/>
                </a:lnTo>
                <a:lnTo>
                  <a:pt x="180182" y="0"/>
                </a:lnTo>
                <a:lnTo>
                  <a:pt x="222716" y="109753"/>
                </a:lnTo>
                <a:lnTo>
                  <a:pt x="360363" y="109753"/>
                </a:lnTo>
                <a:lnTo>
                  <a:pt x="249004" y="177583"/>
                </a:lnTo>
                <a:lnTo>
                  <a:pt x="291540" y="287336"/>
                </a:lnTo>
                <a:lnTo>
                  <a:pt x="180182" y="219504"/>
                </a:lnTo>
                <a:lnTo>
                  <a:pt x="68823" y="287336"/>
                </a:lnTo>
                <a:lnTo>
                  <a:pt x="111359" y="177583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38"/>
          <p:cNvSpPr/>
          <p:nvPr/>
        </p:nvSpPr>
        <p:spPr>
          <a:xfrm>
            <a:off x="684360" y="981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39"/>
          <p:cNvSpPr/>
          <p:nvPr/>
        </p:nvSpPr>
        <p:spPr>
          <a:xfrm>
            <a:off x="2268360" y="76500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40"/>
          <p:cNvSpPr/>
          <p:nvPr/>
        </p:nvSpPr>
        <p:spPr>
          <a:xfrm>
            <a:off x="2124000" y="765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41"/>
          <p:cNvSpPr/>
          <p:nvPr/>
        </p:nvSpPr>
        <p:spPr>
          <a:xfrm>
            <a:off x="3276720" y="1557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42"/>
          <p:cNvSpPr/>
          <p:nvPr/>
        </p:nvSpPr>
        <p:spPr>
          <a:xfrm>
            <a:off x="1690560" y="242100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43"/>
          <p:cNvSpPr/>
          <p:nvPr/>
        </p:nvSpPr>
        <p:spPr>
          <a:xfrm>
            <a:off x="8244000" y="90792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AutoShape 44"/>
          <p:cNvSpPr/>
          <p:nvPr/>
        </p:nvSpPr>
        <p:spPr>
          <a:xfrm>
            <a:off x="5651640" y="1484280"/>
            <a:ext cx="288720" cy="216000"/>
          </a:xfrm>
          <a:custGeom>
            <a:avLst/>
            <a:gdLst>
              <a:gd name="textAreaLeft" fmla="*/ 89280 w 288720"/>
              <a:gd name="textAreaRight" fmla="*/ 199440 w 288720"/>
              <a:gd name="textAreaTop" fmla="*/ 82440 h 216000"/>
              <a:gd name="textAreaBottom" fmla="*/ 165240 h 216000"/>
            </a:gdLst>
            <a:ahLst/>
            <a:rect l="textAreaLeft" t="textAreaTop" r="textAreaRight" b="textAreaBottom"/>
            <a:pathLst>
              <a:path w="288925" h="215900">
                <a:moveTo>
                  <a:pt x="0" y="82466"/>
                </a:moveTo>
                <a:lnTo>
                  <a:pt x="110360" y="82467"/>
                </a:lnTo>
                <a:lnTo>
                  <a:pt x="144463" y="0"/>
                </a:lnTo>
                <a:lnTo>
                  <a:pt x="178565" y="82467"/>
                </a:lnTo>
                <a:lnTo>
                  <a:pt x="288925" y="82466"/>
                </a:lnTo>
                <a:lnTo>
                  <a:pt x="199641" y="133433"/>
                </a:lnTo>
                <a:lnTo>
                  <a:pt x="233745" y="215899"/>
                </a:lnTo>
                <a:lnTo>
                  <a:pt x="144463" y="164932"/>
                </a:lnTo>
                <a:lnTo>
                  <a:pt x="55180" y="215899"/>
                </a:lnTo>
                <a:lnTo>
                  <a:pt x="89284" y="133433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AutoShape 45"/>
          <p:cNvSpPr/>
          <p:nvPr/>
        </p:nvSpPr>
        <p:spPr>
          <a:xfrm>
            <a:off x="8244000" y="62064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AutoShape 46"/>
          <p:cNvSpPr/>
          <p:nvPr/>
        </p:nvSpPr>
        <p:spPr>
          <a:xfrm>
            <a:off x="468360" y="6021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AutoShape 47"/>
          <p:cNvSpPr/>
          <p:nvPr/>
        </p:nvSpPr>
        <p:spPr>
          <a:xfrm>
            <a:off x="5867280" y="357336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AutoShape 48"/>
          <p:cNvSpPr/>
          <p:nvPr/>
        </p:nvSpPr>
        <p:spPr>
          <a:xfrm>
            <a:off x="5364000" y="155736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AutoShape 49"/>
          <p:cNvSpPr/>
          <p:nvPr/>
        </p:nvSpPr>
        <p:spPr>
          <a:xfrm>
            <a:off x="611280" y="6237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AutoShape 50"/>
          <p:cNvSpPr/>
          <p:nvPr/>
        </p:nvSpPr>
        <p:spPr>
          <a:xfrm>
            <a:off x="3417840" y="4148280"/>
            <a:ext cx="144360" cy="142560"/>
          </a:xfrm>
          <a:prstGeom prst="pi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AutoShape 51"/>
          <p:cNvSpPr/>
          <p:nvPr/>
        </p:nvSpPr>
        <p:spPr>
          <a:xfrm>
            <a:off x="3132000" y="573408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AutoShape 52"/>
          <p:cNvSpPr/>
          <p:nvPr/>
        </p:nvSpPr>
        <p:spPr>
          <a:xfrm>
            <a:off x="1619280" y="530064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AutoShape 53"/>
          <p:cNvSpPr/>
          <p:nvPr/>
        </p:nvSpPr>
        <p:spPr>
          <a:xfrm>
            <a:off x="4356000" y="522936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AutoShape 54"/>
          <p:cNvSpPr/>
          <p:nvPr/>
        </p:nvSpPr>
        <p:spPr>
          <a:xfrm>
            <a:off x="1476360" y="5516640"/>
            <a:ext cx="358920" cy="288720"/>
          </a:xfrm>
          <a:custGeom>
            <a:avLst/>
            <a:gdLst>
              <a:gd name="textAreaLeft" fmla="*/ 110880 w 358920"/>
              <a:gd name="textAreaRight" fmla="*/ 248040 w 358920"/>
              <a:gd name="textAreaTop" fmla="*/ 110160 h 288720"/>
              <a:gd name="textAreaBottom" fmla="*/ 220680 h 288720"/>
            </a:gdLst>
            <a:ahLst/>
            <a:rect l="textAreaLeft" t="textAreaTop" r="textAreaRight" b="textAreaBottom"/>
            <a:pathLst>
              <a:path w="358775" h="288925">
                <a:moveTo>
                  <a:pt x="0" y="110359"/>
                </a:moveTo>
                <a:lnTo>
                  <a:pt x="137041" y="110360"/>
                </a:lnTo>
                <a:lnTo>
                  <a:pt x="179388" y="0"/>
                </a:lnTo>
                <a:lnTo>
                  <a:pt x="221734" y="110360"/>
                </a:lnTo>
                <a:lnTo>
                  <a:pt x="358775" y="110359"/>
                </a:lnTo>
                <a:lnTo>
                  <a:pt x="247906" y="178565"/>
                </a:lnTo>
                <a:lnTo>
                  <a:pt x="290255" y="288924"/>
                </a:lnTo>
                <a:lnTo>
                  <a:pt x="179388" y="220718"/>
                </a:lnTo>
                <a:lnTo>
                  <a:pt x="68520" y="288924"/>
                </a:lnTo>
                <a:lnTo>
                  <a:pt x="110869" y="178565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AutoShape 55"/>
          <p:cNvSpPr/>
          <p:nvPr/>
        </p:nvSpPr>
        <p:spPr>
          <a:xfrm>
            <a:off x="4788000" y="515772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AutoShape 56"/>
          <p:cNvSpPr/>
          <p:nvPr/>
        </p:nvSpPr>
        <p:spPr>
          <a:xfrm>
            <a:off x="6516720" y="4797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AutoShape 57"/>
          <p:cNvSpPr/>
          <p:nvPr/>
        </p:nvSpPr>
        <p:spPr>
          <a:xfrm>
            <a:off x="5580000" y="57340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5" name="Picture 12" descr="http://t1.gstatic.com/images?q=tbn:V9LJ49bbf8o2IM:http://chuckayoub.googlepages.com/planet_Venu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86040" y="1214280"/>
            <a:ext cx="4415040" cy="44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2"/>
          <p:cNvSpPr/>
          <p:nvPr/>
        </p:nvSpPr>
        <p:spPr>
          <a:xfrm>
            <a:off x="684360" y="6922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AutoShape 3"/>
          <p:cNvSpPr/>
          <p:nvPr/>
        </p:nvSpPr>
        <p:spPr>
          <a:xfrm>
            <a:off x="6227640" y="47628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AutoShape 4"/>
          <p:cNvSpPr/>
          <p:nvPr/>
        </p:nvSpPr>
        <p:spPr>
          <a:xfrm>
            <a:off x="3132000" y="141300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AutoShape 5"/>
          <p:cNvSpPr/>
          <p:nvPr/>
        </p:nvSpPr>
        <p:spPr>
          <a:xfrm>
            <a:off x="1908000" y="620640"/>
            <a:ext cx="287640" cy="216000"/>
          </a:xfrm>
          <a:custGeom>
            <a:avLst/>
            <a:gdLst>
              <a:gd name="textAreaLeft" fmla="*/ 88920 w 287640"/>
              <a:gd name="textAreaRight" fmla="*/ 198720 w 287640"/>
              <a:gd name="textAreaTop" fmla="*/ 82440 h 216000"/>
              <a:gd name="textAreaBottom" fmla="*/ 165240 h 216000"/>
            </a:gdLst>
            <a:ahLst/>
            <a:rect l="textAreaLeft" t="textAreaTop" r="textAreaRight" b="textAreaBottom"/>
            <a:pathLst>
              <a:path w="287338" h="215900">
                <a:moveTo>
                  <a:pt x="0" y="82466"/>
                </a:moveTo>
                <a:lnTo>
                  <a:pt x="109754" y="82467"/>
                </a:lnTo>
                <a:lnTo>
                  <a:pt x="143669" y="0"/>
                </a:lnTo>
                <a:lnTo>
                  <a:pt x="177584" y="82467"/>
                </a:lnTo>
                <a:lnTo>
                  <a:pt x="287338" y="82466"/>
                </a:lnTo>
                <a:lnTo>
                  <a:pt x="198545" y="133433"/>
                </a:lnTo>
                <a:lnTo>
                  <a:pt x="232461" y="215899"/>
                </a:lnTo>
                <a:lnTo>
                  <a:pt x="143669" y="164932"/>
                </a:lnTo>
                <a:lnTo>
                  <a:pt x="54877" y="215899"/>
                </a:lnTo>
                <a:lnTo>
                  <a:pt x="88793" y="133433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AutoShape 6"/>
          <p:cNvSpPr/>
          <p:nvPr/>
        </p:nvSpPr>
        <p:spPr>
          <a:xfrm>
            <a:off x="6732720" y="1125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AutoShape 7"/>
          <p:cNvSpPr/>
          <p:nvPr/>
        </p:nvSpPr>
        <p:spPr>
          <a:xfrm>
            <a:off x="4932360" y="4762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AutoShape 8"/>
          <p:cNvSpPr/>
          <p:nvPr/>
        </p:nvSpPr>
        <p:spPr>
          <a:xfrm>
            <a:off x="7236000" y="1413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AutoShape 9"/>
          <p:cNvSpPr/>
          <p:nvPr/>
        </p:nvSpPr>
        <p:spPr>
          <a:xfrm>
            <a:off x="1042920" y="1773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AutoShape 10"/>
          <p:cNvSpPr/>
          <p:nvPr/>
        </p:nvSpPr>
        <p:spPr>
          <a:xfrm>
            <a:off x="2124000" y="1268280"/>
            <a:ext cx="289080" cy="289080"/>
          </a:xfrm>
          <a:custGeom>
            <a:avLst/>
            <a:gdLst>
              <a:gd name="textAreaLeft" fmla="*/ 89280 w 289080"/>
              <a:gd name="textAreaRight" fmla="*/ 199800 w 289080"/>
              <a:gd name="textAreaTop" fmla="*/ 110520 h 289080"/>
              <a:gd name="textAreaBottom" fmla="*/ 221040 h 289080"/>
            </a:gdLst>
            <a:ahLst/>
            <a:rect l="textAreaLeft" t="textAreaTop" r="textAreaRight" b="textAreaBottom"/>
            <a:pathLst>
              <a:path w="288925" h="288925">
                <a:moveTo>
                  <a:pt x="0" y="110359"/>
                </a:moveTo>
                <a:lnTo>
                  <a:pt x="110360" y="110360"/>
                </a:lnTo>
                <a:lnTo>
                  <a:pt x="144463" y="0"/>
                </a:lnTo>
                <a:lnTo>
                  <a:pt x="178565" y="110360"/>
                </a:lnTo>
                <a:lnTo>
                  <a:pt x="288925" y="110359"/>
                </a:lnTo>
                <a:lnTo>
                  <a:pt x="199641" y="178565"/>
                </a:lnTo>
                <a:lnTo>
                  <a:pt x="233745" y="288924"/>
                </a:lnTo>
                <a:lnTo>
                  <a:pt x="144463" y="220718"/>
                </a:lnTo>
                <a:lnTo>
                  <a:pt x="55180" y="288924"/>
                </a:lnTo>
                <a:lnTo>
                  <a:pt x="89284" y="178565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AutoShape 11"/>
          <p:cNvSpPr/>
          <p:nvPr/>
        </p:nvSpPr>
        <p:spPr>
          <a:xfrm>
            <a:off x="1547640" y="177336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AutoShape 12"/>
          <p:cNvSpPr/>
          <p:nvPr/>
        </p:nvSpPr>
        <p:spPr>
          <a:xfrm>
            <a:off x="755640" y="3789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AutoShape 13"/>
          <p:cNvSpPr/>
          <p:nvPr/>
        </p:nvSpPr>
        <p:spPr>
          <a:xfrm>
            <a:off x="3924360" y="765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AutoShape 14"/>
          <p:cNvSpPr/>
          <p:nvPr/>
        </p:nvSpPr>
        <p:spPr>
          <a:xfrm>
            <a:off x="8172360" y="314172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AutoShape 15"/>
          <p:cNvSpPr/>
          <p:nvPr/>
        </p:nvSpPr>
        <p:spPr>
          <a:xfrm>
            <a:off x="7308720" y="580536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AutoShape 16"/>
          <p:cNvSpPr/>
          <p:nvPr/>
        </p:nvSpPr>
        <p:spPr>
          <a:xfrm>
            <a:off x="1332000" y="530064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AutoShape 17"/>
          <p:cNvSpPr/>
          <p:nvPr/>
        </p:nvSpPr>
        <p:spPr>
          <a:xfrm>
            <a:off x="900000" y="83664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AutoShape 18"/>
          <p:cNvSpPr/>
          <p:nvPr/>
        </p:nvSpPr>
        <p:spPr>
          <a:xfrm>
            <a:off x="250920" y="2349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AutoShape 19"/>
          <p:cNvSpPr/>
          <p:nvPr/>
        </p:nvSpPr>
        <p:spPr>
          <a:xfrm>
            <a:off x="4067280" y="90792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AutoShape 20"/>
          <p:cNvSpPr/>
          <p:nvPr/>
        </p:nvSpPr>
        <p:spPr>
          <a:xfrm>
            <a:off x="5508720" y="12682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AutoShape 21"/>
          <p:cNvSpPr/>
          <p:nvPr/>
        </p:nvSpPr>
        <p:spPr>
          <a:xfrm>
            <a:off x="8028000" y="1989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AutoShape 22"/>
          <p:cNvSpPr/>
          <p:nvPr/>
        </p:nvSpPr>
        <p:spPr>
          <a:xfrm>
            <a:off x="1979640" y="35002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AutoShape 23"/>
          <p:cNvSpPr/>
          <p:nvPr/>
        </p:nvSpPr>
        <p:spPr>
          <a:xfrm>
            <a:off x="5148360" y="29242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AutoShape 24"/>
          <p:cNvSpPr/>
          <p:nvPr/>
        </p:nvSpPr>
        <p:spPr>
          <a:xfrm>
            <a:off x="1332000" y="3284640"/>
            <a:ext cx="287280" cy="217440"/>
          </a:xfrm>
          <a:custGeom>
            <a:avLst/>
            <a:gdLst>
              <a:gd name="textAreaLeft" fmla="*/ 88560 w 287280"/>
              <a:gd name="textAreaRight" fmla="*/ 198720 w 287280"/>
              <a:gd name="textAreaTop" fmla="*/ 83160 h 217440"/>
              <a:gd name="textAreaBottom" fmla="*/ 166320 h 217440"/>
            </a:gdLst>
            <a:ahLst/>
            <a:rect l="textAreaLeft" t="textAreaTop" r="textAreaRight" b="textAreaBottom"/>
            <a:pathLst>
              <a:path w="287337" h="217487">
                <a:moveTo>
                  <a:pt x="0" y="83072"/>
                </a:moveTo>
                <a:lnTo>
                  <a:pt x="109754" y="83073"/>
                </a:lnTo>
                <a:lnTo>
                  <a:pt x="143669" y="0"/>
                </a:lnTo>
                <a:lnTo>
                  <a:pt x="177583" y="83073"/>
                </a:lnTo>
                <a:lnTo>
                  <a:pt x="287337" y="83072"/>
                </a:lnTo>
                <a:lnTo>
                  <a:pt x="198544" y="134414"/>
                </a:lnTo>
                <a:lnTo>
                  <a:pt x="232461" y="217486"/>
                </a:lnTo>
                <a:lnTo>
                  <a:pt x="143669" y="166144"/>
                </a:lnTo>
                <a:lnTo>
                  <a:pt x="54876" y="217486"/>
                </a:lnTo>
                <a:lnTo>
                  <a:pt x="88793" y="134414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AutoShape 25"/>
          <p:cNvSpPr/>
          <p:nvPr/>
        </p:nvSpPr>
        <p:spPr>
          <a:xfrm>
            <a:off x="8388360" y="692280"/>
            <a:ext cx="287280" cy="288720"/>
          </a:xfrm>
          <a:custGeom>
            <a:avLst/>
            <a:gdLst>
              <a:gd name="textAreaLeft" fmla="*/ 88560 w 287280"/>
              <a:gd name="textAreaRight" fmla="*/ 198720 w 287280"/>
              <a:gd name="textAreaTop" fmla="*/ 110160 h 288720"/>
              <a:gd name="textAreaBottom" fmla="*/ 220680 h 288720"/>
            </a:gdLst>
            <a:ahLst/>
            <a:rect l="textAreaLeft" t="textAreaTop" r="textAreaRight" b="textAreaBottom"/>
            <a:pathLst>
              <a:path w="287338" h="288925">
                <a:moveTo>
                  <a:pt x="0" y="110359"/>
                </a:moveTo>
                <a:lnTo>
                  <a:pt x="109754" y="110360"/>
                </a:lnTo>
                <a:lnTo>
                  <a:pt x="143669" y="0"/>
                </a:lnTo>
                <a:lnTo>
                  <a:pt x="177584" y="110360"/>
                </a:lnTo>
                <a:lnTo>
                  <a:pt x="287338" y="110359"/>
                </a:lnTo>
                <a:lnTo>
                  <a:pt x="198545" y="178565"/>
                </a:lnTo>
                <a:lnTo>
                  <a:pt x="232461" y="288924"/>
                </a:lnTo>
                <a:lnTo>
                  <a:pt x="143669" y="220718"/>
                </a:lnTo>
                <a:lnTo>
                  <a:pt x="54877" y="288924"/>
                </a:lnTo>
                <a:lnTo>
                  <a:pt x="88793" y="178565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AutoShape 26"/>
          <p:cNvSpPr/>
          <p:nvPr/>
        </p:nvSpPr>
        <p:spPr>
          <a:xfrm>
            <a:off x="971640" y="4005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AutoShape 27"/>
          <p:cNvSpPr/>
          <p:nvPr/>
        </p:nvSpPr>
        <p:spPr>
          <a:xfrm>
            <a:off x="2770200" y="3500280"/>
            <a:ext cx="144360" cy="142920"/>
          </a:xfrm>
          <a:prstGeom prst="pi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AutoShape 28"/>
          <p:cNvSpPr/>
          <p:nvPr/>
        </p:nvSpPr>
        <p:spPr>
          <a:xfrm>
            <a:off x="8317080" y="551664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AutoShape 29"/>
          <p:cNvSpPr/>
          <p:nvPr/>
        </p:nvSpPr>
        <p:spPr>
          <a:xfrm>
            <a:off x="7596360" y="3573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AutoShape 30"/>
          <p:cNvSpPr/>
          <p:nvPr/>
        </p:nvSpPr>
        <p:spPr>
          <a:xfrm>
            <a:off x="3417840" y="4148280"/>
            <a:ext cx="144360" cy="142560"/>
          </a:xfrm>
          <a:custGeom>
            <a:avLst/>
            <a:gdLst>
              <a:gd name="textAreaLeft" fmla="*/ 44640 w 144360"/>
              <a:gd name="textAreaRight" fmla="*/ 99720 w 144360"/>
              <a:gd name="textAreaTop" fmla="*/ 54360 h 142560"/>
              <a:gd name="textAreaBottom" fmla="*/ 109080 h 14256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AutoShape 31"/>
          <p:cNvSpPr/>
          <p:nvPr/>
        </p:nvSpPr>
        <p:spPr>
          <a:xfrm>
            <a:off x="7020000" y="3213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AutoShape 32"/>
          <p:cNvSpPr/>
          <p:nvPr/>
        </p:nvSpPr>
        <p:spPr>
          <a:xfrm>
            <a:off x="7667640" y="407664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AutoShape 33"/>
          <p:cNvSpPr/>
          <p:nvPr/>
        </p:nvSpPr>
        <p:spPr>
          <a:xfrm>
            <a:off x="4500720" y="5445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AutoShape 34"/>
          <p:cNvSpPr/>
          <p:nvPr/>
        </p:nvSpPr>
        <p:spPr>
          <a:xfrm>
            <a:off x="3203640" y="59500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AutoShape 35"/>
          <p:cNvSpPr/>
          <p:nvPr/>
        </p:nvSpPr>
        <p:spPr>
          <a:xfrm>
            <a:off x="4643280" y="5157720"/>
            <a:ext cx="216000" cy="287280"/>
          </a:xfrm>
          <a:custGeom>
            <a:avLst/>
            <a:gdLst>
              <a:gd name="textAreaLeft" fmla="*/ 66600 w 216000"/>
              <a:gd name="textAreaRight" fmla="*/ 149400 w 216000"/>
              <a:gd name="textAreaTop" fmla="*/ 109800 h 287280"/>
              <a:gd name="textAreaBottom" fmla="*/ 219600 h 287280"/>
            </a:gdLst>
            <a:ahLst/>
            <a:rect l="textAreaLeft" t="textAreaTop" r="textAreaRight" b="textAreaBottom"/>
            <a:pathLst>
              <a:path w="215900" h="287337">
                <a:moveTo>
                  <a:pt x="0" y="109753"/>
                </a:moveTo>
                <a:lnTo>
                  <a:pt x="82467" y="109753"/>
                </a:lnTo>
                <a:lnTo>
                  <a:pt x="107950" y="0"/>
                </a:lnTo>
                <a:lnTo>
                  <a:pt x="133433" y="109753"/>
                </a:lnTo>
                <a:lnTo>
                  <a:pt x="215900" y="109753"/>
                </a:lnTo>
                <a:lnTo>
                  <a:pt x="149183" y="177583"/>
                </a:lnTo>
                <a:lnTo>
                  <a:pt x="174667" y="287336"/>
                </a:lnTo>
                <a:lnTo>
                  <a:pt x="107950" y="219504"/>
                </a:lnTo>
                <a:lnTo>
                  <a:pt x="41233" y="287336"/>
                </a:lnTo>
                <a:lnTo>
                  <a:pt x="66717" y="177583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AutoShape 36"/>
          <p:cNvSpPr/>
          <p:nvPr/>
        </p:nvSpPr>
        <p:spPr>
          <a:xfrm>
            <a:off x="6948360" y="573408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AutoShape 37"/>
          <p:cNvSpPr/>
          <p:nvPr/>
        </p:nvSpPr>
        <p:spPr>
          <a:xfrm>
            <a:off x="6877080" y="5300640"/>
            <a:ext cx="360360" cy="287280"/>
          </a:xfrm>
          <a:custGeom>
            <a:avLst/>
            <a:gdLst>
              <a:gd name="textAreaLeft" fmla="*/ 111240 w 360360"/>
              <a:gd name="textAreaRight" fmla="*/ 249120 w 360360"/>
              <a:gd name="textAreaTop" fmla="*/ 109800 h 287280"/>
              <a:gd name="textAreaBottom" fmla="*/ 219600 h 287280"/>
            </a:gdLst>
            <a:ahLst/>
            <a:rect l="textAreaLeft" t="textAreaTop" r="textAreaRight" b="textAreaBottom"/>
            <a:pathLst>
              <a:path w="360363" h="287337">
                <a:moveTo>
                  <a:pt x="0" y="109753"/>
                </a:moveTo>
                <a:lnTo>
                  <a:pt x="137647" y="109753"/>
                </a:lnTo>
                <a:lnTo>
                  <a:pt x="180182" y="0"/>
                </a:lnTo>
                <a:lnTo>
                  <a:pt x="222716" y="109753"/>
                </a:lnTo>
                <a:lnTo>
                  <a:pt x="360363" y="109753"/>
                </a:lnTo>
                <a:lnTo>
                  <a:pt x="249004" y="177583"/>
                </a:lnTo>
                <a:lnTo>
                  <a:pt x="291540" y="287336"/>
                </a:lnTo>
                <a:lnTo>
                  <a:pt x="180182" y="219504"/>
                </a:lnTo>
                <a:lnTo>
                  <a:pt x="68823" y="287336"/>
                </a:lnTo>
                <a:lnTo>
                  <a:pt x="111359" y="177583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AutoShape 38"/>
          <p:cNvSpPr/>
          <p:nvPr/>
        </p:nvSpPr>
        <p:spPr>
          <a:xfrm>
            <a:off x="684360" y="981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AutoShape 39"/>
          <p:cNvSpPr/>
          <p:nvPr/>
        </p:nvSpPr>
        <p:spPr>
          <a:xfrm>
            <a:off x="2268360" y="76500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AutoShape 40"/>
          <p:cNvSpPr/>
          <p:nvPr/>
        </p:nvSpPr>
        <p:spPr>
          <a:xfrm>
            <a:off x="2124000" y="765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AutoShape 41"/>
          <p:cNvSpPr/>
          <p:nvPr/>
        </p:nvSpPr>
        <p:spPr>
          <a:xfrm>
            <a:off x="3276720" y="1557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AutoShape 42"/>
          <p:cNvSpPr/>
          <p:nvPr/>
        </p:nvSpPr>
        <p:spPr>
          <a:xfrm>
            <a:off x="1690560" y="242100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AutoShape 43"/>
          <p:cNvSpPr/>
          <p:nvPr/>
        </p:nvSpPr>
        <p:spPr>
          <a:xfrm>
            <a:off x="8244000" y="90792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AutoShape 44"/>
          <p:cNvSpPr/>
          <p:nvPr/>
        </p:nvSpPr>
        <p:spPr>
          <a:xfrm>
            <a:off x="5651640" y="1484280"/>
            <a:ext cx="288720" cy="216000"/>
          </a:xfrm>
          <a:custGeom>
            <a:avLst/>
            <a:gdLst>
              <a:gd name="textAreaLeft" fmla="*/ 89280 w 288720"/>
              <a:gd name="textAreaRight" fmla="*/ 199440 w 288720"/>
              <a:gd name="textAreaTop" fmla="*/ 82440 h 216000"/>
              <a:gd name="textAreaBottom" fmla="*/ 165240 h 216000"/>
            </a:gdLst>
            <a:ahLst/>
            <a:rect l="textAreaLeft" t="textAreaTop" r="textAreaRight" b="textAreaBottom"/>
            <a:pathLst>
              <a:path w="288925" h="215900">
                <a:moveTo>
                  <a:pt x="0" y="82466"/>
                </a:moveTo>
                <a:lnTo>
                  <a:pt x="110360" y="82467"/>
                </a:lnTo>
                <a:lnTo>
                  <a:pt x="144463" y="0"/>
                </a:lnTo>
                <a:lnTo>
                  <a:pt x="178565" y="82467"/>
                </a:lnTo>
                <a:lnTo>
                  <a:pt x="288925" y="82466"/>
                </a:lnTo>
                <a:lnTo>
                  <a:pt x="199641" y="133433"/>
                </a:lnTo>
                <a:lnTo>
                  <a:pt x="233745" y="215899"/>
                </a:lnTo>
                <a:lnTo>
                  <a:pt x="144463" y="164932"/>
                </a:lnTo>
                <a:lnTo>
                  <a:pt x="55180" y="215899"/>
                </a:lnTo>
                <a:lnTo>
                  <a:pt x="89284" y="133433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AutoShape 45"/>
          <p:cNvSpPr/>
          <p:nvPr/>
        </p:nvSpPr>
        <p:spPr>
          <a:xfrm>
            <a:off x="8244000" y="62064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AutoShape 46"/>
          <p:cNvSpPr/>
          <p:nvPr/>
        </p:nvSpPr>
        <p:spPr>
          <a:xfrm>
            <a:off x="468360" y="6021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AutoShape 47"/>
          <p:cNvSpPr/>
          <p:nvPr/>
        </p:nvSpPr>
        <p:spPr>
          <a:xfrm>
            <a:off x="5867280" y="357336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AutoShape 48"/>
          <p:cNvSpPr/>
          <p:nvPr/>
        </p:nvSpPr>
        <p:spPr>
          <a:xfrm>
            <a:off x="5364000" y="155736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AutoShape 49"/>
          <p:cNvSpPr/>
          <p:nvPr/>
        </p:nvSpPr>
        <p:spPr>
          <a:xfrm>
            <a:off x="611280" y="6237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AutoShape 50"/>
          <p:cNvSpPr/>
          <p:nvPr/>
        </p:nvSpPr>
        <p:spPr>
          <a:xfrm>
            <a:off x="3417840" y="4148280"/>
            <a:ext cx="144360" cy="142560"/>
          </a:xfrm>
          <a:prstGeom prst="pi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AutoShape 51"/>
          <p:cNvSpPr/>
          <p:nvPr/>
        </p:nvSpPr>
        <p:spPr>
          <a:xfrm>
            <a:off x="3132000" y="573408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AutoShape 52"/>
          <p:cNvSpPr/>
          <p:nvPr/>
        </p:nvSpPr>
        <p:spPr>
          <a:xfrm>
            <a:off x="1619280" y="530064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AutoShape 53"/>
          <p:cNvSpPr/>
          <p:nvPr/>
        </p:nvSpPr>
        <p:spPr>
          <a:xfrm>
            <a:off x="4356000" y="522936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AutoShape 54"/>
          <p:cNvSpPr/>
          <p:nvPr/>
        </p:nvSpPr>
        <p:spPr>
          <a:xfrm>
            <a:off x="1476360" y="5516640"/>
            <a:ext cx="358920" cy="288720"/>
          </a:xfrm>
          <a:custGeom>
            <a:avLst/>
            <a:gdLst>
              <a:gd name="textAreaLeft" fmla="*/ 110880 w 358920"/>
              <a:gd name="textAreaRight" fmla="*/ 248040 w 358920"/>
              <a:gd name="textAreaTop" fmla="*/ 110160 h 288720"/>
              <a:gd name="textAreaBottom" fmla="*/ 220680 h 288720"/>
            </a:gdLst>
            <a:ahLst/>
            <a:rect l="textAreaLeft" t="textAreaTop" r="textAreaRight" b="textAreaBottom"/>
            <a:pathLst>
              <a:path w="358775" h="288925">
                <a:moveTo>
                  <a:pt x="0" y="110359"/>
                </a:moveTo>
                <a:lnTo>
                  <a:pt x="137041" y="110360"/>
                </a:lnTo>
                <a:lnTo>
                  <a:pt x="179388" y="0"/>
                </a:lnTo>
                <a:lnTo>
                  <a:pt x="221734" y="110360"/>
                </a:lnTo>
                <a:lnTo>
                  <a:pt x="358775" y="110359"/>
                </a:lnTo>
                <a:lnTo>
                  <a:pt x="247906" y="178565"/>
                </a:lnTo>
                <a:lnTo>
                  <a:pt x="290255" y="288924"/>
                </a:lnTo>
                <a:lnTo>
                  <a:pt x="179388" y="220718"/>
                </a:lnTo>
                <a:lnTo>
                  <a:pt x="68520" y="288924"/>
                </a:lnTo>
                <a:lnTo>
                  <a:pt x="110869" y="178565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AutoShape 55"/>
          <p:cNvSpPr/>
          <p:nvPr/>
        </p:nvSpPr>
        <p:spPr>
          <a:xfrm>
            <a:off x="4788000" y="515772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AutoShape 56"/>
          <p:cNvSpPr/>
          <p:nvPr/>
        </p:nvSpPr>
        <p:spPr>
          <a:xfrm>
            <a:off x="6516720" y="4797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AutoShape 57"/>
          <p:cNvSpPr/>
          <p:nvPr/>
        </p:nvSpPr>
        <p:spPr>
          <a:xfrm>
            <a:off x="5580000" y="57340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2" name="Picture 59" descr="earth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57240" y="857160"/>
            <a:ext cx="557244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AutoShape 2"/>
          <p:cNvSpPr/>
          <p:nvPr/>
        </p:nvSpPr>
        <p:spPr>
          <a:xfrm>
            <a:off x="684360" y="6922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AutoShape 3"/>
          <p:cNvSpPr/>
          <p:nvPr/>
        </p:nvSpPr>
        <p:spPr>
          <a:xfrm>
            <a:off x="6227640" y="47628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3132000" y="141300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1908000" y="620640"/>
            <a:ext cx="287640" cy="216000"/>
          </a:xfrm>
          <a:custGeom>
            <a:avLst/>
            <a:gdLst>
              <a:gd name="textAreaLeft" fmla="*/ 88920 w 287640"/>
              <a:gd name="textAreaRight" fmla="*/ 198720 w 287640"/>
              <a:gd name="textAreaTop" fmla="*/ 82440 h 216000"/>
              <a:gd name="textAreaBottom" fmla="*/ 165240 h 216000"/>
            </a:gdLst>
            <a:ahLst/>
            <a:rect l="textAreaLeft" t="textAreaTop" r="textAreaRight" b="textAreaBottom"/>
            <a:pathLst>
              <a:path w="287338" h="215900">
                <a:moveTo>
                  <a:pt x="0" y="82466"/>
                </a:moveTo>
                <a:lnTo>
                  <a:pt x="109754" y="82467"/>
                </a:lnTo>
                <a:lnTo>
                  <a:pt x="143669" y="0"/>
                </a:lnTo>
                <a:lnTo>
                  <a:pt x="177584" y="82467"/>
                </a:lnTo>
                <a:lnTo>
                  <a:pt x="287338" y="82466"/>
                </a:lnTo>
                <a:lnTo>
                  <a:pt x="198545" y="133433"/>
                </a:lnTo>
                <a:lnTo>
                  <a:pt x="232461" y="215899"/>
                </a:lnTo>
                <a:lnTo>
                  <a:pt x="143669" y="164932"/>
                </a:lnTo>
                <a:lnTo>
                  <a:pt x="54877" y="215899"/>
                </a:lnTo>
                <a:lnTo>
                  <a:pt x="88793" y="133433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6732720" y="1125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AutoShape 7"/>
          <p:cNvSpPr/>
          <p:nvPr/>
        </p:nvSpPr>
        <p:spPr>
          <a:xfrm>
            <a:off x="4932360" y="4762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AutoShape 8"/>
          <p:cNvSpPr/>
          <p:nvPr/>
        </p:nvSpPr>
        <p:spPr>
          <a:xfrm>
            <a:off x="7236000" y="1413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AutoShape 9"/>
          <p:cNvSpPr/>
          <p:nvPr/>
        </p:nvSpPr>
        <p:spPr>
          <a:xfrm>
            <a:off x="1042920" y="1773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AutoShape 10"/>
          <p:cNvSpPr/>
          <p:nvPr/>
        </p:nvSpPr>
        <p:spPr>
          <a:xfrm>
            <a:off x="2124000" y="1268280"/>
            <a:ext cx="289080" cy="289080"/>
          </a:xfrm>
          <a:custGeom>
            <a:avLst/>
            <a:gdLst>
              <a:gd name="textAreaLeft" fmla="*/ 89280 w 289080"/>
              <a:gd name="textAreaRight" fmla="*/ 199800 w 289080"/>
              <a:gd name="textAreaTop" fmla="*/ 110520 h 289080"/>
              <a:gd name="textAreaBottom" fmla="*/ 221040 h 289080"/>
            </a:gdLst>
            <a:ahLst/>
            <a:rect l="textAreaLeft" t="textAreaTop" r="textAreaRight" b="textAreaBottom"/>
            <a:pathLst>
              <a:path w="288925" h="288925">
                <a:moveTo>
                  <a:pt x="0" y="110359"/>
                </a:moveTo>
                <a:lnTo>
                  <a:pt x="110360" y="110360"/>
                </a:lnTo>
                <a:lnTo>
                  <a:pt x="144463" y="0"/>
                </a:lnTo>
                <a:lnTo>
                  <a:pt x="178565" y="110360"/>
                </a:lnTo>
                <a:lnTo>
                  <a:pt x="288925" y="110359"/>
                </a:lnTo>
                <a:lnTo>
                  <a:pt x="199641" y="178565"/>
                </a:lnTo>
                <a:lnTo>
                  <a:pt x="233745" y="288924"/>
                </a:lnTo>
                <a:lnTo>
                  <a:pt x="144463" y="220718"/>
                </a:lnTo>
                <a:lnTo>
                  <a:pt x="55180" y="288924"/>
                </a:lnTo>
                <a:lnTo>
                  <a:pt x="89284" y="178565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AutoShape 11"/>
          <p:cNvSpPr/>
          <p:nvPr/>
        </p:nvSpPr>
        <p:spPr>
          <a:xfrm>
            <a:off x="1547640" y="177336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AutoShape 12"/>
          <p:cNvSpPr/>
          <p:nvPr/>
        </p:nvSpPr>
        <p:spPr>
          <a:xfrm>
            <a:off x="755640" y="3789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AutoShape 13"/>
          <p:cNvSpPr/>
          <p:nvPr/>
        </p:nvSpPr>
        <p:spPr>
          <a:xfrm>
            <a:off x="3924360" y="765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AutoShape 14"/>
          <p:cNvSpPr/>
          <p:nvPr/>
        </p:nvSpPr>
        <p:spPr>
          <a:xfrm>
            <a:off x="8172360" y="314172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AutoShape 15"/>
          <p:cNvSpPr/>
          <p:nvPr/>
        </p:nvSpPr>
        <p:spPr>
          <a:xfrm>
            <a:off x="7308720" y="580536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AutoShape 16"/>
          <p:cNvSpPr/>
          <p:nvPr/>
        </p:nvSpPr>
        <p:spPr>
          <a:xfrm>
            <a:off x="1332000" y="530064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AutoShape 17"/>
          <p:cNvSpPr/>
          <p:nvPr/>
        </p:nvSpPr>
        <p:spPr>
          <a:xfrm>
            <a:off x="900000" y="83664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AutoShape 18"/>
          <p:cNvSpPr/>
          <p:nvPr/>
        </p:nvSpPr>
        <p:spPr>
          <a:xfrm>
            <a:off x="250920" y="2349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AutoShape 19"/>
          <p:cNvSpPr/>
          <p:nvPr/>
        </p:nvSpPr>
        <p:spPr>
          <a:xfrm>
            <a:off x="4067280" y="90792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AutoShape 20"/>
          <p:cNvSpPr/>
          <p:nvPr/>
        </p:nvSpPr>
        <p:spPr>
          <a:xfrm>
            <a:off x="5508720" y="12682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AutoShape 21"/>
          <p:cNvSpPr/>
          <p:nvPr/>
        </p:nvSpPr>
        <p:spPr>
          <a:xfrm>
            <a:off x="8028000" y="1989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AutoShape 22"/>
          <p:cNvSpPr/>
          <p:nvPr/>
        </p:nvSpPr>
        <p:spPr>
          <a:xfrm>
            <a:off x="1979640" y="35002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AutoShape 23"/>
          <p:cNvSpPr/>
          <p:nvPr/>
        </p:nvSpPr>
        <p:spPr>
          <a:xfrm>
            <a:off x="5148360" y="29242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AutoShape 24"/>
          <p:cNvSpPr/>
          <p:nvPr/>
        </p:nvSpPr>
        <p:spPr>
          <a:xfrm>
            <a:off x="1332000" y="3284640"/>
            <a:ext cx="287280" cy="217440"/>
          </a:xfrm>
          <a:custGeom>
            <a:avLst/>
            <a:gdLst>
              <a:gd name="textAreaLeft" fmla="*/ 88560 w 287280"/>
              <a:gd name="textAreaRight" fmla="*/ 198720 w 287280"/>
              <a:gd name="textAreaTop" fmla="*/ 83160 h 217440"/>
              <a:gd name="textAreaBottom" fmla="*/ 166320 h 217440"/>
            </a:gdLst>
            <a:ahLst/>
            <a:rect l="textAreaLeft" t="textAreaTop" r="textAreaRight" b="textAreaBottom"/>
            <a:pathLst>
              <a:path w="287337" h="217487">
                <a:moveTo>
                  <a:pt x="0" y="83072"/>
                </a:moveTo>
                <a:lnTo>
                  <a:pt x="109754" y="83073"/>
                </a:lnTo>
                <a:lnTo>
                  <a:pt x="143669" y="0"/>
                </a:lnTo>
                <a:lnTo>
                  <a:pt x="177583" y="83073"/>
                </a:lnTo>
                <a:lnTo>
                  <a:pt x="287337" y="83072"/>
                </a:lnTo>
                <a:lnTo>
                  <a:pt x="198544" y="134414"/>
                </a:lnTo>
                <a:lnTo>
                  <a:pt x="232461" y="217486"/>
                </a:lnTo>
                <a:lnTo>
                  <a:pt x="143669" y="166144"/>
                </a:lnTo>
                <a:lnTo>
                  <a:pt x="54876" y="217486"/>
                </a:lnTo>
                <a:lnTo>
                  <a:pt x="88793" y="134414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AutoShape 25"/>
          <p:cNvSpPr/>
          <p:nvPr/>
        </p:nvSpPr>
        <p:spPr>
          <a:xfrm>
            <a:off x="8388360" y="692280"/>
            <a:ext cx="287280" cy="288720"/>
          </a:xfrm>
          <a:custGeom>
            <a:avLst/>
            <a:gdLst>
              <a:gd name="textAreaLeft" fmla="*/ 88560 w 287280"/>
              <a:gd name="textAreaRight" fmla="*/ 198720 w 287280"/>
              <a:gd name="textAreaTop" fmla="*/ 110160 h 288720"/>
              <a:gd name="textAreaBottom" fmla="*/ 220680 h 288720"/>
            </a:gdLst>
            <a:ahLst/>
            <a:rect l="textAreaLeft" t="textAreaTop" r="textAreaRight" b="textAreaBottom"/>
            <a:pathLst>
              <a:path w="287338" h="288925">
                <a:moveTo>
                  <a:pt x="0" y="110359"/>
                </a:moveTo>
                <a:lnTo>
                  <a:pt x="109754" y="110360"/>
                </a:lnTo>
                <a:lnTo>
                  <a:pt x="143669" y="0"/>
                </a:lnTo>
                <a:lnTo>
                  <a:pt x="177584" y="110360"/>
                </a:lnTo>
                <a:lnTo>
                  <a:pt x="287338" y="110359"/>
                </a:lnTo>
                <a:lnTo>
                  <a:pt x="198545" y="178565"/>
                </a:lnTo>
                <a:lnTo>
                  <a:pt x="232461" y="288924"/>
                </a:lnTo>
                <a:lnTo>
                  <a:pt x="143669" y="220718"/>
                </a:lnTo>
                <a:lnTo>
                  <a:pt x="54877" y="288924"/>
                </a:lnTo>
                <a:lnTo>
                  <a:pt x="88793" y="178565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AutoShape 26"/>
          <p:cNvSpPr/>
          <p:nvPr/>
        </p:nvSpPr>
        <p:spPr>
          <a:xfrm>
            <a:off x="971640" y="4005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AutoShape 27"/>
          <p:cNvSpPr/>
          <p:nvPr/>
        </p:nvSpPr>
        <p:spPr>
          <a:xfrm>
            <a:off x="2770200" y="3500280"/>
            <a:ext cx="144360" cy="142920"/>
          </a:xfrm>
          <a:prstGeom prst="pi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AutoShape 28"/>
          <p:cNvSpPr/>
          <p:nvPr/>
        </p:nvSpPr>
        <p:spPr>
          <a:xfrm>
            <a:off x="8317080" y="551664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AutoShape 29"/>
          <p:cNvSpPr/>
          <p:nvPr/>
        </p:nvSpPr>
        <p:spPr>
          <a:xfrm>
            <a:off x="7596360" y="3573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AutoShape 30"/>
          <p:cNvSpPr/>
          <p:nvPr/>
        </p:nvSpPr>
        <p:spPr>
          <a:xfrm>
            <a:off x="3417840" y="4148280"/>
            <a:ext cx="144360" cy="142560"/>
          </a:xfrm>
          <a:custGeom>
            <a:avLst/>
            <a:gdLst>
              <a:gd name="textAreaLeft" fmla="*/ 44640 w 144360"/>
              <a:gd name="textAreaRight" fmla="*/ 99720 w 144360"/>
              <a:gd name="textAreaTop" fmla="*/ 54360 h 142560"/>
              <a:gd name="textAreaBottom" fmla="*/ 109080 h 14256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AutoShape 31"/>
          <p:cNvSpPr/>
          <p:nvPr/>
        </p:nvSpPr>
        <p:spPr>
          <a:xfrm>
            <a:off x="7020000" y="3213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AutoShape 32"/>
          <p:cNvSpPr/>
          <p:nvPr/>
        </p:nvSpPr>
        <p:spPr>
          <a:xfrm>
            <a:off x="7667640" y="407664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AutoShape 33"/>
          <p:cNvSpPr/>
          <p:nvPr/>
        </p:nvSpPr>
        <p:spPr>
          <a:xfrm>
            <a:off x="4500720" y="5445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AutoShape 34"/>
          <p:cNvSpPr/>
          <p:nvPr/>
        </p:nvSpPr>
        <p:spPr>
          <a:xfrm>
            <a:off x="3203640" y="59500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AutoShape 35"/>
          <p:cNvSpPr/>
          <p:nvPr/>
        </p:nvSpPr>
        <p:spPr>
          <a:xfrm>
            <a:off x="4643280" y="5157720"/>
            <a:ext cx="216000" cy="287280"/>
          </a:xfrm>
          <a:custGeom>
            <a:avLst/>
            <a:gdLst>
              <a:gd name="textAreaLeft" fmla="*/ 66600 w 216000"/>
              <a:gd name="textAreaRight" fmla="*/ 149400 w 216000"/>
              <a:gd name="textAreaTop" fmla="*/ 109800 h 287280"/>
              <a:gd name="textAreaBottom" fmla="*/ 219600 h 287280"/>
            </a:gdLst>
            <a:ahLst/>
            <a:rect l="textAreaLeft" t="textAreaTop" r="textAreaRight" b="textAreaBottom"/>
            <a:pathLst>
              <a:path w="215900" h="287337">
                <a:moveTo>
                  <a:pt x="0" y="109753"/>
                </a:moveTo>
                <a:lnTo>
                  <a:pt x="82467" y="109753"/>
                </a:lnTo>
                <a:lnTo>
                  <a:pt x="107950" y="0"/>
                </a:lnTo>
                <a:lnTo>
                  <a:pt x="133433" y="109753"/>
                </a:lnTo>
                <a:lnTo>
                  <a:pt x="215900" y="109753"/>
                </a:lnTo>
                <a:lnTo>
                  <a:pt x="149183" y="177583"/>
                </a:lnTo>
                <a:lnTo>
                  <a:pt x="174667" y="287336"/>
                </a:lnTo>
                <a:lnTo>
                  <a:pt x="107950" y="219504"/>
                </a:lnTo>
                <a:lnTo>
                  <a:pt x="41233" y="287336"/>
                </a:lnTo>
                <a:lnTo>
                  <a:pt x="66717" y="177583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AutoShape 36"/>
          <p:cNvSpPr/>
          <p:nvPr/>
        </p:nvSpPr>
        <p:spPr>
          <a:xfrm>
            <a:off x="6948360" y="573408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AutoShape 37"/>
          <p:cNvSpPr/>
          <p:nvPr/>
        </p:nvSpPr>
        <p:spPr>
          <a:xfrm>
            <a:off x="6877080" y="5300640"/>
            <a:ext cx="360360" cy="287280"/>
          </a:xfrm>
          <a:custGeom>
            <a:avLst/>
            <a:gdLst>
              <a:gd name="textAreaLeft" fmla="*/ 111240 w 360360"/>
              <a:gd name="textAreaRight" fmla="*/ 249120 w 360360"/>
              <a:gd name="textAreaTop" fmla="*/ 109800 h 287280"/>
              <a:gd name="textAreaBottom" fmla="*/ 219600 h 287280"/>
            </a:gdLst>
            <a:ahLst/>
            <a:rect l="textAreaLeft" t="textAreaTop" r="textAreaRight" b="textAreaBottom"/>
            <a:pathLst>
              <a:path w="360363" h="287337">
                <a:moveTo>
                  <a:pt x="0" y="109753"/>
                </a:moveTo>
                <a:lnTo>
                  <a:pt x="137647" y="109753"/>
                </a:lnTo>
                <a:lnTo>
                  <a:pt x="180182" y="0"/>
                </a:lnTo>
                <a:lnTo>
                  <a:pt x="222716" y="109753"/>
                </a:lnTo>
                <a:lnTo>
                  <a:pt x="360363" y="109753"/>
                </a:lnTo>
                <a:lnTo>
                  <a:pt x="249004" y="177583"/>
                </a:lnTo>
                <a:lnTo>
                  <a:pt x="291540" y="287336"/>
                </a:lnTo>
                <a:lnTo>
                  <a:pt x="180182" y="219504"/>
                </a:lnTo>
                <a:lnTo>
                  <a:pt x="68823" y="287336"/>
                </a:lnTo>
                <a:lnTo>
                  <a:pt x="111359" y="177583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AutoShape 38"/>
          <p:cNvSpPr/>
          <p:nvPr/>
        </p:nvSpPr>
        <p:spPr>
          <a:xfrm>
            <a:off x="684360" y="981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AutoShape 39"/>
          <p:cNvSpPr/>
          <p:nvPr/>
        </p:nvSpPr>
        <p:spPr>
          <a:xfrm>
            <a:off x="2268360" y="76500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AutoShape 40"/>
          <p:cNvSpPr/>
          <p:nvPr/>
        </p:nvSpPr>
        <p:spPr>
          <a:xfrm>
            <a:off x="2124000" y="765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AutoShape 41"/>
          <p:cNvSpPr/>
          <p:nvPr/>
        </p:nvSpPr>
        <p:spPr>
          <a:xfrm>
            <a:off x="3276720" y="1557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AutoShape 42"/>
          <p:cNvSpPr/>
          <p:nvPr/>
        </p:nvSpPr>
        <p:spPr>
          <a:xfrm>
            <a:off x="1690560" y="242100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AutoShape 43"/>
          <p:cNvSpPr/>
          <p:nvPr/>
        </p:nvSpPr>
        <p:spPr>
          <a:xfrm>
            <a:off x="8244000" y="90792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AutoShape 44"/>
          <p:cNvSpPr/>
          <p:nvPr/>
        </p:nvSpPr>
        <p:spPr>
          <a:xfrm>
            <a:off x="5651640" y="1484280"/>
            <a:ext cx="288720" cy="216000"/>
          </a:xfrm>
          <a:custGeom>
            <a:avLst/>
            <a:gdLst>
              <a:gd name="textAreaLeft" fmla="*/ 89280 w 288720"/>
              <a:gd name="textAreaRight" fmla="*/ 199440 w 288720"/>
              <a:gd name="textAreaTop" fmla="*/ 82440 h 216000"/>
              <a:gd name="textAreaBottom" fmla="*/ 165240 h 216000"/>
            </a:gdLst>
            <a:ahLst/>
            <a:rect l="textAreaLeft" t="textAreaTop" r="textAreaRight" b="textAreaBottom"/>
            <a:pathLst>
              <a:path w="288925" h="215900">
                <a:moveTo>
                  <a:pt x="0" y="82466"/>
                </a:moveTo>
                <a:lnTo>
                  <a:pt x="110360" y="82467"/>
                </a:lnTo>
                <a:lnTo>
                  <a:pt x="144463" y="0"/>
                </a:lnTo>
                <a:lnTo>
                  <a:pt x="178565" y="82467"/>
                </a:lnTo>
                <a:lnTo>
                  <a:pt x="288925" y="82466"/>
                </a:lnTo>
                <a:lnTo>
                  <a:pt x="199641" y="133433"/>
                </a:lnTo>
                <a:lnTo>
                  <a:pt x="233745" y="215899"/>
                </a:lnTo>
                <a:lnTo>
                  <a:pt x="144463" y="164932"/>
                </a:lnTo>
                <a:lnTo>
                  <a:pt x="55180" y="215899"/>
                </a:lnTo>
                <a:lnTo>
                  <a:pt x="89284" y="133433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AutoShape 45"/>
          <p:cNvSpPr/>
          <p:nvPr/>
        </p:nvSpPr>
        <p:spPr>
          <a:xfrm>
            <a:off x="8244000" y="62064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AutoShape 46"/>
          <p:cNvSpPr/>
          <p:nvPr/>
        </p:nvSpPr>
        <p:spPr>
          <a:xfrm>
            <a:off x="468360" y="6021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AutoShape 47"/>
          <p:cNvSpPr/>
          <p:nvPr/>
        </p:nvSpPr>
        <p:spPr>
          <a:xfrm>
            <a:off x="5867280" y="357336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AutoShape 48"/>
          <p:cNvSpPr/>
          <p:nvPr/>
        </p:nvSpPr>
        <p:spPr>
          <a:xfrm>
            <a:off x="5364000" y="155736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AutoShape 49"/>
          <p:cNvSpPr/>
          <p:nvPr/>
        </p:nvSpPr>
        <p:spPr>
          <a:xfrm>
            <a:off x="611280" y="6237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AutoShape 50"/>
          <p:cNvSpPr/>
          <p:nvPr/>
        </p:nvSpPr>
        <p:spPr>
          <a:xfrm>
            <a:off x="3417840" y="4148280"/>
            <a:ext cx="144360" cy="142560"/>
          </a:xfrm>
          <a:prstGeom prst="pi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AutoShape 51"/>
          <p:cNvSpPr/>
          <p:nvPr/>
        </p:nvSpPr>
        <p:spPr>
          <a:xfrm>
            <a:off x="3132000" y="573408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AutoShape 52"/>
          <p:cNvSpPr/>
          <p:nvPr/>
        </p:nvSpPr>
        <p:spPr>
          <a:xfrm>
            <a:off x="1619280" y="530064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AutoShape 53"/>
          <p:cNvSpPr/>
          <p:nvPr/>
        </p:nvSpPr>
        <p:spPr>
          <a:xfrm>
            <a:off x="4356000" y="522936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AutoShape 54"/>
          <p:cNvSpPr/>
          <p:nvPr/>
        </p:nvSpPr>
        <p:spPr>
          <a:xfrm>
            <a:off x="1476360" y="5516640"/>
            <a:ext cx="358920" cy="288720"/>
          </a:xfrm>
          <a:custGeom>
            <a:avLst/>
            <a:gdLst>
              <a:gd name="textAreaLeft" fmla="*/ 110880 w 358920"/>
              <a:gd name="textAreaRight" fmla="*/ 248040 w 358920"/>
              <a:gd name="textAreaTop" fmla="*/ 110160 h 288720"/>
              <a:gd name="textAreaBottom" fmla="*/ 220680 h 288720"/>
            </a:gdLst>
            <a:ahLst/>
            <a:rect l="textAreaLeft" t="textAreaTop" r="textAreaRight" b="textAreaBottom"/>
            <a:pathLst>
              <a:path w="358775" h="288925">
                <a:moveTo>
                  <a:pt x="0" y="110359"/>
                </a:moveTo>
                <a:lnTo>
                  <a:pt x="137041" y="110360"/>
                </a:lnTo>
                <a:lnTo>
                  <a:pt x="179388" y="0"/>
                </a:lnTo>
                <a:lnTo>
                  <a:pt x="221734" y="110360"/>
                </a:lnTo>
                <a:lnTo>
                  <a:pt x="358775" y="110359"/>
                </a:lnTo>
                <a:lnTo>
                  <a:pt x="247906" y="178565"/>
                </a:lnTo>
                <a:lnTo>
                  <a:pt x="290255" y="288924"/>
                </a:lnTo>
                <a:lnTo>
                  <a:pt x="179388" y="220718"/>
                </a:lnTo>
                <a:lnTo>
                  <a:pt x="68520" y="288924"/>
                </a:lnTo>
                <a:lnTo>
                  <a:pt x="110869" y="178565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AutoShape 55"/>
          <p:cNvSpPr/>
          <p:nvPr/>
        </p:nvSpPr>
        <p:spPr>
          <a:xfrm>
            <a:off x="4788000" y="515772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AutoShape 56"/>
          <p:cNvSpPr/>
          <p:nvPr/>
        </p:nvSpPr>
        <p:spPr>
          <a:xfrm>
            <a:off x="6516720" y="4797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AutoShape 57"/>
          <p:cNvSpPr/>
          <p:nvPr/>
        </p:nvSpPr>
        <p:spPr>
          <a:xfrm>
            <a:off x="5580000" y="57340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9" name="Picture 59" descr="mar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57680" y="1643040"/>
            <a:ext cx="364320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AutoShape 2"/>
          <p:cNvSpPr/>
          <p:nvPr/>
        </p:nvSpPr>
        <p:spPr>
          <a:xfrm>
            <a:off x="684360" y="6922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AutoShape 3"/>
          <p:cNvSpPr/>
          <p:nvPr/>
        </p:nvSpPr>
        <p:spPr>
          <a:xfrm>
            <a:off x="6227640" y="47628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AutoShape 4"/>
          <p:cNvSpPr/>
          <p:nvPr/>
        </p:nvSpPr>
        <p:spPr>
          <a:xfrm>
            <a:off x="3132000" y="141300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AutoShape 5"/>
          <p:cNvSpPr/>
          <p:nvPr/>
        </p:nvSpPr>
        <p:spPr>
          <a:xfrm>
            <a:off x="1908000" y="620640"/>
            <a:ext cx="287640" cy="216000"/>
          </a:xfrm>
          <a:custGeom>
            <a:avLst/>
            <a:gdLst>
              <a:gd name="textAreaLeft" fmla="*/ 88920 w 287640"/>
              <a:gd name="textAreaRight" fmla="*/ 198720 w 287640"/>
              <a:gd name="textAreaTop" fmla="*/ 82440 h 216000"/>
              <a:gd name="textAreaBottom" fmla="*/ 165240 h 216000"/>
            </a:gdLst>
            <a:ahLst/>
            <a:rect l="textAreaLeft" t="textAreaTop" r="textAreaRight" b="textAreaBottom"/>
            <a:pathLst>
              <a:path w="287338" h="215900">
                <a:moveTo>
                  <a:pt x="0" y="82466"/>
                </a:moveTo>
                <a:lnTo>
                  <a:pt x="109754" y="82467"/>
                </a:lnTo>
                <a:lnTo>
                  <a:pt x="143669" y="0"/>
                </a:lnTo>
                <a:lnTo>
                  <a:pt x="177584" y="82467"/>
                </a:lnTo>
                <a:lnTo>
                  <a:pt x="287338" y="82466"/>
                </a:lnTo>
                <a:lnTo>
                  <a:pt x="198545" y="133433"/>
                </a:lnTo>
                <a:lnTo>
                  <a:pt x="232461" y="215899"/>
                </a:lnTo>
                <a:lnTo>
                  <a:pt x="143669" y="164932"/>
                </a:lnTo>
                <a:lnTo>
                  <a:pt x="54877" y="215899"/>
                </a:lnTo>
                <a:lnTo>
                  <a:pt x="88793" y="133433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AutoShape 6"/>
          <p:cNvSpPr/>
          <p:nvPr/>
        </p:nvSpPr>
        <p:spPr>
          <a:xfrm>
            <a:off x="6732720" y="1125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AutoShape 7"/>
          <p:cNvSpPr/>
          <p:nvPr/>
        </p:nvSpPr>
        <p:spPr>
          <a:xfrm>
            <a:off x="4932360" y="4762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AutoShape 8"/>
          <p:cNvSpPr/>
          <p:nvPr/>
        </p:nvSpPr>
        <p:spPr>
          <a:xfrm>
            <a:off x="7236000" y="1413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AutoShape 9"/>
          <p:cNvSpPr/>
          <p:nvPr/>
        </p:nvSpPr>
        <p:spPr>
          <a:xfrm>
            <a:off x="1042920" y="1773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AutoShape 10"/>
          <p:cNvSpPr/>
          <p:nvPr/>
        </p:nvSpPr>
        <p:spPr>
          <a:xfrm>
            <a:off x="2124000" y="1268280"/>
            <a:ext cx="289080" cy="289080"/>
          </a:xfrm>
          <a:custGeom>
            <a:avLst/>
            <a:gdLst>
              <a:gd name="textAreaLeft" fmla="*/ 89280 w 289080"/>
              <a:gd name="textAreaRight" fmla="*/ 199800 w 289080"/>
              <a:gd name="textAreaTop" fmla="*/ 110520 h 289080"/>
              <a:gd name="textAreaBottom" fmla="*/ 221040 h 289080"/>
            </a:gdLst>
            <a:ahLst/>
            <a:rect l="textAreaLeft" t="textAreaTop" r="textAreaRight" b="textAreaBottom"/>
            <a:pathLst>
              <a:path w="288925" h="288925">
                <a:moveTo>
                  <a:pt x="0" y="110359"/>
                </a:moveTo>
                <a:lnTo>
                  <a:pt x="110360" y="110360"/>
                </a:lnTo>
                <a:lnTo>
                  <a:pt x="144463" y="0"/>
                </a:lnTo>
                <a:lnTo>
                  <a:pt x="178565" y="110360"/>
                </a:lnTo>
                <a:lnTo>
                  <a:pt x="288925" y="110359"/>
                </a:lnTo>
                <a:lnTo>
                  <a:pt x="199641" y="178565"/>
                </a:lnTo>
                <a:lnTo>
                  <a:pt x="233745" y="288924"/>
                </a:lnTo>
                <a:lnTo>
                  <a:pt x="144463" y="220718"/>
                </a:lnTo>
                <a:lnTo>
                  <a:pt x="55180" y="288924"/>
                </a:lnTo>
                <a:lnTo>
                  <a:pt x="89284" y="178565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AutoShape 11"/>
          <p:cNvSpPr/>
          <p:nvPr/>
        </p:nvSpPr>
        <p:spPr>
          <a:xfrm>
            <a:off x="1547640" y="177336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755640" y="3789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AutoShape 13"/>
          <p:cNvSpPr/>
          <p:nvPr/>
        </p:nvSpPr>
        <p:spPr>
          <a:xfrm>
            <a:off x="3924360" y="765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AutoShape 14"/>
          <p:cNvSpPr/>
          <p:nvPr/>
        </p:nvSpPr>
        <p:spPr>
          <a:xfrm>
            <a:off x="8172360" y="314172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AutoShape 15"/>
          <p:cNvSpPr/>
          <p:nvPr/>
        </p:nvSpPr>
        <p:spPr>
          <a:xfrm>
            <a:off x="7308720" y="580536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AutoShape 16"/>
          <p:cNvSpPr/>
          <p:nvPr/>
        </p:nvSpPr>
        <p:spPr>
          <a:xfrm>
            <a:off x="1332000" y="530064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AutoShape 17"/>
          <p:cNvSpPr/>
          <p:nvPr/>
        </p:nvSpPr>
        <p:spPr>
          <a:xfrm>
            <a:off x="900000" y="83664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AutoShape 18"/>
          <p:cNvSpPr/>
          <p:nvPr/>
        </p:nvSpPr>
        <p:spPr>
          <a:xfrm>
            <a:off x="250920" y="2349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AutoShape 19"/>
          <p:cNvSpPr/>
          <p:nvPr/>
        </p:nvSpPr>
        <p:spPr>
          <a:xfrm>
            <a:off x="4067280" y="90792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AutoShape 20"/>
          <p:cNvSpPr/>
          <p:nvPr/>
        </p:nvSpPr>
        <p:spPr>
          <a:xfrm>
            <a:off x="5508720" y="12682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AutoShape 21"/>
          <p:cNvSpPr/>
          <p:nvPr/>
        </p:nvSpPr>
        <p:spPr>
          <a:xfrm>
            <a:off x="8028000" y="1989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AutoShape 22"/>
          <p:cNvSpPr/>
          <p:nvPr/>
        </p:nvSpPr>
        <p:spPr>
          <a:xfrm>
            <a:off x="1979640" y="35002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AutoShape 23"/>
          <p:cNvSpPr/>
          <p:nvPr/>
        </p:nvSpPr>
        <p:spPr>
          <a:xfrm>
            <a:off x="5148360" y="29242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AutoShape 24"/>
          <p:cNvSpPr/>
          <p:nvPr/>
        </p:nvSpPr>
        <p:spPr>
          <a:xfrm>
            <a:off x="1332000" y="3284640"/>
            <a:ext cx="287280" cy="217440"/>
          </a:xfrm>
          <a:custGeom>
            <a:avLst/>
            <a:gdLst>
              <a:gd name="textAreaLeft" fmla="*/ 88560 w 287280"/>
              <a:gd name="textAreaRight" fmla="*/ 198720 w 287280"/>
              <a:gd name="textAreaTop" fmla="*/ 83160 h 217440"/>
              <a:gd name="textAreaBottom" fmla="*/ 166320 h 217440"/>
            </a:gdLst>
            <a:ahLst/>
            <a:rect l="textAreaLeft" t="textAreaTop" r="textAreaRight" b="textAreaBottom"/>
            <a:pathLst>
              <a:path w="287337" h="217487">
                <a:moveTo>
                  <a:pt x="0" y="83072"/>
                </a:moveTo>
                <a:lnTo>
                  <a:pt x="109754" y="83073"/>
                </a:lnTo>
                <a:lnTo>
                  <a:pt x="143669" y="0"/>
                </a:lnTo>
                <a:lnTo>
                  <a:pt x="177583" y="83073"/>
                </a:lnTo>
                <a:lnTo>
                  <a:pt x="287337" y="83072"/>
                </a:lnTo>
                <a:lnTo>
                  <a:pt x="198544" y="134414"/>
                </a:lnTo>
                <a:lnTo>
                  <a:pt x="232461" y="217486"/>
                </a:lnTo>
                <a:lnTo>
                  <a:pt x="143669" y="166144"/>
                </a:lnTo>
                <a:lnTo>
                  <a:pt x="54876" y="217486"/>
                </a:lnTo>
                <a:lnTo>
                  <a:pt x="88793" y="134414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AutoShape 25"/>
          <p:cNvSpPr/>
          <p:nvPr/>
        </p:nvSpPr>
        <p:spPr>
          <a:xfrm>
            <a:off x="8388360" y="692280"/>
            <a:ext cx="287280" cy="288720"/>
          </a:xfrm>
          <a:custGeom>
            <a:avLst/>
            <a:gdLst>
              <a:gd name="textAreaLeft" fmla="*/ 88560 w 287280"/>
              <a:gd name="textAreaRight" fmla="*/ 198720 w 287280"/>
              <a:gd name="textAreaTop" fmla="*/ 110160 h 288720"/>
              <a:gd name="textAreaBottom" fmla="*/ 220680 h 288720"/>
            </a:gdLst>
            <a:ahLst/>
            <a:rect l="textAreaLeft" t="textAreaTop" r="textAreaRight" b="textAreaBottom"/>
            <a:pathLst>
              <a:path w="287338" h="288925">
                <a:moveTo>
                  <a:pt x="0" y="110359"/>
                </a:moveTo>
                <a:lnTo>
                  <a:pt x="109754" y="110360"/>
                </a:lnTo>
                <a:lnTo>
                  <a:pt x="143669" y="0"/>
                </a:lnTo>
                <a:lnTo>
                  <a:pt x="177584" y="110360"/>
                </a:lnTo>
                <a:lnTo>
                  <a:pt x="287338" y="110359"/>
                </a:lnTo>
                <a:lnTo>
                  <a:pt x="198545" y="178565"/>
                </a:lnTo>
                <a:lnTo>
                  <a:pt x="232461" y="288924"/>
                </a:lnTo>
                <a:lnTo>
                  <a:pt x="143669" y="220718"/>
                </a:lnTo>
                <a:lnTo>
                  <a:pt x="54877" y="288924"/>
                </a:lnTo>
                <a:lnTo>
                  <a:pt x="88793" y="178565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AutoShape 26"/>
          <p:cNvSpPr/>
          <p:nvPr/>
        </p:nvSpPr>
        <p:spPr>
          <a:xfrm>
            <a:off x="971640" y="4005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AutoShape 27"/>
          <p:cNvSpPr/>
          <p:nvPr/>
        </p:nvSpPr>
        <p:spPr>
          <a:xfrm>
            <a:off x="2770200" y="3500280"/>
            <a:ext cx="144360" cy="142920"/>
          </a:xfrm>
          <a:prstGeom prst="pi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AutoShape 28"/>
          <p:cNvSpPr/>
          <p:nvPr/>
        </p:nvSpPr>
        <p:spPr>
          <a:xfrm>
            <a:off x="8317080" y="551664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AutoShape 29"/>
          <p:cNvSpPr/>
          <p:nvPr/>
        </p:nvSpPr>
        <p:spPr>
          <a:xfrm>
            <a:off x="7596360" y="3573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AutoShape 30"/>
          <p:cNvSpPr/>
          <p:nvPr/>
        </p:nvSpPr>
        <p:spPr>
          <a:xfrm>
            <a:off x="3417840" y="4148280"/>
            <a:ext cx="144360" cy="142560"/>
          </a:xfrm>
          <a:custGeom>
            <a:avLst/>
            <a:gdLst>
              <a:gd name="textAreaLeft" fmla="*/ 44640 w 144360"/>
              <a:gd name="textAreaRight" fmla="*/ 99720 w 144360"/>
              <a:gd name="textAreaTop" fmla="*/ 54360 h 142560"/>
              <a:gd name="textAreaBottom" fmla="*/ 109080 h 14256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AutoShape 31"/>
          <p:cNvSpPr/>
          <p:nvPr/>
        </p:nvSpPr>
        <p:spPr>
          <a:xfrm>
            <a:off x="7020000" y="3213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AutoShape 32"/>
          <p:cNvSpPr/>
          <p:nvPr/>
        </p:nvSpPr>
        <p:spPr>
          <a:xfrm>
            <a:off x="7667640" y="407664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AutoShape 33"/>
          <p:cNvSpPr/>
          <p:nvPr/>
        </p:nvSpPr>
        <p:spPr>
          <a:xfrm>
            <a:off x="4500720" y="5445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AutoShape 34"/>
          <p:cNvSpPr/>
          <p:nvPr/>
        </p:nvSpPr>
        <p:spPr>
          <a:xfrm>
            <a:off x="3203640" y="59500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AutoShape 35"/>
          <p:cNvSpPr/>
          <p:nvPr/>
        </p:nvSpPr>
        <p:spPr>
          <a:xfrm>
            <a:off x="4643280" y="5157720"/>
            <a:ext cx="216000" cy="287280"/>
          </a:xfrm>
          <a:custGeom>
            <a:avLst/>
            <a:gdLst>
              <a:gd name="textAreaLeft" fmla="*/ 66600 w 216000"/>
              <a:gd name="textAreaRight" fmla="*/ 149400 w 216000"/>
              <a:gd name="textAreaTop" fmla="*/ 109800 h 287280"/>
              <a:gd name="textAreaBottom" fmla="*/ 219600 h 287280"/>
            </a:gdLst>
            <a:ahLst/>
            <a:rect l="textAreaLeft" t="textAreaTop" r="textAreaRight" b="textAreaBottom"/>
            <a:pathLst>
              <a:path w="215900" h="287337">
                <a:moveTo>
                  <a:pt x="0" y="109753"/>
                </a:moveTo>
                <a:lnTo>
                  <a:pt x="82467" y="109753"/>
                </a:lnTo>
                <a:lnTo>
                  <a:pt x="107950" y="0"/>
                </a:lnTo>
                <a:lnTo>
                  <a:pt x="133433" y="109753"/>
                </a:lnTo>
                <a:lnTo>
                  <a:pt x="215900" y="109753"/>
                </a:lnTo>
                <a:lnTo>
                  <a:pt x="149183" y="177583"/>
                </a:lnTo>
                <a:lnTo>
                  <a:pt x="174667" y="287336"/>
                </a:lnTo>
                <a:lnTo>
                  <a:pt x="107950" y="219504"/>
                </a:lnTo>
                <a:lnTo>
                  <a:pt x="41233" y="287336"/>
                </a:lnTo>
                <a:lnTo>
                  <a:pt x="66717" y="177583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AutoShape 36"/>
          <p:cNvSpPr/>
          <p:nvPr/>
        </p:nvSpPr>
        <p:spPr>
          <a:xfrm>
            <a:off x="6948360" y="573408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AutoShape 37"/>
          <p:cNvSpPr/>
          <p:nvPr/>
        </p:nvSpPr>
        <p:spPr>
          <a:xfrm>
            <a:off x="6877080" y="5300640"/>
            <a:ext cx="360360" cy="287280"/>
          </a:xfrm>
          <a:custGeom>
            <a:avLst/>
            <a:gdLst>
              <a:gd name="textAreaLeft" fmla="*/ 111240 w 360360"/>
              <a:gd name="textAreaRight" fmla="*/ 249120 w 360360"/>
              <a:gd name="textAreaTop" fmla="*/ 109800 h 287280"/>
              <a:gd name="textAreaBottom" fmla="*/ 219600 h 287280"/>
            </a:gdLst>
            <a:ahLst/>
            <a:rect l="textAreaLeft" t="textAreaTop" r="textAreaRight" b="textAreaBottom"/>
            <a:pathLst>
              <a:path w="360363" h="287337">
                <a:moveTo>
                  <a:pt x="0" y="109753"/>
                </a:moveTo>
                <a:lnTo>
                  <a:pt x="137647" y="109753"/>
                </a:lnTo>
                <a:lnTo>
                  <a:pt x="180182" y="0"/>
                </a:lnTo>
                <a:lnTo>
                  <a:pt x="222716" y="109753"/>
                </a:lnTo>
                <a:lnTo>
                  <a:pt x="360363" y="109753"/>
                </a:lnTo>
                <a:lnTo>
                  <a:pt x="249004" y="177583"/>
                </a:lnTo>
                <a:lnTo>
                  <a:pt x="291540" y="287336"/>
                </a:lnTo>
                <a:lnTo>
                  <a:pt x="180182" y="219504"/>
                </a:lnTo>
                <a:lnTo>
                  <a:pt x="68823" y="287336"/>
                </a:lnTo>
                <a:lnTo>
                  <a:pt x="111359" y="177583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AutoShape 38"/>
          <p:cNvSpPr/>
          <p:nvPr/>
        </p:nvSpPr>
        <p:spPr>
          <a:xfrm>
            <a:off x="684360" y="981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AutoShape 39"/>
          <p:cNvSpPr/>
          <p:nvPr/>
        </p:nvSpPr>
        <p:spPr>
          <a:xfrm>
            <a:off x="2268360" y="76500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AutoShape 40"/>
          <p:cNvSpPr/>
          <p:nvPr/>
        </p:nvSpPr>
        <p:spPr>
          <a:xfrm>
            <a:off x="2124000" y="765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AutoShape 41"/>
          <p:cNvSpPr/>
          <p:nvPr/>
        </p:nvSpPr>
        <p:spPr>
          <a:xfrm>
            <a:off x="3276720" y="1557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AutoShape 42"/>
          <p:cNvSpPr/>
          <p:nvPr/>
        </p:nvSpPr>
        <p:spPr>
          <a:xfrm>
            <a:off x="1690560" y="242100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AutoShape 43"/>
          <p:cNvSpPr/>
          <p:nvPr/>
        </p:nvSpPr>
        <p:spPr>
          <a:xfrm>
            <a:off x="8244000" y="90792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AutoShape 44"/>
          <p:cNvSpPr/>
          <p:nvPr/>
        </p:nvSpPr>
        <p:spPr>
          <a:xfrm>
            <a:off x="5651640" y="1484280"/>
            <a:ext cx="288720" cy="216000"/>
          </a:xfrm>
          <a:custGeom>
            <a:avLst/>
            <a:gdLst>
              <a:gd name="textAreaLeft" fmla="*/ 89280 w 288720"/>
              <a:gd name="textAreaRight" fmla="*/ 199440 w 288720"/>
              <a:gd name="textAreaTop" fmla="*/ 82440 h 216000"/>
              <a:gd name="textAreaBottom" fmla="*/ 165240 h 216000"/>
            </a:gdLst>
            <a:ahLst/>
            <a:rect l="textAreaLeft" t="textAreaTop" r="textAreaRight" b="textAreaBottom"/>
            <a:pathLst>
              <a:path w="288925" h="215900">
                <a:moveTo>
                  <a:pt x="0" y="82466"/>
                </a:moveTo>
                <a:lnTo>
                  <a:pt x="110360" y="82467"/>
                </a:lnTo>
                <a:lnTo>
                  <a:pt x="144463" y="0"/>
                </a:lnTo>
                <a:lnTo>
                  <a:pt x="178565" y="82467"/>
                </a:lnTo>
                <a:lnTo>
                  <a:pt x="288925" y="82466"/>
                </a:lnTo>
                <a:lnTo>
                  <a:pt x="199641" y="133433"/>
                </a:lnTo>
                <a:lnTo>
                  <a:pt x="233745" y="215899"/>
                </a:lnTo>
                <a:lnTo>
                  <a:pt x="144463" y="164932"/>
                </a:lnTo>
                <a:lnTo>
                  <a:pt x="55180" y="215899"/>
                </a:lnTo>
                <a:lnTo>
                  <a:pt x="89284" y="133433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AutoShape 45"/>
          <p:cNvSpPr/>
          <p:nvPr/>
        </p:nvSpPr>
        <p:spPr>
          <a:xfrm>
            <a:off x="8244000" y="62064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AutoShape 46"/>
          <p:cNvSpPr/>
          <p:nvPr/>
        </p:nvSpPr>
        <p:spPr>
          <a:xfrm>
            <a:off x="468360" y="6021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AutoShape 47"/>
          <p:cNvSpPr/>
          <p:nvPr/>
        </p:nvSpPr>
        <p:spPr>
          <a:xfrm>
            <a:off x="5867280" y="357336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6" name="AutoShape 48"/>
          <p:cNvSpPr/>
          <p:nvPr/>
        </p:nvSpPr>
        <p:spPr>
          <a:xfrm>
            <a:off x="5364000" y="155736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AutoShape 49"/>
          <p:cNvSpPr/>
          <p:nvPr/>
        </p:nvSpPr>
        <p:spPr>
          <a:xfrm>
            <a:off x="611280" y="6237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AutoShape 50"/>
          <p:cNvSpPr/>
          <p:nvPr/>
        </p:nvSpPr>
        <p:spPr>
          <a:xfrm>
            <a:off x="3417840" y="4148280"/>
            <a:ext cx="144360" cy="142560"/>
          </a:xfrm>
          <a:prstGeom prst="pi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AutoShape 51"/>
          <p:cNvSpPr/>
          <p:nvPr/>
        </p:nvSpPr>
        <p:spPr>
          <a:xfrm>
            <a:off x="3132000" y="573408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AutoShape 52"/>
          <p:cNvSpPr/>
          <p:nvPr/>
        </p:nvSpPr>
        <p:spPr>
          <a:xfrm>
            <a:off x="1619280" y="530064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1" name="AutoShape 53"/>
          <p:cNvSpPr/>
          <p:nvPr/>
        </p:nvSpPr>
        <p:spPr>
          <a:xfrm>
            <a:off x="4356000" y="522936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AutoShape 54"/>
          <p:cNvSpPr/>
          <p:nvPr/>
        </p:nvSpPr>
        <p:spPr>
          <a:xfrm>
            <a:off x="1258920" y="5661000"/>
            <a:ext cx="358920" cy="289080"/>
          </a:xfrm>
          <a:custGeom>
            <a:avLst/>
            <a:gdLst>
              <a:gd name="textAreaLeft" fmla="*/ 110880 w 358920"/>
              <a:gd name="textAreaRight" fmla="*/ 248040 w 358920"/>
              <a:gd name="textAreaTop" fmla="*/ 110520 h 289080"/>
              <a:gd name="textAreaBottom" fmla="*/ 221040 h 289080"/>
            </a:gdLst>
            <a:ahLst/>
            <a:rect l="textAreaLeft" t="textAreaTop" r="textAreaRight" b="textAreaBottom"/>
            <a:pathLst>
              <a:path w="358775" h="288925">
                <a:moveTo>
                  <a:pt x="0" y="110359"/>
                </a:moveTo>
                <a:lnTo>
                  <a:pt x="137041" y="110360"/>
                </a:lnTo>
                <a:lnTo>
                  <a:pt x="179388" y="0"/>
                </a:lnTo>
                <a:lnTo>
                  <a:pt x="221734" y="110360"/>
                </a:lnTo>
                <a:lnTo>
                  <a:pt x="358775" y="110359"/>
                </a:lnTo>
                <a:lnTo>
                  <a:pt x="247906" y="178565"/>
                </a:lnTo>
                <a:lnTo>
                  <a:pt x="290255" y="288924"/>
                </a:lnTo>
                <a:lnTo>
                  <a:pt x="179388" y="220718"/>
                </a:lnTo>
                <a:lnTo>
                  <a:pt x="68520" y="288924"/>
                </a:lnTo>
                <a:lnTo>
                  <a:pt x="110869" y="178565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AutoShape 55"/>
          <p:cNvSpPr/>
          <p:nvPr/>
        </p:nvSpPr>
        <p:spPr>
          <a:xfrm>
            <a:off x="4788000" y="515772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AutoShape 56"/>
          <p:cNvSpPr/>
          <p:nvPr/>
        </p:nvSpPr>
        <p:spPr>
          <a:xfrm>
            <a:off x="6516720" y="4797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AutoShape 57"/>
          <p:cNvSpPr/>
          <p:nvPr/>
        </p:nvSpPr>
        <p:spPr>
          <a:xfrm>
            <a:off x="5580000" y="57340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26" name="Picture 59" descr="pia02873-1280-10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2960" y="571680"/>
            <a:ext cx="7732800" cy="61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AutoShape 2"/>
          <p:cNvSpPr/>
          <p:nvPr/>
        </p:nvSpPr>
        <p:spPr>
          <a:xfrm>
            <a:off x="684360" y="6922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8" name="AutoShape 3"/>
          <p:cNvSpPr/>
          <p:nvPr/>
        </p:nvSpPr>
        <p:spPr>
          <a:xfrm>
            <a:off x="6227640" y="47628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AutoShape 4"/>
          <p:cNvSpPr/>
          <p:nvPr/>
        </p:nvSpPr>
        <p:spPr>
          <a:xfrm>
            <a:off x="3132000" y="141300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AutoShape 5"/>
          <p:cNvSpPr/>
          <p:nvPr/>
        </p:nvSpPr>
        <p:spPr>
          <a:xfrm>
            <a:off x="1908000" y="620640"/>
            <a:ext cx="287640" cy="216000"/>
          </a:xfrm>
          <a:custGeom>
            <a:avLst/>
            <a:gdLst>
              <a:gd name="textAreaLeft" fmla="*/ 88920 w 287640"/>
              <a:gd name="textAreaRight" fmla="*/ 198720 w 287640"/>
              <a:gd name="textAreaTop" fmla="*/ 82440 h 216000"/>
              <a:gd name="textAreaBottom" fmla="*/ 165240 h 216000"/>
            </a:gdLst>
            <a:ahLst/>
            <a:rect l="textAreaLeft" t="textAreaTop" r="textAreaRight" b="textAreaBottom"/>
            <a:pathLst>
              <a:path w="287338" h="215900">
                <a:moveTo>
                  <a:pt x="0" y="82466"/>
                </a:moveTo>
                <a:lnTo>
                  <a:pt x="109754" y="82467"/>
                </a:lnTo>
                <a:lnTo>
                  <a:pt x="143669" y="0"/>
                </a:lnTo>
                <a:lnTo>
                  <a:pt x="177584" y="82467"/>
                </a:lnTo>
                <a:lnTo>
                  <a:pt x="287338" y="82466"/>
                </a:lnTo>
                <a:lnTo>
                  <a:pt x="198545" y="133433"/>
                </a:lnTo>
                <a:lnTo>
                  <a:pt x="232461" y="215899"/>
                </a:lnTo>
                <a:lnTo>
                  <a:pt x="143669" y="164932"/>
                </a:lnTo>
                <a:lnTo>
                  <a:pt x="54877" y="215899"/>
                </a:lnTo>
                <a:lnTo>
                  <a:pt x="88793" y="133433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AutoShape 6"/>
          <p:cNvSpPr/>
          <p:nvPr/>
        </p:nvSpPr>
        <p:spPr>
          <a:xfrm>
            <a:off x="6732720" y="1125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2" name="AutoShape 7"/>
          <p:cNvSpPr/>
          <p:nvPr/>
        </p:nvSpPr>
        <p:spPr>
          <a:xfrm>
            <a:off x="4932360" y="4762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3" name="AutoShape 8"/>
          <p:cNvSpPr/>
          <p:nvPr/>
        </p:nvSpPr>
        <p:spPr>
          <a:xfrm>
            <a:off x="7236000" y="1413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AutoShape 9"/>
          <p:cNvSpPr/>
          <p:nvPr/>
        </p:nvSpPr>
        <p:spPr>
          <a:xfrm>
            <a:off x="1042920" y="1773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AutoShape 10"/>
          <p:cNvSpPr/>
          <p:nvPr/>
        </p:nvSpPr>
        <p:spPr>
          <a:xfrm>
            <a:off x="2124000" y="1268280"/>
            <a:ext cx="289080" cy="289080"/>
          </a:xfrm>
          <a:custGeom>
            <a:avLst/>
            <a:gdLst>
              <a:gd name="textAreaLeft" fmla="*/ 89280 w 289080"/>
              <a:gd name="textAreaRight" fmla="*/ 199800 w 289080"/>
              <a:gd name="textAreaTop" fmla="*/ 110520 h 289080"/>
              <a:gd name="textAreaBottom" fmla="*/ 221040 h 289080"/>
            </a:gdLst>
            <a:ahLst/>
            <a:rect l="textAreaLeft" t="textAreaTop" r="textAreaRight" b="textAreaBottom"/>
            <a:pathLst>
              <a:path w="288925" h="288925">
                <a:moveTo>
                  <a:pt x="0" y="110359"/>
                </a:moveTo>
                <a:lnTo>
                  <a:pt x="110360" y="110360"/>
                </a:lnTo>
                <a:lnTo>
                  <a:pt x="144463" y="0"/>
                </a:lnTo>
                <a:lnTo>
                  <a:pt x="178565" y="110360"/>
                </a:lnTo>
                <a:lnTo>
                  <a:pt x="288925" y="110359"/>
                </a:lnTo>
                <a:lnTo>
                  <a:pt x="199641" y="178565"/>
                </a:lnTo>
                <a:lnTo>
                  <a:pt x="233745" y="288924"/>
                </a:lnTo>
                <a:lnTo>
                  <a:pt x="144463" y="220718"/>
                </a:lnTo>
                <a:lnTo>
                  <a:pt x="55180" y="288924"/>
                </a:lnTo>
                <a:lnTo>
                  <a:pt x="89284" y="178565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AutoShape 11"/>
          <p:cNvSpPr/>
          <p:nvPr/>
        </p:nvSpPr>
        <p:spPr>
          <a:xfrm>
            <a:off x="1547640" y="177336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AutoShape 12"/>
          <p:cNvSpPr/>
          <p:nvPr/>
        </p:nvSpPr>
        <p:spPr>
          <a:xfrm>
            <a:off x="755640" y="3789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AutoShape 13"/>
          <p:cNvSpPr/>
          <p:nvPr/>
        </p:nvSpPr>
        <p:spPr>
          <a:xfrm>
            <a:off x="3924360" y="765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AutoShape 14"/>
          <p:cNvSpPr/>
          <p:nvPr/>
        </p:nvSpPr>
        <p:spPr>
          <a:xfrm>
            <a:off x="8172360" y="314172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AutoShape 15"/>
          <p:cNvSpPr/>
          <p:nvPr/>
        </p:nvSpPr>
        <p:spPr>
          <a:xfrm>
            <a:off x="7308720" y="580536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AutoShape 16"/>
          <p:cNvSpPr/>
          <p:nvPr/>
        </p:nvSpPr>
        <p:spPr>
          <a:xfrm>
            <a:off x="1332000" y="530064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2" name="AutoShape 17"/>
          <p:cNvSpPr/>
          <p:nvPr/>
        </p:nvSpPr>
        <p:spPr>
          <a:xfrm>
            <a:off x="900000" y="83664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AutoShape 18"/>
          <p:cNvSpPr/>
          <p:nvPr/>
        </p:nvSpPr>
        <p:spPr>
          <a:xfrm>
            <a:off x="250920" y="2349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AutoShape 19"/>
          <p:cNvSpPr/>
          <p:nvPr/>
        </p:nvSpPr>
        <p:spPr>
          <a:xfrm>
            <a:off x="4067280" y="90792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AutoShape 20"/>
          <p:cNvSpPr/>
          <p:nvPr/>
        </p:nvSpPr>
        <p:spPr>
          <a:xfrm>
            <a:off x="5508720" y="12682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AutoShape 21"/>
          <p:cNvSpPr/>
          <p:nvPr/>
        </p:nvSpPr>
        <p:spPr>
          <a:xfrm>
            <a:off x="8028000" y="1989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AutoShape 22"/>
          <p:cNvSpPr/>
          <p:nvPr/>
        </p:nvSpPr>
        <p:spPr>
          <a:xfrm>
            <a:off x="1979640" y="35002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AutoShape 23"/>
          <p:cNvSpPr/>
          <p:nvPr/>
        </p:nvSpPr>
        <p:spPr>
          <a:xfrm>
            <a:off x="5148360" y="29242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AutoShape 24"/>
          <p:cNvSpPr/>
          <p:nvPr/>
        </p:nvSpPr>
        <p:spPr>
          <a:xfrm>
            <a:off x="1332000" y="3284640"/>
            <a:ext cx="287280" cy="217440"/>
          </a:xfrm>
          <a:custGeom>
            <a:avLst/>
            <a:gdLst>
              <a:gd name="textAreaLeft" fmla="*/ 88560 w 287280"/>
              <a:gd name="textAreaRight" fmla="*/ 198720 w 287280"/>
              <a:gd name="textAreaTop" fmla="*/ 83160 h 217440"/>
              <a:gd name="textAreaBottom" fmla="*/ 166320 h 217440"/>
            </a:gdLst>
            <a:ahLst/>
            <a:rect l="textAreaLeft" t="textAreaTop" r="textAreaRight" b="textAreaBottom"/>
            <a:pathLst>
              <a:path w="287337" h="217487">
                <a:moveTo>
                  <a:pt x="0" y="83072"/>
                </a:moveTo>
                <a:lnTo>
                  <a:pt x="109754" y="83073"/>
                </a:lnTo>
                <a:lnTo>
                  <a:pt x="143669" y="0"/>
                </a:lnTo>
                <a:lnTo>
                  <a:pt x="177583" y="83073"/>
                </a:lnTo>
                <a:lnTo>
                  <a:pt x="287337" y="83072"/>
                </a:lnTo>
                <a:lnTo>
                  <a:pt x="198544" y="134414"/>
                </a:lnTo>
                <a:lnTo>
                  <a:pt x="232461" y="217486"/>
                </a:lnTo>
                <a:lnTo>
                  <a:pt x="143669" y="166144"/>
                </a:lnTo>
                <a:lnTo>
                  <a:pt x="54876" y="217486"/>
                </a:lnTo>
                <a:lnTo>
                  <a:pt x="88793" y="134414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AutoShape 25"/>
          <p:cNvSpPr/>
          <p:nvPr/>
        </p:nvSpPr>
        <p:spPr>
          <a:xfrm>
            <a:off x="8388360" y="692280"/>
            <a:ext cx="287280" cy="288720"/>
          </a:xfrm>
          <a:custGeom>
            <a:avLst/>
            <a:gdLst>
              <a:gd name="textAreaLeft" fmla="*/ 88560 w 287280"/>
              <a:gd name="textAreaRight" fmla="*/ 198720 w 287280"/>
              <a:gd name="textAreaTop" fmla="*/ 110160 h 288720"/>
              <a:gd name="textAreaBottom" fmla="*/ 220680 h 288720"/>
            </a:gdLst>
            <a:ahLst/>
            <a:rect l="textAreaLeft" t="textAreaTop" r="textAreaRight" b="textAreaBottom"/>
            <a:pathLst>
              <a:path w="287338" h="288925">
                <a:moveTo>
                  <a:pt x="0" y="110359"/>
                </a:moveTo>
                <a:lnTo>
                  <a:pt x="109754" y="110360"/>
                </a:lnTo>
                <a:lnTo>
                  <a:pt x="143669" y="0"/>
                </a:lnTo>
                <a:lnTo>
                  <a:pt x="177584" y="110360"/>
                </a:lnTo>
                <a:lnTo>
                  <a:pt x="287338" y="110359"/>
                </a:lnTo>
                <a:lnTo>
                  <a:pt x="198545" y="178565"/>
                </a:lnTo>
                <a:lnTo>
                  <a:pt x="232461" y="288924"/>
                </a:lnTo>
                <a:lnTo>
                  <a:pt x="143669" y="220718"/>
                </a:lnTo>
                <a:lnTo>
                  <a:pt x="54877" y="288924"/>
                </a:lnTo>
                <a:lnTo>
                  <a:pt x="88793" y="178565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AutoShape 26"/>
          <p:cNvSpPr/>
          <p:nvPr/>
        </p:nvSpPr>
        <p:spPr>
          <a:xfrm>
            <a:off x="971640" y="4005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AutoShape 27"/>
          <p:cNvSpPr/>
          <p:nvPr/>
        </p:nvSpPr>
        <p:spPr>
          <a:xfrm>
            <a:off x="2770200" y="3500280"/>
            <a:ext cx="144360" cy="142920"/>
          </a:xfrm>
          <a:prstGeom prst="pi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AutoShape 28"/>
          <p:cNvSpPr/>
          <p:nvPr/>
        </p:nvSpPr>
        <p:spPr>
          <a:xfrm>
            <a:off x="8317080" y="551664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AutoShape 29"/>
          <p:cNvSpPr/>
          <p:nvPr/>
        </p:nvSpPr>
        <p:spPr>
          <a:xfrm>
            <a:off x="7596360" y="3573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AutoShape 30"/>
          <p:cNvSpPr/>
          <p:nvPr/>
        </p:nvSpPr>
        <p:spPr>
          <a:xfrm>
            <a:off x="3417840" y="4148280"/>
            <a:ext cx="144360" cy="142560"/>
          </a:xfrm>
          <a:custGeom>
            <a:avLst/>
            <a:gdLst>
              <a:gd name="textAreaLeft" fmla="*/ 44640 w 144360"/>
              <a:gd name="textAreaRight" fmla="*/ 99720 w 144360"/>
              <a:gd name="textAreaTop" fmla="*/ 54360 h 142560"/>
              <a:gd name="textAreaBottom" fmla="*/ 109080 h 14256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AutoShape 31"/>
          <p:cNvSpPr/>
          <p:nvPr/>
        </p:nvSpPr>
        <p:spPr>
          <a:xfrm>
            <a:off x="7020000" y="3213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7" name="AutoShape 32"/>
          <p:cNvSpPr/>
          <p:nvPr/>
        </p:nvSpPr>
        <p:spPr>
          <a:xfrm>
            <a:off x="7667640" y="407664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AutoShape 33"/>
          <p:cNvSpPr/>
          <p:nvPr/>
        </p:nvSpPr>
        <p:spPr>
          <a:xfrm>
            <a:off x="4500720" y="5445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AutoShape 34"/>
          <p:cNvSpPr/>
          <p:nvPr/>
        </p:nvSpPr>
        <p:spPr>
          <a:xfrm>
            <a:off x="3203640" y="59500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AutoShape 35"/>
          <p:cNvSpPr/>
          <p:nvPr/>
        </p:nvSpPr>
        <p:spPr>
          <a:xfrm>
            <a:off x="4643280" y="5157720"/>
            <a:ext cx="216000" cy="287280"/>
          </a:xfrm>
          <a:custGeom>
            <a:avLst/>
            <a:gdLst>
              <a:gd name="textAreaLeft" fmla="*/ 66600 w 216000"/>
              <a:gd name="textAreaRight" fmla="*/ 149400 w 216000"/>
              <a:gd name="textAreaTop" fmla="*/ 109800 h 287280"/>
              <a:gd name="textAreaBottom" fmla="*/ 219600 h 287280"/>
            </a:gdLst>
            <a:ahLst/>
            <a:rect l="textAreaLeft" t="textAreaTop" r="textAreaRight" b="textAreaBottom"/>
            <a:pathLst>
              <a:path w="215900" h="287337">
                <a:moveTo>
                  <a:pt x="0" y="109753"/>
                </a:moveTo>
                <a:lnTo>
                  <a:pt x="82467" y="109753"/>
                </a:lnTo>
                <a:lnTo>
                  <a:pt x="107950" y="0"/>
                </a:lnTo>
                <a:lnTo>
                  <a:pt x="133433" y="109753"/>
                </a:lnTo>
                <a:lnTo>
                  <a:pt x="215900" y="109753"/>
                </a:lnTo>
                <a:lnTo>
                  <a:pt x="149183" y="177583"/>
                </a:lnTo>
                <a:lnTo>
                  <a:pt x="174667" y="287336"/>
                </a:lnTo>
                <a:lnTo>
                  <a:pt x="107950" y="219504"/>
                </a:lnTo>
                <a:lnTo>
                  <a:pt x="41233" y="287336"/>
                </a:lnTo>
                <a:lnTo>
                  <a:pt x="66717" y="177583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AutoShape 36"/>
          <p:cNvSpPr/>
          <p:nvPr/>
        </p:nvSpPr>
        <p:spPr>
          <a:xfrm>
            <a:off x="6948360" y="573408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AutoShape 37"/>
          <p:cNvSpPr/>
          <p:nvPr/>
        </p:nvSpPr>
        <p:spPr>
          <a:xfrm>
            <a:off x="6877080" y="5300640"/>
            <a:ext cx="360360" cy="287280"/>
          </a:xfrm>
          <a:custGeom>
            <a:avLst/>
            <a:gdLst>
              <a:gd name="textAreaLeft" fmla="*/ 111240 w 360360"/>
              <a:gd name="textAreaRight" fmla="*/ 249120 w 360360"/>
              <a:gd name="textAreaTop" fmla="*/ 109800 h 287280"/>
              <a:gd name="textAreaBottom" fmla="*/ 219600 h 287280"/>
            </a:gdLst>
            <a:ahLst/>
            <a:rect l="textAreaLeft" t="textAreaTop" r="textAreaRight" b="textAreaBottom"/>
            <a:pathLst>
              <a:path w="360363" h="287337">
                <a:moveTo>
                  <a:pt x="0" y="109753"/>
                </a:moveTo>
                <a:lnTo>
                  <a:pt x="137647" y="109753"/>
                </a:lnTo>
                <a:lnTo>
                  <a:pt x="180182" y="0"/>
                </a:lnTo>
                <a:lnTo>
                  <a:pt x="222716" y="109753"/>
                </a:lnTo>
                <a:lnTo>
                  <a:pt x="360363" y="109753"/>
                </a:lnTo>
                <a:lnTo>
                  <a:pt x="249004" y="177583"/>
                </a:lnTo>
                <a:lnTo>
                  <a:pt x="291540" y="287336"/>
                </a:lnTo>
                <a:lnTo>
                  <a:pt x="180182" y="219504"/>
                </a:lnTo>
                <a:lnTo>
                  <a:pt x="68823" y="287336"/>
                </a:lnTo>
                <a:lnTo>
                  <a:pt x="111359" y="177583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AutoShape 38"/>
          <p:cNvSpPr/>
          <p:nvPr/>
        </p:nvSpPr>
        <p:spPr>
          <a:xfrm>
            <a:off x="684360" y="981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AutoShape 39"/>
          <p:cNvSpPr/>
          <p:nvPr/>
        </p:nvSpPr>
        <p:spPr>
          <a:xfrm>
            <a:off x="2268360" y="76500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AutoShape 40"/>
          <p:cNvSpPr/>
          <p:nvPr/>
        </p:nvSpPr>
        <p:spPr>
          <a:xfrm>
            <a:off x="2124000" y="765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AutoShape 41"/>
          <p:cNvSpPr/>
          <p:nvPr/>
        </p:nvSpPr>
        <p:spPr>
          <a:xfrm>
            <a:off x="3276720" y="1557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AutoShape 42"/>
          <p:cNvSpPr/>
          <p:nvPr/>
        </p:nvSpPr>
        <p:spPr>
          <a:xfrm>
            <a:off x="1690560" y="242100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AutoShape 43"/>
          <p:cNvSpPr/>
          <p:nvPr/>
        </p:nvSpPr>
        <p:spPr>
          <a:xfrm>
            <a:off x="8244000" y="90792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AutoShape 44"/>
          <p:cNvSpPr/>
          <p:nvPr/>
        </p:nvSpPr>
        <p:spPr>
          <a:xfrm>
            <a:off x="5651640" y="1484280"/>
            <a:ext cx="288720" cy="216000"/>
          </a:xfrm>
          <a:custGeom>
            <a:avLst/>
            <a:gdLst>
              <a:gd name="textAreaLeft" fmla="*/ 89280 w 288720"/>
              <a:gd name="textAreaRight" fmla="*/ 199440 w 288720"/>
              <a:gd name="textAreaTop" fmla="*/ 82440 h 216000"/>
              <a:gd name="textAreaBottom" fmla="*/ 165240 h 216000"/>
            </a:gdLst>
            <a:ahLst/>
            <a:rect l="textAreaLeft" t="textAreaTop" r="textAreaRight" b="textAreaBottom"/>
            <a:pathLst>
              <a:path w="288925" h="215900">
                <a:moveTo>
                  <a:pt x="0" y="82466"/>
                </a:moveTo>
                <a:lnTo>
                  <a:pt x="110360" y="82467"/>
                </a:lnTo>
                <a:lnTo>
                  <a:pt x="144463" y="0"/>
                </a:lnTo>
                <a:lnTo>
                  <a:pt x="178565" y="82467"/>
                </a:lnTo>
                <a:lnTo>
                  <a:pt x="288925" y="82466"/>
                </a:lnTo>
                <a:lnTo>
                  <a:pt x="199641" y="133433"/>
                </a:lnTo>
                <a:lnTo>
                  <a:pt x="233745" y="215899"/>
                </a:lnTo>
                <a:lnTo>
                  <a:pt x="144463" y="164932"/>
                </a:lnTo>
                <a:lnTo>
                  <a:pt x="55180" y="215899"/>
                </a:lnTo>
                <a:lnTo>
                  <a:pt x="89284" y="133433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AutoShape 45"/>
          <p:cNvSpPr/>
          <p:nvPr/>
        </p:nvSpPr>
        <p:spPr>
          <a:xfrm>
            <a:off x="8244000" y="62064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AutoShape 46"/>
          <p:cNvSpPr/>
          <p:nvPr/>
        </p:nvSpPr>
        <p:spPr>
          <a:xfrm>
            <a:off x="468360" y="6021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AutoShape 47"/>
          <p:cNvSpPr/>
          <p:nvPr/>
        </p:nvSpPr>
        <p:spPr>
          <a:xfrm>
            <a:off x="5867280" y="357336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AutoShape 48"/>
          <p:cNvSpPr/>
          <p:nvPr/>
        </p:nvSpPr>
        <p:spPr>
          <a:xfrm>
            <a:off x="5364000" y="155736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AutoShape 49"/>
          <p:cNvSpPr/>
          <p:nvPr/>
        </p:nvSpPr>
        <p:spPr>
          <a:xfrm>
            <a:off x="611280" y="6237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AutoShape 50"/>
          <p:cNvSpPr/>
          <p:nvPr/>
        </p:nvSpPr>
        <p:spPr>
          <a:xfrm>
            <a:off x="3417840" y="4148280"/>
            <a:ext cx="144360" cy="142560"/>
          </a:xfrm>
          <a:prstGeom prst="pi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AutoShape 51"/>
          <p:cNvSpPr/>
          <p:nvPr/>
        </p:nvSpPr>
        <p:spPr>
          <a:xfrm>
            <a:off x="3132000" y="573408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AutoShape 52"/>
          <p:cNvSpPr/>
          <p:nvPr/>
        </p:nvSpPr>
        <p:spPr>
          <a:xfrm>
            <a:off x="1619280" y="530064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8" name="AutoShape 53"/>
          <p:cNvSpPr/>
          <p:nvPr/>
        </p:nvSpPr>
        <p:spPr>
          <a:xfrm>
            <a:off x="4356000" y="522936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AutoShape 54"/>
          <p:cNvSpPr/>
          <p:nvPr/>
        </p:nvSpPr>
        <p:spPr>
          <a:xfrm>
            <a:off x="1476360" y="5516640"/>
            <a:ext cx="358920" cy="288720"/>
          </a:xfrm>
          <a:custGeom>
            <a:avLst/>
            <a:gdLst>
              <a:gd name="textAreaLeft" fmla="*/ 110880 w 358920"/>
              <a:gd name="textAreaRight" fmla="*/ 248040 w 358920"/>
              <a:gd name="textAreaTop" fmla="*/ 110160 h 288720"/>
              <a:gd name="textAreaBottom" fmla="*/ 220680 h 288720"/>
            </a:gdLst>
            <a:ahLst/>
            <a:rect l="textAreaLeft" t="textAreaTop" r="textAreaRight" b="textAreaBottom"/>
            <a:pathLst>
              <a:path w="358775" h="288925">
                <a:moveTo>
                  <a:pt x="0" y="110359"/>
                </a:moveTo>
                <a:lnTo>
                  <a:pt x="137041" y="110360"/>
                </a:lnTo>
                <a:lnTo>
                  <a:pt x="179388" y="0"/>
                </a:lnTo>
                <a:lnTo>
                  <a:pt x="221734" y="110360"/>
                </a:lnTo>
                <a:lnTo>
                  <a:pt x="358775" y="110359"/>
                </a:lnTo>
                <a:lnTo>
                  <a:pt x="247906" y="178565"/>
                </a:lnTo>
                <a:lnTo>
                  <a:pt x="290255" y="288924"/>
                </a:lnTo>
                <a:lnTo>
                  <a:pt x="179388" y="220718"/>
                </a:lnTo>
                <a:lnTo>
                  <a:pt x="68520" y="288924"/>
                </a:lnTo>
                <a:lnTo>
                  <a:pt x="110869" y="178565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AutoShape 55"/>
          <p:cNvSpPr/>
          <p:nvPr/>
        </p:nvSpPr>
        <p:spPr>
          <a:xfrm>
            <a:off x="4788000" y="515772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AutoShape 56"/>
          <p:cNvSpPr/>
          <p:nvPr/>
        </p:nvSpPr>
        <p:spPr>
          <a:xfrm>
            <a:off x="6516720" y="4797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AutoShape 57"/>
          <p:cNvSpPr/>
          <p:nvPr/>
        </p:nvSpPr>
        <p:spPr>
          <a:xfrm>
            <a:off x="5580000" y="57340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3" name="Picture 59" descr="satur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57280" y="1000080"/>
            <a:ext cx="546120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AutoShape 2"/>
          <p:cNvSpPr/>
          <p:nvPr/>
        </p:nvSpPr>
        <p:spPr>
          <a:xfrm>
            <a:off x="684360" y="6922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AutoShape 3"/>
          <p:cNvSpPr/>
          <p:nvPr/>
        </p:nvSpPr>
        <p:spPr>
          <a:xfrm>
            <a:off x="6227640" y="47628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AutoShape 4"/>
          <p:cNvSpPr/>
          <p:nvPr/>
        </p:nvSpPr>
        <p:spPr>
          <a:xfrm>
            <a:off x="3132000" y="141300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AutoShape 5"/>
          <p:cNvSpPr/>
          <p:nvPr/>
        </p:nvSpPr>
        <p:spPr>
          <a:xfrm>
            <a:off x="1908000" y="620640"/>
            <a:ext cx="287640" cy="216000"/>
          </a:xfrm>
          <a:custGeom>
            <a:avLst/>
            <a:gdLst>
              <a:gd name="textAreaLeft" fmla="*/ 88920 w 287640"/>
              <a:gd name="textAreaRight" fmla="*/ 198720 w 287640"/>
              <a:gd name="textAreaTop" fmla="*/ 82440 h 216000"/>
              <a:gd name="textAreaBottom" fmla="*/ 165240 h 216000"/>
            </a:gdLst>
            <a:ahLst/>
            <a:rect l="textAreaLeft" t="textAreaTop" r="textAreaRight" b="textAreaBottom"/>
            <a:pathLst>
              <a:path w="287338" h="215900">
                <a:moveTo>
                  <a:pt x="0" y="82466"/>
                </a:moveTo>
                <a:lnTo>
                  <a:pt x="109754" y="82467"/>
                </a:lnTo>
                <a:lnTo>
                  <a:pt x="143669" y="0"/>
                </a:lnTo>
                <a:lnTo>
                  <a:pt x="177584" y="82467"/>
                </a:lnTo>
                <a:lnTo>
                  <a:pt x="287338" y="82466"/>
                </a:lnTo>
                <a:lnTo>
                  <a:pt x="198545" y="133433"/>
                </a:lnTo>
                <a:lnTo>
                  <a:pt x="232461" y="215899"/>
                </a:lnTo>
                <a:lnTo>
                  <a:pt x="143669" y="164932"/>
                </a:lnTo>
                <a:lnTo>
                  <a:pt x="54877" y="215899"/>
                </a:lnTo>
                <a:lnTo>
                  <a:pt x="88793" y="133433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AutoShape 6"/>
          <p:cNvSpPr/>
          <p:nvPr/>
        </p:nvSpPr>
        <p:spPr>
          <a:xfrm>
            <a:off x="6732720" y="1125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AutoShape 7"/>
          <p:cNvSpPr/>
          <p:nvPr/>
        </p:nvSpPr>
        <p:spPr>
          <a:xfrm>
            <a:off x="4932360" y="4762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AutoShape 8"/>
          <p:cNvSpPr/>
          <p:nvPr/>
        </p:nvSpPr>
        <p:spPr>
          <a:xfrm>
            <a:off x="7236000" y="1413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AutoShape 9"/>
          <p:cNvSpPr/>
          <p:nvPr/>
        </p:nvSpPr>
        <p:spPr>
          <a:xfrm>
            <a:off x="1042920" y="1773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AutoShape 10"/>
          <p:cNvSpPr/>
          <p:nvPr/>
        </p:nvSpPr>
        <p:spPr>
          <a:xfrm>
            <a:off x="2124000" y="1268280"/>
            <a:ext cx="289080" cy="289080"/>
          </a:xfrm>
          <a:custGeom>
            <a:avLst/>
            <a:gdLst>
              <a:gd name="textAreaLeft" fmla="*/ 89280 w 289080"/>
              <a:gd name="textAreaRight" fmla="*/ 199800 w 289080"/>
              <a:gd name="textAreaTop" fmla="*/ 110520 h 289080"/>
              <a:gd name="textAreaBottom" fmla="*/ 221040 h 289080"/>
            </a:gdLst>
            <a:ahLst/>
            <a:rect l="textAreaLeft" t="textAreaTop" r="textAreaRight" b="textAreaBottom"/>
            <a:pathLst>
              <a:path w="288925" h="288925">
                <a:moveTo>
                  <a:pt x="0" y="110359"/>
                </a:moveTo>
                <a:lnTo>
                  <a:pt x="110360" y="110360"/>
                </a:lnTo>
                <a:lnTo>
                  <a:pt x="144463" y="0"/>
                </a:lnTo>
                <a:lnTo>
                  <a:pt x="178565" y="110360"/>
                </a:lnTo>
                <a:lnTo>
                  <a:pt x="288925" y="110359"/>
                </a:lnTo>
                <a:lnTo>
                  <a:pt x="199641" y="178565"/>
                </a:lnTo>
                <a:lnTo>
                  <a:pt x="233745" y="288924"/>
                </a:lnTo>
                <a:lnTo>
                  <a:pt x="144463" y="220718"/>
                </a:lnTo>
                <a:lnTo>
                  <a:pt x="55180" y="288924"/>
                </a:lnTo>
                <a:lnTo>
                  <a:pt x="89284" y="178565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AutoShape 11"/>
          <p:cNvSpPr/>
          <p:nvPr/>
        </p:nvSpPr>
        <p:spPr>
          <a:xfrm>
            <a:off x="1547640" y="177336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AutoShape 12"/>
          <p:cNvSpPr/>
          <p:nvPr/>
        </p:nvSpPr>
        <p:spPr>
          <a:xfrm>
            <a:off x="755640" y="3789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AutoShape 13"/>
          <p:cNvSpPr/>
          <p:nvPr/>
        </p:nvSpPr>
        <p:spPr>
          <a:xfrm>
            <a:off x="3924360" y="765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AutoShape 14"/>
          <p:cNvSpPr/>
          <p:nvPr/>
        </p:nvSpPr>
        <p:spPr>
          <a:xfrm>
            <a:off x="8172360" y="314172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AutoShape 15"/>
          <p:cNvSpPr/>
          <p:nvPr/>
        </p:nvSpPr>
        <p:spPr>
          <a:xfrm>
            <a:off x="7308720" y="580536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AutoShape 16"/>
          <p:cNvSpPr/>
          <p:nvPr/>
        </p:nvSpPr>
        <p:spPr>
          <a:xfrm>
            <a:off x="1332000" y="530064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AutoShape 17"/>
          <p:cNvSpPr/>
          <p:nvPr/>
        </p:nvSpPr>
        <p:spPr>
          <a:xfrm>
            <a:off x="900000" y="83664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AutoShape 18"/>
          <p:cNvSpPr/>
          <p:nvPr/>
        </p:nvSpPr>
        <p:spPr>
          <a:xfrm>
            <a:off x="250920" y="2349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1" name="AutoShape 19"/>
          <p:cNvSpPr/>
          <p:nvPr/>
        </p:nvSpPr>
        <p:spPr>
          <a:xfrm>
            <a:off x="4067280" y="90792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AutoShape 20"/>
          <p:cNvSpPr/>
          <p:nvPr/>
        </p:nvSpPr>
        <p:spPr>
          <a:xfrm>
            <a:off x="5508720" y="12682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AutoShape 21"/>
          <p:cNvSpPr/>
          <p:nvPr/>
        </p:nvSpPr>
        <p:spPr>
          <a:xfrm>
            <a:off x="8028000" y="1989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AutoShape 22"/>
          <p:cNvSpPr/>
          <p:nvPr/>
        </p:nvSpPr>
        <p:spPr>
          <a:xfrm>
            <a:off x="1979640" y="35002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5" name="AutoShape 23"/>
          <p:cNvSpPr/>
          <p:nvPr/>
        </p:nvSpPr>
        <p:spPr>
          <a:xfrm>
            <a:off x="5148360" y="29242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AutoShape 24"/>
          <p:cNvSpPr/>
          <p:nvPr/>
        </p:nvSpPr>
        <p:spPr>
          <a:xfrm>
            <a:off x="1332000" y="3284640"/>
            <a:ext cx="287280" cy="217440"/>
          </a:xfrm>
          <a:custGeom>
            <a:avLst/>
            <a:gdLst>
              <a:gd name="textAreaLeft" fmla="*/ 88560 w 287280"/>
              <a:gd name="textAreaRight" fmla="*/ 198720 w 287280"/>
              <a:gd name="textAreaTop" fmla="*/ 83160 h 217440"/>
              <a:gd name="textAreaBottom" fmla="*/ 166320 h 217440"/>
            </a:gdLst>
            <a:ahLst/>
            <a:rect l="textAreaLeft" t="textAreaTop" r="textAreaRight" b="textAreaBottom"/>
            <a:pathLst>
              <a:path w="287337" h="217487">
                <a:moveTo>
                  <a:pt x="0" y="83072"/>
                </a:moveTo>
                <a:lnTo>
                  <a:pt x="109754" y="83073"/>
                </a:lnTo>
                <a:lnTo>
                  <a:pt x="143669" y="0"/>
                </a:lnTo>
                <a:lnTo>
                  <a:pt x="177583" y="83073"/>
                </a:lnTo>
                <a:lnTo>
                  <a:pt x="287337" y="83072"/>
                </a:lnTo>
                <a:lnTo>
                  <a:pt x="198544" y="134414"/>
                </a:lnTo>
                <a:lnTo>
                  <a:pt x="232461" y="217486"/>
                </a:lnTo>
                <a:lnTo>
                  <a:pt x="143669" y="166144"/>
                </a:lnTo>
                <a:lnTo>
                  <a:pt x="54876" y="217486"/>
                </a:lnTo>
                <a:lnTo>
                  <a:pt x="88793" y="134414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AutoShape 25"/>
          <p:cNvSpPr/>
          <p:nvPr/>
        </p:nvSpPr>
        <p:spPr>
          <a:xfrm>
            <a:off x="8388360" y="692280"/>
            <a:ext cx="287280" cy="288720"/>
          </a:xfrm>
          <a:custGeom>
            <a:avLst/>
            <a:gdLst>
              <a:gd name="textAreaLeft" fmla="*/ 88560 w 287280"/>
              <a:gd name="textAreaRight" fmla="*/ 198720 w 287280"/>
              <a:gd name="textAreaTop" fmla="*/ 110160 h 288720"/>
              <a:gd name="textAreaBottom" fmla="*/ 220680 h 288720"/>
            </a:gdLst>
            <a:ahLst/>
            <a:rect l="textAreaLeft" t="textAreaTop" r="textAreaRight" b="textAreaBottom"/>
            <a:pathLst>
              <a:path w="287338" h="288925">
                <a:moveTo>
                  <a:pt x="0" y="110359"/>
                </a:moveTo>
                <a:lnTo>
                  <a:pt x="109754" y="110360"/>
                </a:lnTo>
                <a:lnTo>
                  <a:pt x="143669" y="0"/>
                </a:lnTo>
                <a:lnTo>
                  <a:pt x="177584" y="110360"/>
                </a:lnTo>
                <a:lnTo>
                  <a:pt x="287338" y="110359"/>
                </a:lnTo>
                <a:lnTo>
                  <a:pt x="198545" y="178565"/>
                </a:lnTo>
                <a:lnTo>
                  <a:pt x="232461" y="288924"/>
                </a:lnTo>
                <a:lnTo>
                  <a:pt x="143669" y="220718"/>
                </a:lnTo>
                <a:lnTo>
                  <a:pt x="54877" y="288924"/>
                </a:lnTo>
                <a:lnTo>
                  <a:pt x="88793" y="178565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AutoShape 26"/>
          <p:cNvSpPr/>
          <p:nvPr/>
        </p:nvSpPr>
        <p:spPr>
          <a:xfrm>
            <a:off x="971640" y="4005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AutoShape 27"/>
          <p:cNvSpPr/>
          <p:nvPr/>
        </p:nvSpPr>
        <p:spPr>
          <a:xfrm>
            <a:off x="2770200" y="3500280"/>
            <a:ext cx="144360" cy="142920"/>
          </a:xfrm>
          <a:prstGeom prst="pi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0" name="AutoShape 28"/>
          <p:cNvSpPr/>
          <p:nvPr/>
        </p:nvSpPr>
        <p:spPr>
          <a:xfrm>
            <a:off x="8317080" y="551664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1" name="AutoShape 29"/>
          <p:cNvSpPr/>
          <p:nvPr/>
        </p:nvSpPr>
        <p:spPr>
          <a:xfrm>
            <a:off x="7596360" y="3573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2" name="AutoShape 30"/>
          <p:cNvSpPr/>
          <p:nvPr/>
        </p:nvSpPr>
        <p:spPr>
          <a:xfrm>
            <a:off x="3417840" y="4148280"/>
            <a:ext cx="144360" cy="142560"/>
          </a:xfrm>
          <a:custGeom>
            <a:avLst/>
            <a:gdLst>
              <a:gd name="textAreaLeft" fmla="*/ 44640 w 144360"/>
              <a:gd name="textAreaRight" fmla="*/ 99720 w 144360"/>
              <a:gd name="textAreaTop" fmla="*/ 54360 h 142560"/>
              <a:gd name="textAreaBottom" fmla="*/ 109080 h 14256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AutoShape 31"/>
          <p:cNvSpPr/>
          <p:nvPr/>
        </p:nvSpPr>
        <p:spPr>
          <a:xfrm>
            <a:off x="7020000" y="3213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AutoShape 32"/>
          <p:cNvSpPr/>
          <p:nvPr/>
        </p:nvSpPr>
        <p:spPr>
          <a:xfrm>
            <a:off x="7667640" y="407664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5" name="AutoShape 33"/>
          <p:cNvSpPr/>
          <p:nvPr/>
        </p:nvSpPr>
        <p:spPr>
          <a:xfrm>
            <a:off x="4500720" y="5445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AutoShape 34"/>
          <p:cNvSpPr/>
          <p:nvPr/>
        </p:nvSpPr>
        <p:spPr>
          <a:xfrm>
            <a:off x="3203640" y="59500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7" name="AutoShape 35"/>
          <p:cNvSpPr/>
          <p:nvPr/>
        </p:nvSpPr>
        <p:spPr>
          <a:xfrm>
            <a:off x="4643280" y="5157720"/>
            <a:ext cx="216000" cy="287280"/>
          </a:xfrm>
          <a:custGeom>
            <a:avLst/>
            <a:gdLst>
              <a:gd name="textAreaLeft" fmla="*/ 66600 w 216000"/>
              <a:gd name="textAreaRight" fmla="*/ 149400 w 216000"/>
              <a:gd name="textAreaTop" fmla="*/ 109800 h 287280"/>
              <a:gd name="textAreaBottom" fmla="*/ 219600 h 287280"/>
            </a:gdLst>
            <a:ahLst/>
            <a:rect l="textAreaLeft" t="textAreaTop" r="textAreaRight" b="textAreaBottom"/>
            <a:pathLst>
              <a:path w="215900" h="287337">
                <a:moveTo>
                  <a:pt x="0" y="109753"/>
                </a:moveTo>
                <a:lnTo>
                  <a:pt x="82467" y="109753"/>
                </a:lnTo>
                <a:lnTo>
                  <a:pt x="107950" y="0"/>
                </a:lnTo>
                <a:lnTo>
                  <a:pt x="133433" y="109753"/>
                </a:lnTo>
                <a:lnTo>
                  <a:pt x="215900" y="109753"/>
                </a:lnTo>
                <a:lnTo>
                  <a:pt x="149183" y="177583"/>
                </a:lnTo>
                <a:lnTo>
                  <a:pt x="174667" y="287336"/>
                </a:lnTo>
                <a:lnTo>
                  <a:pt x="107950" y="219504"/>
                </a:lnTo>
                <a:lnTo>
                  <a:pt x="41233" y="287336"/>
                </a:lnTo>
                <a:lnTo>
                  <a:pt x="66717" y="177583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AutoShape 36"/>
          <p:cNvSpPr/>
          <p:nvPr/>
        </p:nvSpPr>
        <p:spPr>
          <a:xfrm>
            <a:off x="6948360" y="573408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9" name="AutoShape 37"/>
          <p:cNvSpPr/>
          <p:nvPr/>
        </p:nvSpPr>
        <p:spPr>
          <a:xfrm>
            <a:off x="6877080" y="5300640"/>
            <a:ext cx="360360" cy="287280"/>
          </a:xfrm>
          <a:custGeom>
            <a:avLst/>
            <a:gdLst>
              <a:gd name="textAreaLeft" fmla="*/ 111240 w 360360"/>
              <a:gd name="textAreaRight" fmla="*/ 249120 w 360360"/>
              <a:gd name="textAreaTop" fmla="*/ 109800 h 287280"/>
              <a:gd name="textAreaBottom" fmla="*/ 219600 h 287280"/>
            </a:gdLst>
            <a:ahLst/>
            <a:rect l="textAreaLeft" t="textAreaTop" r="textAreaRight" b="textAreaBottom"/>
            <a:pathLst>
              <a:path w="360363" h="287337">
                <a:moveTo>
                  <a:pt x="0" y="109753"/>
                </a:moveTo>
                <a:lnTo>
                  <a:pt x="137647" y="109753"/>
                </a:lnTo>
                <a:lnTo>
                  <a:pt x="180182" y="0"/>
                </a:lnTo>
                <a:lnTo>
                  <a:pt x="222716" y="109753"/>
                </a:lnTo>
                <a:lnTo>
                  <a:pt x="360363" y="109753"/>
                </a:lnTo>
                <a:lnTo>
                  <a:pt x="249004" y="177583"/>
                </a:lnTo>
                <a:lnTo>
                  <a:pt x="291540" y="287336"/>
                </a:lnTo>
                <a:lnTo>
                  <a:pt x="180182" y="219504"/>
                </a:lnTo>
                <a:lnTo>
                  <a:pt x="68823" y="287336"/>
                </a:lnTo>
                <a:lnTo>
                  <a:pt x="111359" y="177583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0" name="AutoShape 38"/>
          <p:cNvSpPr/>
          <p:nvPr/>
        </p:nvSpPr>
        <p:spPr>
          <a:xfrm>
            <a:off x="684360" y="981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AutoShape 39"/>
          <p:cNvSpPr/>
          <p:nvPr/>
        </p:nvSpPr>
        <p:spPr>
          <a:xfrm>
            <a:off x="2268360" y="76500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2" name="AutoShape 40"/>
          <p:cNvSpPr/>
          <p:nvPr/>
        </p:nvSpPr>
        <p:spPr>
          <a:xfrm>
            <a:off x="2124000" y="765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3" name="AutoShape 41"/>
          <p:cNvSpPr/>
          <p:nvPr/>
        </p:nvSpPr>
        <p:spPr>
          <a:xfrm>
            <a:off x="3276720" y="1557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4" name="AutoShape 42"/>
          <p:cNvSpPr/>
          <p:nvPr/>
        </p:nvSpPr>
        <p:spPr>
          <a:xfrm>
            <a:off x="1690560" y="242100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AutoShape 43"/>
          <p:cNvSpPr/>
          <p:nvPr/>
        </p:nvSpPr>
        <p:spPr>
          <a:xfrm>
            <a:off x="8244000" y="90792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6" name="AutoShape 44"/>
          <p:cNvSpPr/>
          <p:nvPr/>
        </p:nvSpPr>
        <p:spPr>
          <a:xfrm>
            <a:off x="5651640" y="1484280"/>
            <a:ext cx="288720" cy="216000"/>
          </a:xfrm>
          <a:custGeom>
            <a:avLst/>
            <a:gdLst>
              <a:gd name="textAreaLeft" fmla="*/ 89280 w 288720"/>
              <a:gd name="textAreaRight" fmla="*/ 199440 w 288720"/>
              <a:gd name="textAreaTop" fmla="*/ 82440 h 216000"/>
              <a:gd name="textAreaBottom" fmla="*/ 165240 h 216000"/>
            </a:gdLst>
            <a:ahLst/>
            <a:rect l="textAreaLeft" t="textAreaTop" r="textAreaRight" b="textAreaBottom"/>
            <a:pathLst>
              <a:path w="288925" h="215900">
                <a:moveTo>
                  <a:pt x="0" y="82466"/>
                </a:moveTo>
                <a:lnTo>
                  <a:pt x="110360" y="82467"/>
                </a:lnTo>
                <a:lnTo>
                  <a:pt x="144463" y="0"/>
                </a:lnTo>
                <a:lnTo>
                  <a:pt x="178565" y="82467"/>
                </a:lnTo>
                <a:lnTo>
                  <a:pt x="288925" y="82466"/>
                </a:lnTo>
                <a:lnTo>
                  <a:pt x="199641" y="133433"/>
                </a:lnTo>
                <a:lnTo>
                  <a:pt x="233745" y="215899"/>
                </a:lnTo>
                <a:lnTo>
                  <a:pt x="144463" y="164932"/>
                </a:lnTo>
                <a:lnTo>
                  <a:pt x="55180" y="215899"/>
                </a:lnTo>
                <a:lnTo>
                  <a:pt x="89284" y="133433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7" name="AutoShape 45"/>
          <p:cNvSpPr/>
          <p:nvPr/>
        </p:nvSpPr>
        <p:spPr>
          <a:xfrm>
            <a:off x="8244000" y="62064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8" name="AutoShape 46"/>
          <p:cNvSpPr/>
          <p:nvPr/>
        </p:nvSpPr>
        <p:spPr>
          <a:xfrm>
            <a:off x="468360" y="6021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AutoShape 47"/>
          <p:cNvSpPr/>
          <p:nvPr/>
        </p:nvSpPr>
        <p:spPr>
          <a:xfrm>
            <a:off x="5867280" y="357336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AutoShape 48"/>
          <p:cNvSpPr/>
          <p:nvPr/>
        </p:nvSpPr>
        <p:spPr>
          <a:xfrm>
            <a:off x="5364000" y="155736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1" name="AutoShape 49"/>
          <p:cNvSpPr/>
          <p:nvPr/>
        </p:nvSpPr>
        <p:spPr>
          <a:xfrm>
            <a:off x="611280" y="6237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2" name="AutoShape 50"/>
          <p:cNvSpPr/>
          <p:nvPr/>
        </p:nvSpPr>
        <p:spPr>
          <a:xfrm>
            <a:off x="3417840" y="4148280"/>
            <a:ext cx="144360" cy="142560"/>
          </a:xfrm>
          <a:prstGeom prst="pi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AutoShape 51"/>
          <p:cNvSpPr/>
          <p:nvPr/>
        </p:nvSpPr>
        <p:spPr>
          <a:xfrm>
            <a:off x="3132000" y="573408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AutoShape 52"/>
          <p:cNvSpPr/>
          <p:nvPr/>
        </p:nvSpPr>
        <p:spPr>
          <a:xfrm>
            <a:off x="1619280" y="530064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AutoShape 53"/>
          <p:cNvSpPr/>
          <p:nvPr/>
        </p:nvSpPr>
        <p:spPr>
          <a:xfrm>
            <a:off x="4356000" y="522936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AutoShape 54"/>
          <p:cNvSpPr/>
          <p:nvPr/>
        </p:nvSpPr>
        <p:spPr>
          <a:xfrm>
            <a:off x="1476360" y="5516640"/>
            <a:ext cx="358920" cy="288720"/>
          </a:xfrm>
          <a:custGeom>
            <a:avLst/>
            <a:gdLst>
              <a:gd name="textAreaLeft" fmla="*/ 110880 w 358920"/>
              <a:gd name="textAreaRight" fmla="*/ 248040 w 358920"/>
              <a:gd name="textAreaTop" fmla="*/ 110160 h 288720"/>
              <a:gd name="textAreaBottom" fmla="*/ 220680 h 288720"/>
            </a:gdLst>
            <a:ahLst/>
            <a:rect l="textAreaLeft" t="textAreaTop" r="textAreaRight" b="textAreaBottom"/>
            <a:pathLst>
              <a:path w="358775" h="288925">
                <a:moveTo>
                  <a:pt x="0" y="110359"/>
                </a:moveTo>
                <a:lnTo>
                  <a:pt x="137041" y="110360"/>
                </a:lnTo>
                <a:lnTo>
                  <a:pt x="179388" y="0"/>
                </a:lnTo>
                <a:lnTo>
                  <a:pt x="221734" y="110360"/>
                </a:lnTo>
                <a:lnTo>
                  <a:pt x="358775" y="110359"/>
                </a:lnTo>
                <a:lnTo>
                  <a:pt x="247906" y="178565"/>
                </a:lnTo>
                <a:lnTo>
                  <a:pt x="290255" y="288924"/>
                </a:lnTo>
                <a:lnTo>
                  <a:pt x="179388" y="220718"/>
                </a:lnTo>
                <a:lnTo>
                  <a:pt x="68520" y="288924"/>
                </a:lnTo>
                <a:lnTo>
                  <a:pt x="110869" y="178565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AutoShape 55"/>
          <p:cNvSpPr/>
          <p:nvPr/>
        </p:nvSpPr>
        <p:spPr>
          <a:xfrm>
            <a:off x="4788000" y="515772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8" name="AutoShape 56"/>
          <p:cNvSpPr/>
          <p:nvPr/>
        </p:nvSpPr>
        <p:spPr>
          <a:xfrm>
            <a:off x="6516720" y="4797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9" name="AutoShape 57"/>
          <p:cNvSpPr/>
          <p:nvPr/>
        </p:nvSpPr>
        <p:spPr>
          <a:xfrm>
            <a:off x="5580000" y="57340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40" name="Picture 59" descr="uranus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1214280"/>
            <a:ext cx="581004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AutoShape 2"/>
          <p:cNvSpPr/>
          <p:nvPr/>
        </p:nvSpPr>
        <p:spPr>
          <a:xfrm>
            <a:off x="684360" y="6922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AutoShape 3"/>
          <p:cNvSpPr/>
          <p:nvPr/>
        </p:nvSpPr>
        <p:spPr>
          <a:xfrm>
            <a:off x="6227640" y="47628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AutoShape 4"/>
          <p:cNvSpPr/>
          <p:nvPr/>
        </p:nvSpPr>
        <p:spPr>
          <a:xfrm>
            <a:off x="3132000" y="141300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4" name="AutoShape 5"/>
          <p:cNvSpPr/>
          <p:nvPr/>
        </p:nvSpPr>
        <p:spPr>
          <a:xfrm>
            <a:off x="1908000" y="620640"/>
            <a:ext cx="287640" cy="216000"/>
          </a:xfrm>
          <a:custGeom>
            <a:avLst/>
            <a:gdLst>
              <a:gd name="textAreaLeft" fmla="*/ 88920 w 287640"/>
              <a:gd name="textAreaRight" fmla="*/ 198720 w 287640"/>
              <a:gd name="textAreaTop" fmla="*/ 82440 h 216000"/>
              <a:gd name="textAreaBottom" fmla="*/ 165240 h 216000"/>
            </a:gdLst>
            <a:ahLst/>
            <a:rect l="textAreaLeft" t="textAreaTop" r="textAreaRight" b="textAreaBottom"/>
            <a:pathLst>
              <a:path w="287338" h="215900">
                <a:moveTo>
                  <a:pt x="0" y="82466"/>
                </a:moveTo>
                <a:lnTo>
                  <a:pt x="109754" y="82467"/>
                </a:lnTo>
                <a:lnTo>
                  <a:pt x="143669" y="0"/>
                </a:lnTo>
                <a:lnTo>
                  <a:pt x="177584" y="82467"/>
                </a:lnTo>
                <a:lnTo>
                  <a:pt x="287338" y="82466"/>
                </a:lnTo>
                <a:lnTo>
                  <a:pt x="198545" y="133433"/>
                </a:lnTo>
                <a:lnTo>
                  <a:pt x="232461" y="215899"/>
                </a:lnTo>
                <a:lnTo>
                  <a:pt x="143669" y="164932"/>
                </a:lnTo>
                <a:lnTo>
                  <a:pt x="54877" y="215899"/>
                </a:lnTo>
                <a:lnTo>
                  <a:pt x="88793" y="133433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5" name="AutoShape 6"/>
          <p:cNvSpPr/>
          <p:nvPr/>
        </p:nvSpPr>
        <p:spPr>
          <a:xfrm>
            <a:off x="6732720" y="1125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AutoShape 7"/>
          <p:cNvSpPr/>
          <p:nvPr/>
        </p:nvSpPr>
        <p:spPr>
          <a:xfrm>
            <a:off x="4932360" y="4762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7" name="AutoShape 8"/>
          <p:cNvSpPr/>
          <p:nvPr/>
        </p:nvSpPr>
        <p:spPr>
          <a:xfrm>
            <a:off x="7236000" y="1413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8" name="AutoShape 9"/>
          <p:cNvSpPr/>
          <p:nvPr/>
        </p:nvSpPr>
        <p:spPr>
          <a:xfrm>
            <a:off x="1042920" y="1773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9" name="AutoShape 10"/>
          <p:cNvSpPr/>
          <p:nvPr/>
        </p:nvSpPr>
        <p:spPr>
          <a:xfrm>
            <a:off x="2124000" y="1268280"/>
            <a:ext cx="289080" cy="289080"/>
          </a:xfrm>
          <a:custGeom>
            <a:avLst/>
            <a:gdLst>
              <a:gd name="textAreaLeft" fmla="*/ 89280 w 289080"/>
              <a:gd name="textAreaRight" fmla="*/ 199800 w 289080"/>
              <a:gd name="textAreaTop" fmla="*/ 110520 h 289080"/>
              <a:gd name="textAreaBottom" fmla="*/ 221040 h 289080"/>
            </a:gdLst>
            <a:ahLst/>
            <a:rect l="textAreaLeft" t="textAreaTop" r="textAreaRight" b="textAreaBottom"/>
            <a:pathLst>
              <a:path w="288925" h="288925">
                <a:moveTo>
                  <a:pt x="0" y="110359"/>
                </a:moveTo>
                <a:lnTo>
                  <a:pt x="110360" y="110360"/>
                </a:lnTo>
                <a:lnTo>
                  <a:pt x="144463" y="0"/>
                </a:lnTo>
                <a:lnTo>
                  <a:pt x="178565" y="110360"/>
                </a:lnTo>
                <a:lnTo>
                  <a:pt x="288925" y="110359"/>
                </a:lnTo>
                <a:lnTo>
                  <a:pt x="199641" y="178565"/>
                </a:lnTo>
                <a:lnTo>
                  <a:pt x="233745" y="288924"/>
                </a:lnTo>
                <a:lnTo>
                  <a:pt x="144463" y="220718"/>
                </a:lnTo>
                <a:lnTo>
                  <a:pt x="55180" y="288924"/>
                </a:lnTo>
                <a:lnTo>
                  <a:pt x="89284" y="178565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AutoShape 11"/>
          <p:cNvSpPr/>
          <p:nvPr/>
        </p:nvSpPr>
        <p:spPr>
          <a:xfrm>
            <a:off x="1547640" y="177336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1" name="AutoShape 12"/>
          <p:cNvSpPr/>
          <p:nvPr/>
        </p:nvSpPr>
        <p:spPr>
          <a:xfrm>
            <a:off x="755640" y="3789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AutoShape 13"/>
          <p:cNvSpPr/>
          <p:nvPr/>
        </p:nvSpPr>
        <p:spPr>
          <a:xfrm>
            <a:off x="3924360" y="765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3" name="AutoShape 14"/>
          <p:cNvSpPr/>
          <p:nvPr/>
        </p:nvSpPr>
        <p:spPr>
          <a:xfrm>
            <a:off x="8172360" y="314172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AutoShape 15"/>
          <p:cNvSpPr/>
          <p:nvPr/>
        </p:nvSpPr>
        <p:spPr>
          <a:xfrm>
            <a:off x="7308720" y="580536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5" name="AutoShape 16"/>
          <p:cNvSpPr/>
          <p:nvPr/>
        </p:nvSpPr>
        <p:spPr>
          <a:xfrm>
            <a:off x="1332000" y="530064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6" name="AutoShape 17"/>
          <p:cNvSpPr/>
          <p:nvPr/>
        </p:nvSpPr>
        <p:spPr>
          <a:xfrm>
            <a:off x="900000" y="83664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AutoShape 18"/>
          <p:cNvSpPr/>
          <p:nvPr/>
        </p:nvSpPr>
        <p:spPr>
          <a:xfrm>
            <a:off x="250920" y="2349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8" name="AutoShape 19"/>
          <p:cNvSpPr/>
          <p:nvPr/>
        </p:nvSpPr>
        <p:spPr>
          <a:xfrm>
            <a:off x="4067280" y="90792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9" name="AutoShape 20"/>
          <p:cNvSpPr/>
          <p:nvPr/>
        </p:nvSpPr>
        <p:spPr>
          <a:xfrm>
            <a:off x="5508720" y="12682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0" name="AutoShape 21"/>
          <p:cNvSpPr/>
          <p:nvPr/>
        </p:nvSpPr>
        <p:spPr>
          <a:xfrm>
            <a:off x="8028000" y="1989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AutoShape 22"/>
          <p:cNvSpPr/>
          <p:nvPr/>
        </p:nvSpPr>
        <p:spPr>
          <a:xfrm>
            <a:off x="1979640" y="35002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AutoShape 23"/>
          <p:cNvSpPr/>
          <p:nvPr/>
        </p:nvSpPr>
        <p:spPr>
          <a:xfrm>
            <a:off x="5148360" y="29242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3" name="AutoShape 24"/>
          <p:cNvSpPr/>
          <p:nvPr/>
        </p:nvSpPr>
        <p:spPr>
          <a:xfrm>
            <a:off x="1332000" y="3284640"/>
            <a:ext cx="287280" cy="217440"/>
          </a:xfrm>
          <a:custGeom>
            <a:avLst/>
            <a:gdLst>
              <a:gd name="textAreaLeft" fmla="*/ 88560 w 287280"/>
              <a:gd name="textAreaRight" fmla="*/ 198720 w 287280"/>
              <a:gd name="textAreaTop" fmla="*/ 83160 h 217440"/>
              <a:gd name="textAreaBottom" fmla="*/ 166320 h 217440"/>
            </a:gdLst>
            <a:ahLst/>
            <a:rect l="textAreaLeft" t="textAreaTop" r="textAreaRight" b="textAreaBottom"/>
            <a:pathLst>
              <a:path w="287337" h="217487">
                <a:moveTo>
                  <a:pt x="0" y="83072"/>
                </a:moveTo>
                <a:lnTo>
                  <a:pt x="109754" y="83073"/>
                </a:lnTo>
                <a:lnTo>
                  <a:pt x="143669" y="0"/>
                </a:lnTo>
                <a:lnTo>
                  <a:pt x="177583" y="83073"/>
                </a:lnTo>
                <a:lnTo>
                  <a:pt x="287337" y="83072"/>
                </a:lnTo>
                <a:lnTo>
                  <a:pt x="198544" y="134414"/>
                </a:lnTo>
                <a:lnTo>
                  <a:pt x="232461" y="217486"/>
                </a:lnTo>
                <a:lnTo>
                  <a:pt x="143669" y="166144"/>
                </a:lnTo>
                <a:lnTo>
                  <a:pt x="54876" y="217486"/>
                </a:lnTo>
                <a:lnTo>
                  <a:pt x="88793" y="134414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4" name="AutoShape 25"/>
          <p:cNvSpPr/>
          <p:nvPr/>
        </p:nvSpPr>
        <p:spPr>
          <a:xfrm>
            <a:off x="8388360" y="692280"/>
            <a:ext cx="287280" cy="288720"/>
          </a:xfrm>
          <a:custGeom>
            <a:avLst/>
            <a:gdLst>
              <a:gd name="textAreaLeft" fmla="*/ 88560 w 287280"/>
              <a:gd name="textAreaRight" fmla="*/ 198720 w 287280"/>
              <a:gd name="textAreaTop" fmla="*/ 110160 h 288720"/>
              <a:gd name="textAreaBottom" fmla="*/ 220680 h 288720"/>
            </a:gdLst>
            <a:ahLst/>
            <a:rect l="textAreaLeft" t="textAreaTop" r="textAreaRight" b="textAreaBottom"/>
            <a:pathLst>
              <a:path w="287338" h="288925">
                <a:moveTo>
                  <a:pt x="0" y="110359"/>
                </a:moveTo>
                <a:lnTo>
                  <a:pt x="109754" y="110360"/>
                </a:lnTo>
                <a:lnTo>
                  <a:pt x="143669" y="0"/>
                </a:lnTo>
                <a:lnTo>
                  <a:pt x="177584" y="110360"/>
                </a:lnTo>
                <a:lnTo>
                  <a:pt x="287338" y="110359"/>
                </a:lnTo>
                <a:lnTo>
                  <a:pt x="198545" y="178565"/>
                </a:lnTo>
                <a:lnTo>
                  <a:pt x="232461" y="288924"/>
                </a:lnTo>
                <a:lnTo>
                  <a:pt x="143669" y="220718"/>
                </a:lnTo>
                <a:lnTo>
                  <a:pt x="54877" y="288924"/>
                </a:lnTo>
                <a:lnTo>
                  <a:pt x="88793" y="178565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5" name="AutoShape 26"/>
          <p:cNvSpPr/>
          <p:nvPr/>
        </p:nvSpPr>
        <p:spPr>
          <a:xfrm>
            <a:off x="971640" y="4005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6" name="AutoShape 27"/>
          <p:cNvSpPr/>
          <p:nvPr/>
        </p:nvSpPr>
        <p:spPr>
          <a:xfrm>
            <a:off x="2770200" y="3500280"/>
            <a:ext cx="144360" cy="142920"/>
          </a:xfrm>
          <a:prstGeom prst="pi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7" name="AutoShape 28"/>
          <p:cNvSpPr/>
          <p:nvPr/>
        </p:nvSpPr>
        <p:spPr>
          <a:xfrm>
            <a:off x="8317080" y="551664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8" name="AutoShape 29"/>
          <p:cNvSpPr/>
          <p:nvPr/>
        </p:nvSpPr>
        <p:spPr>
          <a:xfrm>
            <a:off x="7596360" y="3573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9" name="AutoShape 30"/>
          <p:cNvSpPr/>
          <p:nvPr/>
        </p:nvSpPr>
        <p:spPr>
          <a:xfrm>
            <a:off x="3417840" y="4148280"/>
            <a:ext cx="144360" cy="142560"/>
          </a:xfrm>
          <a:custGeom>
            <a:avLst/>
            <a:gdLst>
              <a:gd name="textAreaLeft" fmla="*/ 44640 w 144360"/>
              <a:gd name="textAreaRight" fmla="*/ 99720 w 144360"/>
              <a:gd name="textAreaTop" fmla="*/ 54360 h 142560"/>
              <a:gd name="textAreaBottom" fmla="*/ 109080 h 14256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0" name="AutoShape 31"/>
          <p:cNvSpPr/>
          <p:nvPr/>
        </p:nvSpPr>
        <p:spPr>
          <a:xfrm>
            <a:off x="7020000" y="3213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1" name="AutoShape 32"/>
          <p:cNvSpPr/>
          <p:nvPr/>
        </p:nvSpPr>
        <p:spPr>
          <a:xfrm>
            <a:off x="7667640" y="407664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AutoShape 33"/>
          <p:cNvSpPr/>
          <p:nvPr/>
        </p:nvSpPr>
        <p:spPr>
          <a:xfrm>
            <a:off x="4500720" y="5445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3" name="AutoShape 34"/>
          <p:cNvSpPr/>
          <p:nvPr/>
        </p:nvSpPr>
        <p:spPr>
          <a:xfrm>
            <a:off x="3203640" y="59500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AutoShape 35"/>
          <p:cNvSpPr/>
          <p:nvPr/>
        </p:nvSpPr>
        <p:spPr>
          <a:xfrm>
            <a:off x="4643280" y="5157720"/>
            <a:ext cx="216000" cy="287280"/>
          </a:xfrm>
          <a:custGeom>
            <a:avLst/>
            <a:gdLst>
              <a:gd name="textAreaLeft" fmla="*/ 66600 w 216000"/>
              <a:gd name="textAreaRight" fmla="*/ 149400 w 216000"/>
              <a:gd name="textAreaTop" fmla="*/ 109800 h 287280"/>
              <a:gd name="textAreaBottom" fmla="*/ 219600 h 287280"/>
            </a:gdLst>
            <a:ahLst/>
            <a:rect l="textAreaLeft" t="textAreaTop" r="textAreaRight" b="textAreaBottom"/>
            <a:pathLst>
              <a:path w="215900" h="287337">
                <a:moveTo>
                  <a:pt x="0" y="109753"/>
                </a:moveTo>
                <a:lnTo>
                  <a:pt x="82467" y="109753"/>
                </a:lnTo>
                <a:lnTo>
                  <a:pt x="107950" y="0"/>
                </a:lnTo>
                <a:lnTo>
                  <a:pt x="133433" y="109753"/>
                </a:lnTo>
                <a:lnTo>
                  <a:pt x="215900" y="109753"/>
                </a:lnTo>
                <a:lnTo>
                  <a:pt x="149183" y="177583"/>
                </a:lnTo>
                <a:lnTo>
                  <a:pt x="174667" y="287336"/>
                </a:lnTo>
                <a:lnTo>
                  <a:pt x="107950" y="219504"/>
                </a:lnTo>
                <a:lnTo>
                  <a:pt x="41233" y="287336"/>
                </a:lnTo>
                <a:lnTo>
                  <a:pt x="66717" y="177583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5" name="AutoShape 36"/>
          <p:cNvSpPr/>
          <p:nvPr/>
        </p:nvSpPr>
        <p:spPr>
          <a:xfrm>
            <a:off x="6948360" y="573408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6" name="AutoShape 37"/>
          <p:cNvSpPr/>
          <p:nvPr/>
        </p:nvSpPr>
        <p:spPr>
          <a:xfrm>
            <a:off x="6877080" y="5300640"/>
            <a:ext cx="360360" cy="287280"/>
          </a:xfrm>
          <a:custGeom>
            <a:avLst/>
            <a:gdLst>
              <a:gd name="textAreaLeft" fmla="*/ 111240 w 360360"/>
              <a:gd name="textAreaRight" fmla="*/ 249120 w 360360"/>
              <a:gd name="textAreaTop" fmla="*/ 109800 h 287280"/>
              <a:gd name="textAreaBottom" fmla="*/ 219600 h 287280"/>
            </a:gdLst>
            <a:ahLst/>
            <a:rect l="textAreaLeft" t="textAreaTop" r="textAreaRight" b="textAreaBottom"/>
            <a:pathLst>
              <a:path w="360363" h="287337">
                <a:moveTo>
                  <a:pt x="0" y="109753"/>
                </a:moveTo>
                <a:lnTo>
                  <a:pt x="137647" y="109753"/>
                </a:lnTo>
                <a:lnTo>
                  <a:pt x="180182" y="0"/>
                </a:lnTo>
                <a:lnTo>
                  <a:pt x="222716" y="109753"/>
                </a:lnTo>
                <a:lnTo>
                  <a:pt x="360363" y="109753"/>
                </a:lnTo>
                <a:lnTo>
                  <a:pt x="249004" y="177583"/>
                </a:lnTo>
                <a:lnTo>
                  <a:pt x="291540" y="287336"/>
                </a:lnTo>
                <a:lnTo>
                  <a:pt x="180182" y="219504"/>
                </a:lnTo>
                <a:lnTo>
                  <a:pt x="68823" y="287336"/>
                </a:lnTo>
                <a:lnTo>
                  <a:pt x="111359" y="177583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7" name="AutoShape 38"/>
          <p:cNvSpPr/>
          <p:nvPr/>
        </p:nvSpPr>
        <p:spPr>
          <a:xfrm>
            <a:off x="684360" y="981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AutoShape 39"/>
          <p:cNvSpPr/>
          <p:nvPr/>
        </p:nvSpPr>
        <p:spPr>
          <a:xfrm>
            <a:off x="2268360" y="76500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9" name="AutoShape 40"/>
          <p:cNvSpPr/>
          <p:nvPr/>
        </p:nvSpPr>
        <p:spPr>
          <a:xfrm>
            <a:off x="2124000" y="76500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0" name="AutoShape 41"/>
          <p:cNvSpPr/>
          <p:nvPr/>
        </p:nvSpPr>
        <p:spPr>
          <a:xfrm>
            <a:off x="3276720" y="1557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AutoShape 42"/>
          <p:cNvSpPr/>
          <p:nvPr/>
        </p:nvSpPr>
        <p:spPr>
          <a:xfrm>
            <a:off x="1690560" y="242100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2" name="AutoShape 43"/>
          <p:cNvSpPr/>
          <p:nvPr/>
        </p:nvSpPr>
        <p:spPr>
          <a:xfrm>
            <a:off x="8244000" y="90792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AutoShape 44"/>
          <p:cNvSpPr/>
          <p:nvPr/>
        </p:nvSpPr>
        <p:spPr>
          <a:xfrm>
            <a:off x="5651640" y="1484280"/>
            <a:ext cx="288720" cy="216000"/>
          </a:xfrm>
          <a:custGeom>
            <a:avLst/>
            <a:gdLst>
              <a:gd name="textAreaLeft" fmla="*/ 89280 w 288720"/>
              <a:gd name="textAreaRight" fmla="*/ 199440 w 288720"/>
              <a:gd name="textAreaTop" fmla="*/ 82440 h 216000"/>
              <a:gd name="textAreaBottom" fmla="*/ 165240 h 216000"/>
            </a:gdLst>
            <a:ahLst/>
            <a:rect l="textAreaLeft" t="textAreaTop" r="textAreaRight" b="textAreaBottom"/>
            <a:pathLst>
              <a:path w="288925" h="215900">
                <a:moveTo>
                  <a:pt x="0" y="82466"/>
                </a:moveTo>
                <a:lnTo>
                  <a:pt x="110360" y="82467"/>
                </a:lnTo>
                <a:lnTo>
                  <a:pt x="144463" y="0"/>
                </a:lnTo>
                <a:lnTo>
                  <a:pt x="178565" y="82467"/>
                </a:lnTo>
                <a:lnTo>
                  <a:pt x="288925" y="82466"/>
                </a:lnTo>
                <a:lnTo>
                  <a:pt x="199641" y="133433"/>
                </a:lnTo>
                <a:lnTo>
                  <a:pt x="233745" y="215899"/>
                </a:lnTo>
                <a:lnTo>
                  <a:pt x="144463" y="164932"/>
                </a:lnTo>
                <a:lnTo>
                  <a:pt x="55180" y="215899"/>
                </a:lnTo>
                <a:lnTo>
                  <a:pt x="89284" y="133433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4" name="AutoShape 45"/>
          <p:cNvSpPr/>
          <p:nvPr/>
        </p:nvSpPr>
        <p:spPr>
          <a:xfrm>
            <a:off x="8244000" y="62064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AutoShape 46"/>
          <p:cNvSpPr/>
          <p:nvPr/>
        </p:nvSpPr>
        <p:spPr>
          <a:xfrm>
            <a:off x="468360" y="6021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6" name="AutoShape 47"/>
          <p:cNvSpPr/>
          <p:nvPr/>
        </p:nvSpPr>
        <p:spPr>
          <a:xfrm>
            <a:off x="5867280" y="357336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AutoShape 48"/>
          <p:cNvSpPr/>
          <p:nvPr/>
        </p:nvSpPr>
        <p:spPr>
          <a:xfrm>
            <a:off x="5364000" y="155736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8" name="AutoShape 49"/>
          <p:cNvSpPr/>
          <p:nvPr/>
        </p:nvSpPr>
        <p:spPr>
          <a:xfrm>
            <a:off x="611280" y="6237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9" name="AutoShape 50"/>
          <p:cNvSpPr/>
          <p:nvPr/>
        </p:nvSpPr>
        <p:spPr>
          <a:xfrm>
            <a:off x="3417840" y="4148280"/>
            <a:ext cx="144360" cy="142560"/>
          </a:xfrm>
          <a:prstGeom prst="pi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AutoShape 51"/>
          <p:cNvSpPr/>
          <p:nvPr/>
        </p:nvSpPr>
        <p:spPr>
          <a:xfrm>
            <a:off x="3132000" y="573408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AutoShape 52"/>
          <p:cNvSpPr/>
          <p:nvPr/>
        </p:nvSpPr>
        <p:spPr>
          <a:xfrm>
            <a:off x="1619280" y="530064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2" name="AutoShape 53"/>
          <p:cNvSpPr/>
          <p:nvPr/>
        </p:nvSpPr>
        <p:spPr>
          <a:xfrm>
            <a:off x="4356000" y="5229360"/>
            <a:ext cx="144720" cy="142920"/>
          </a:xfrm>
          <a:custGeom>
            <a:avLst/>
            <a:gdLst>
              <a:gd name="textAreaLeft" fmla="*/ 44640 w 144720"/>
              <a:gd name="textAreaRight" fmla="*/ 100080 w 1447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3" name="AutoShape 55"/>
          <p:cNvSpPr/>
          <p:nvPr/>
        </p:nvSpPr>
        <p:spPr>
          <a:xfrm>
            <a:off x="4788000" y="515772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3" h="142875">
                <a:moveTo>
                  <a:pt x="0" y="54573"/>
                </a:moveTo>
                <a:lnTo>
                  <a:pt x="55180" y="54574"/>
                </a:lnTo>
                <a:lnTo>
                  <a:pt x="72232" y="0"/>
                </a:lnTo>
                <a:lnTo>
                  <a:pt x="89283" y="54574"/>
                </a:lnTo>
                <a:lnTo>
                  <a:pt x="144463" y="54573"/>
                </a:lnTo>
                <a:lnTo>
                  <a:pt x="99821" y="88301"/>
                </a:lnTo>
                <a:lnTo>
                  <a:pt x="116873" y="142875"/>
                </a:lnTo>
                <a:lnTo>
                  <a:pt x="72232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AutoShape 56"/>
          <p:cNvSpPr/>
          <p:nvPr/>
        </p:nvSpPr>
        <p:spPr>
          <a:xfrm>
            <a:off x="6516720" y="479736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5" name="AutoShape 57"/>
          <p:cNvSpPr/>
          <p:nvPr/>
        </p:nvSpPr>
        <p:spPr>
          <a:xfrm>
            <a:off x="5580000" y="5734080"/>
            <a:ext cx="144360" cy="142920"/>
          </a:xfrm>
          <a:custGeom>
            <a:avLst/>
            <a:gdLst>
              <a:gd name="textAreaLeft" fmla="*/ 44640 w 144360"/>
              <a:gd name="textAreaRight" fmla="*/ 99720 w 144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4462" h="142875">
                <a:moveTo>
                  <a:pt x="0" y="54573"/>
                </a:moveTo>
                <a:lnTo>
                  <a:pt x="55180" y="54574"/>
                </a:lnTo>
                <a:lnTo>
                  <a:pt x="72231" y="0"/>
                </a:lnTo>
                <a:lnTo>
                  <a:pt x="89282" y="54574"/>
                </a:lnTo>
                <a:lnTo>
                  <a:pt x="144462" y="54573"/>
                </a:lnTo>
                <a:lnTo>
                  <a:pt x="99820" y="88301"/>
                </a:lnTo>
                <a:lnTo>
                  <a:pt x="116872" y="142875"/>
                </a:lnTo>
                <a:lnTo>
                  <a:pt x="72231" y="109146"/>
                </a:lnTo>
                <a:lnTo>
                  <a:pt x="27590" y="142875"/>
                </a:lnTo>
                <a:lnTo>
                  <a:pt x="44642" y="88301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6" name="Picture 59" descr="hs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28920" y="1071720"/>
            <a:ext cx="450036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18:03:32Z</dcterms:created>
  <dc:creator>carole.beeston</dc:creator>
  <dc:description/>
  <dc:language>en-US</dc:language>
  <cp:lastModifiedBy>Clare Seccombe</cp:lastModifiedBy>
  <dcterms:modified xsi:type="dcterms:W3CDTF">2010-11-02T13:56:50Z</dcterms:modified>
  <cp:revision>16</cp:revision>
  <dc:subject/>
  <dc:title>Les planètes du système solaire</dc:title>
</cp:coreProperties>
</file>