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14.gif" ContentType="image/gif"/>
  <Override PartName="/ppt/media/image1.wmf" ContentType="image/x-wmf"/>
  <Override PartName="/ppt/media/image31.wmf" ContentType="image/x-wmf"/>
  <Override PartName="/ppt/media/image2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36.wmf" ContentType="image/x-wmf"/>
  <Override PartName="/ppt/media/image16.png" ContentType="image/png"/>
  <Override PartName="/ppt/media/image37.png" ContentType="image/png"/>
  <Override PartName="/ppt/media/image38.wmf" ContentType="image/x-wmf"/>
  <Override PartName="/ppt/media/image41.png" ContentType="image/png"/>
  <Override PartName="/ppt/media/image42.png" ContentType="image/png"/>
  <Override PartName="/ppt/media/image32.png" ContentType="image/png"/>
  <Override PartName="/ppt/media/image43.wmf" ContentType="image/x-wmf"/>
  <Override PartName="/ppt/media/image40.gif" ContentType="image/gif"/>
  <Override PartName="/ppt/media/image33.png" ContentType="image/png"/>
  <Override PartName="/ppt/media/image8.png" ContentType="image/png"/>
  <Override PartName="/ppt/media/image44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49.wmf" ContentType="image/x-wmf"/>
  <Override PartName="/ppt/media/image6.png" ContentType="image/png"/>
  <Override PartName="/ppt/media/image30.png" ContentType="image/png"/>
  <Override PartName="/ppt/media/image13.gif" ContentType="image/gif"/>
  <Override PartName="/ppt/media/image46.wmf" ContentType="image/x-wmf"/>
  <Override PartName="/ppt/media/image12.png" ContentType="image/png"/>
  <Override PartName="/ppt/media/image7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745D-D9D0-444A-8363-C509C3CA03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7D59-7DEB-48E3-B808-8CD69AB2A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ACE1-E5EE-4A14-A525-3A2340E99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what changes in each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pupils if they understand the vocab – can they say which habitat and which animal is in each verse ?  If yes, how do they know ?  If no, what can they do to help themselves to find out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C54-9AB5-4001-893D-0A65EC50E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ing now about the words in the verses, the patterns and the sounds that they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are these words highlighted ?  (Easy one to start!)  Discuss with talk partners to decide on the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B0D7-7125-4CC7-833D-C5083B7F0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are these words highlighted ? Discuss with talk partners to decide on the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 syllables e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3A11-764F-4E32-B0D0-C1382B6C2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D1D-59A5-4921-B855-116CB98E0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tting text in order -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 out the verse and put the colour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can read out individually or practise with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course could do this with individual words as well, with pictures from the text like a storybo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SQUARES OF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1316-344F-42A0-A949-EE6A1AC88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F2D3-BDB5-4B66-BD15-F1B419912A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CF29-0315-43A5-9AFA-63B7A1D72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685D-6F95-4F0A-8C09-C593F2A19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0B8B-2B67-45FC-84DE-F97C58939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3C2-CA37-4406-9567-384D4348A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E610-6618-4DFF-AA4E-8D80C0AE6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7472-30D5-4495-8F64-6A952602E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B0C-27CE-47F9-ACB8-A17689AA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32F-8E55-4581-B19D-23B9873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9C9-585E-4F63-B94D-5C72AAC3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AA9-0775-47EC-B1EB-4419D0B2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9B4-B774-47F4-B1BE-557DB4E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8F2-6B42-4EFC-B7CF-E812065B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DCD-C05E-464A-BE0A-84FE98DE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B4A-2806-40B6-B10C-50F170CA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7FA-94EE-4FB0-8D40-FDB62F72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9E5-E31F-495D-BD1C-2EBBEBC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C3B-010B-4608-B0A3-04C544A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BED-E801-4A0E-AD1D-1458315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FA8-7B72-4371-A1A6-565BD616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4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wmf"/><Relationship Id="rId17" Type="http://schemas.openxmlformats.org/officeDocument/2006/relationships/image" Target="../media/image37.png"/><Relationship Id="rId18" Type="http://schemas.openxmlformats.org/officeDocument/2006/relationships/image" Target="../media/image38.wmf"/><Relationship Id="rId19" Type="http://schemas.openxmlformats.org/officeDocument/2006/relationships/image" Target="../media/image39.png"/><Relationship Id="rId20" Type="http://schemas.openxmlformats.org/officeDocument/2006/relationships/image" Target="../media/image40.gi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8.png"/><Relationship Id="rId18" Type="http://schemas.openxmlformats.org/officeDocument/2006/relationships/image" Target="../media/image16.png"/><Relationship Id="rId19" Type="http://schemas.openxmlformats.org/officeDocument/2006/relationships/image" Target="../media/image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2924280"/>
          </a:xfrm>
          <a:prstGeom prst="rect">
            <a:avLst/>
          </a:prstGeom>
          <a:solidFill>
            <a:srgbClr val="d1dff3"/>
          </a:solidFill>
          <a:ln w="9360">
            <a:solidFill>
              <a:srgbClr val="d1d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-36360" y="2924280"/>
            <a:ext cx="9144000" cy="3933720"/>
          </a:xfrm>
          <a:prstGeom prst="rect">
            <a:avLst/>
          </a:prstGeom>
          <a:gradFill rotWithShape="0">
            <a:gsLst>
              <a:gs pos="0">
                <a:srgbClr val="184718"/>
              </a:gs>
              <a:gs pos="100000">
                <a:srgbClr val="339933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2195640" y="3716280"/>
            <a:ext cx="6405480" cy="1925640"/>
          </a:xfrm>
          <a:custGeom>
            <a:avLst/>
            <a:gdLst>
              <a:gd name="textAreaLeft" fmla="*/ 0 w 6405480"/>
              <a:gd name="textAreaRight" fmla="*/ 6405840 w 6405480"/>
              <a:gd name="textAreaTop" fmla="*/ 0 h 1925640"/>
              <a:gd name="textAreaBottom" fmla="*/ 1926000 h 1925640"/>
            </a:gdLst>
            <a:ahLst/>
            <a:rect l="textAreaLeft" t="textAreaTop" r="textAreaRight" b="textAreaBottom"/>
            <a:pathLst>
              <a:path w="4035" h="1213">
                <a:moveTo>
                  <a:pt x="1118" y="193"/>
                </a:moveTo>
                <a:cubicBezTo>
                  <a:pt x="1155" y="182"/>
                  <a:pt x="1133" y="191"/>
                  <a:pt x="1180" y="159"/>
                </a:cubicBezTo>
                <a:cubicBezTo>
                  <a:pt x="1223" y="129"/>
                  <a:pt x="1280" y="102"/>
                  <a:pt x="1331" y="91"/>
                </a:cubicBezTo>
                <a:cubicBezTo>
                  <a:pt x="1507" y="0"/>
                  <a:pt x="1653" y="74"/>
                  <a:pt x="1900" y="77"/>
                </a:cubicBezTo>
                <a:cubicBezTo>
                  <a:pt x="2082" y="114"/>
                  <a:pt x="2262" y="119"/>
                  <a:pt x="2448" y="125"/>
                </a:cubicBezTo>
                <a:cubicBezTo>
                  <a:pt x="2548" y="138"/>
                  <a:pt x="2649" y="175"/>
                  <a:pt x="2750" y="180"/>
                </a:cubicBezTo>
                <a:cubicBezTo>
                  <a:pt x="2825" y="184"/>
                  <a:pt x="2901" y="185"/>
                  <a:pt x="2976" y="187"/>
                </a:cubicBezTo>
                <a:cubicBezTo>
                  <a:pt x="2994" y="189"/>
                  <a:pt x="3082" y="197"/>
                  <a:pt x="3100" y="200"/>
                </a:cubicBezTo>
                <a:cubicBezTo>
                  <a:pt x="3168" y="212"/>
                  <a:pt x="3236" y="243"/>
                  <a:pt x="3305" y="248"/>
                </a:cubicBezTo>
                <a:cubicBezTo>
                  <a:pt x="3360" y="252"/>
                  <a:pt x="3415" y="253"/>
                  <a:pt x="3470" y="255"/>
                </a:cubicBezTo>
                <a:cubicBezTo>
                  <a:pt x="3539" y="283"/>
                  <a:pt x="3586" y="325"/>
                  <a:pt x="3641" y="372"/>
                </a:cubicBezTo>
                <a:cubicBezTo>
                  <a:pt x="3695" y="418"/>
                  <a:pt x="3644" y="361"/>
                  <a:pt x="3724" y="427"/>
                </a:cubicBezTo>
                <a:cubicBezTo>
                  <a:pt x="3757" y="455"/>
                  <a:pt x="3792" y="484"/>
                  <a:pt x="3827" y="509"/>
                </a:cubicBezTo>
                <a:cubicBezTo>
                  <a:pt x="3896" y="560"/>
                  <a:pt x="3971" y="601"/>
                  <a:pt x="4012" y="680"/>
                </a:cubicBezTo>
                <a:cubicBezTo>
                  <a:pt x="4022" y="732"/>
                  <a:pt x="4035" y="758"/>
                  <a:pt x="4019" y="817"/>
                </a:cubicBezTo>
                <a:cubicBezTo>
                  <a:pt x="4016" y="827"/>
                  <a:pt x="4004" y="830"/>
                  <a:pt x="3998" y="838"/>
                </a:cubicBezTo>
                <a:cubicBezTo>
                  <a:pt x="3992" y="846"/>
                  <a:pt x="3991" y="858"/>
                  <a:pt x="3984" y="865"/>
                </a:cubicBezTo>
                <a:cubicBezTo>
                  <a:pt x="3968" y="881"/>
                  <a:pt x="3914" y="890"/>
                  <a:pt x="3902" y="893"/>
                </a:cubicBezTo>
                <a:cubicBezTo>
                  <a:pt x="3852" y="919"/>
                  <a:pt x="3800" y="941"/>
                  <a:pt x="3744" y="948"/>
                </a:cubicBezTo>
                <a:cubicBezTo>
                  <a:pt x="3547" y="1017"/>
                  <a:pt x="3316" y="995"/>
                  <a:pt x="3113" y="1003"/>
                </a:cubicBezTo>
                <a:cubicBezTo>
                  <a:pt x="3057" y="1008"/>
                  <a:pt x="3011" y="1022"/>
                  <a:pt x="2956" y="1030"/>
                </a:cubicBezTo>
                <a:cubicBezTo>
                  <a:pt x="2864" y="1076"/>
                  <a:pt x="2753" y="1101"/>
                  <a:pt x="2654" y="1126"/>
                </a:cubicBezTo>
                <a:cubicBezTo>
                  <a:pt x="2540" y="1155"/>
                  <a:pt x="2429" y="1190"/>
                  <a:pt x="2311" y="1201"/>
                </a:cubicBezTo>
                <a:cubicBezTo>
                  <a:pt x="1942" y="1198"/>
                  <a:pt x="1551" y="1213"/>
                  <a:pt x="1187" y="1119"/>
                </a:cubicBezTo>
                <a:cubicBezTo>
                  <a:pt x="1160" y="1099"/>
                  <a:pt x="1140" y="1098"/>
                  <a:pt x="1111" y="1085"/>
                </a:cubicBezTo>
                <a:cubicBezTo>
                  <a:pt x="1068" y="1065"/>
                  <a:pt x="1026" y="1038"/>
                  <a:pt x="981" y="1023"/>
                </a:cubicBezTo>
                <a:cubicBezTo>
                  <a:pt x="954" y="1014"/>
                  <a:pt x="925" y="1014"/>
                  <a:pt x="899" y="1003"/>
                </a:cubicBezTo>
                <a:cubicBezTo>
                  <a:pt x="868" y="990"/>
                  <a:pt x="850" y="982"/>
                  <a:pt x="816" y="975"/>
                </a:cubicBezTo>
                <a:cubicBezTo>
                  <a:pt x="788" y="955"/>
                  <a:pt x="769" y="954"/>
                  <a:pt x="734" y="948"/>
                </a:cubicBezTo>
                <a:cubicBezTo>
                  <a:pt x="701" y="934"/>
                  <a:pt x="673" y="920"/>
                  <a:pt x="638" y="913"/>
                </a:cubicBezTo>
                <a:cubicBezTo>
                  <a:pt x="596" y="893"/>
                  <a:pt x="552" y="892"/>
                  <a:pt x="508" y="879"/>
                </a:cubicBezTo>
                <a:cubicBezTo>
                  <a:pt x="482" y="871"/>
                  <a:pt x="458" y="860"/>
                  <a:pt x="432" y="852"/>
                </a:cubicBezTo>
                <a:cubicBezTo>
                  <a:pt x="409" y="845"/>
                  <a:pt x="363" y="841"/>
                  <a:pt x="343" y="838"/>
                </a:cubicBezTo>
                <a:cubicBezTo>
                  <a:pt x="286" y="829"/>
                  <a:pt x="228" y="812"/>
                  <a:pt x="172" y="797"/>
                </a:cubicBezTo>
                <a:cubicBezTo>
                  <a:pt x="111" y="752"/>
                  <a:pt x="139" y="763"/>
                  <a:pt x="96" y="749"/>
                </a:cubicBezTo>
                <a:cubicBezTo>
                  <a:pt x="74" y="726"/>
                  <a:pt x="52" y="715"/>
                  <a:pt x="35" y="687"/>
                </a:cubicBezTo>
                <a:cubicBezTo>
                  <a:pt x="30" y="678"/>
                  <a:pt x="25" y="669"/>
                  <a:pt x="21" y="660"/>
                </a:cubicBezTo>
                <a:cubicBezTo>
                  <a:pt x="16" y="647"/>
                  <a:pt x="7" y="619"/>
                  <a:pt x="7" y="619"/>
                </a:cubicBezTo>
                <a:cubicBezTo>
                  <a:pt x="10" y="559"/>
                  <a:pt x="0" y="492"/>
                  <a:pt x="35" y="440"/>
                </a:cubicBezTo>
                <a:cubicBezTo>
                  <a:pt x="45" y="394"/>
                  <a:pt x="66" y="355"/>
                  <a:pt x="103" y="324"/>
                </a:cubicBezTo>
                <a:cubicBezTo>
                  <a:pt x="126" y="305"/>
                  <a:pt x="158" y="301"/>
                  <a:pt x="185" y="289"/>
                </a:cubicBezTo>
                <a:cubicBezTo>
                  <a:pt x="270" y="252"/>
                  <a:pt x="362" y="237"/>
                  <a:pt x="453" y="228"/>
                </a:cubicBezTo>
                <a:cubicBezTo>
                  <a:pt x="530" y="212"/>
                  <a:pt x="592" y="216"/>
                  <a:pt x="672" y="221"/>
                </a:cubicBezTo>
                <a:cubicBezTo>
                  <a:pt x="818" y="257"/>
                  <a:pt x="712" y="234"/>
                  <a:pt x="1070" y="221"/>
                </a:cubicBezTo>
                <a:cubicBezTo>
                  <a:pt x="1091" y="220"/>
                  <a:pt x="1118" y="215"/>
                  <a:pt x="1118" y="193"/>
                </a:cubicBezTo>
                <a:close/>
              </a:path>
            </a:pathLst>
          </a:custGeom>
          <a:gradFill rotWithShape="0">
            <a:gsLst>
              <a:gs pos="0">
                <a:srgbClr val="7da4dd"/>
              </a:gs>
              <a:gs pos="100000">
                <a:srgbClr val="3a4c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6" descr="rushes"/>
          <p:cNvPicPr/>
          <p:nvPr/>
        </p:nvPicPr>
        <p:blipFill>
          <a:blip r:embed="rId1"/>
          <a:stretch/>
        </p:blipFill>
        <p:spPr>
          <a:xfrm>
            <a:off x="3132000" y="2852640"/>
            <a:ext cx="970200" cy="1311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ushes"/>
          <p:cNvPicPr/>
          <p:nvPr/>
        </p:nvPicPr>
        <p:blipFill>
          <a:blip r:embed="rId2"/>
          <a:stretch/>
        </p:blipFill>
        <p:spPr>
          <a:xfrm>
            <a:off x="2916360" y="2852640"/>
            <a:ext cx="969840" cy="1311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rushes"/>
          <p:cNvPicPr/>
          <p:nvPr/>
        </p:nvPicPr>
        <p:blipFill>
          <a:blip r:embed="rId3"/>
          <a:stretch/>
        </p:blipFill>
        <p:spPr>
          <a:xfrm>
            <a:off x="2916360" y="2997360"/>
            <a:ext cx="96984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ushes"/>
          <p:cNvPicPr/>
          <p:nvPr/>
        </p:nvPicPr>
        <p:blipFill>
          <a:blip r:embed="rId4"/>
          <a:stretch/>
        </p:blipFill>
        <p:spPr>
          <a:xfrm>
            <a:off x="3348000" y="2997360"/>
            <a:ext cx="969840" cy="131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ushes"/>
          <p:cNvPicPr/>
          <p:nvPr/>
        </p:nvPicPr>
        <p:blipFill>
          <a:blip r:embed="rId5"/>
          <a:stretch/>
        </p:blipFill>
        <p:spPr>
          <a:xfrm>
            <a:off x="2340000" y="2852640"/>
            <a:ext cx="1298520" cy="175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rushes"/>
          <p:cNvPicPr/>
          <p:nvPr/>
        </p:nvPicPr>
        <p:blipFill>
          <a:blip r:embed="rId6"/>
          <a:stretch/>
        </p:blipFill>
        <p:spPr>
          <a:xfrm>
            <a:off x="2700360" y="3284640"/>
            <a:ext cx="1298520" cy="1757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rushes"/>
          <p:cNvPicPr/>
          <p:nvPr/>
        </p:nvPicPr>
        <p:blipFill>
          <a:blip r:embed="rId7"/>
          <a:stretch/>
        </p:blipFill>
        <p:spPr>
          <a:xfrm>
            <a:off x="1979640" y="2997360"/>
            <a:ext cx="1298520" cy="17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lily"/>
          <p:cNvPicPr/>
          <p:nvPr/>
        </p:nvPicPr>
        <p:blipFill>
          <a:blip r:embed="rId8"/>
          <a:stretch/>
        </p:blipFill>
        <p:spPr>
          <a:xfrm>
            <a:off x="5003640" y="4307040"/>
            <a:ext cx="648000" cy="264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lily"/>
          <p:cNvPicPr/>
          <p:nvPr/>
        </p:nvPicPr>
        <p:blipFill>
          <a:blip r:embed="rId9"/>
          <a:stretch/>
        </p:blipFill>
        <p:spPr>
          <a:xfrm>
            <a:off x="5219640" y="4581360"/>
            <a:ext cx="503280" cy="20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lily"/>
          <p:cNvPicPr/>
          <p:nvPr/>
        </p:nvPicPr>
        <p:blipFill>
          <a:blip r:embed="rId10"/>
          <a:stretch/>
        </p:blipFill>
        <p:spPr>
          <a:xfrm>
            <a:off x="4427640" y="4581360"/>
            <a:ext cx="718920" cy="29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lily"/>
          <p:cNvPicPr/>
          <p:nvPr/>
        </p:nvPicPr>
        <p:blipFill>
          <a:blip r:embed="rId11"/>
          <a:stretch/>
        </p:blipFill>
        <p:spPr>
          <a:xfrm>
            <a:off x="5724360" y="4365720"/>
            <a:ext cx="503280" cy="20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lily"/>
          <p:cNvPicPr/>
          <p:nvPr/>
        </p:nvPicPr>
        <p:blipFill>
          <a:blip r:embed="rId12"/>
          <a:stretch/>
        </p:blipFill>
        <p:spPr>
          <a:xfrm>
            <a:off x="6227640" y="4508640"/>
            <a:ext cx="503280" cy="206280"/>
          </a:xfrm>
          <a:prstGeom prst="rect">
            <a:avLst/>
          </a:prstGeom>
          <a:ln w="0">
            <a:noFill/>
          </a:ln>
        </p:spPr>
      </p:pic>
      <p:sp>
        <p:nvSpPr>
          <p:cNvPr id="130" name="Oval 21"/>
          <p:cNvSpPr/>
          <p:nvPr/>
        </p:nvSpPr>
        <p:spPr>
          <a:xfrm>
            <a:off x="1692360" y="26028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22" descr="tree6"/>
          <p:cNvPicPr/>
          <p:nvPr/>
        </p:nvPicPr>
        <p:blipFill>
          <a:blip r:embed="rId13"/>
          <a:stretch/>
        </p:blipFill>
        <p:spPr>
          <a:xfrm>
            <a:off x="34920" y="-171360"/>
            <a:ext cx="797040" cy="329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tree4"/>
          <p:cNvPicPr/>
          <p:nvPr/>
        </p:nvPicPr>
        <p:blipFill>
          <a:blip r:embed="rId14"/>
          <a:stretch/>
        </p:blipFill>
        <p:spPr>
          <a:xfrm>
            <a:off x="250920" y="620640"/>
            <a:ext cx="2016000" cy="278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tree7"/>
          <p:cNvPicPr/>
          <p:nvPr/>
        </p:nvPicPr>
        <p:blipFill>
          <a:blip r:embed="rId15"/>
          <a:stretch/>
        </p:blipFill>
        <p:spPr>
          <a:xfrm>
            <a:off x="6084720" y="-27000"/>
            <a:ext cx="6026400" cy="732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an02005_"/>
          <p:cNvPicPr/>
          <p:nvPr/>
        </p:nvPicPr>
        <p:blipFill>
          <a:blip r:embed="rId16"/>
          <a:stretch/>
        </p:blipFill>
        <p:spPr>
          <a:xfrm>
            <a:off x="7812000" y="6024600"/>
            <a:ext cx="649440" cy="609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7"/>
          <p:cNvSpPr/>
          <p:nvPr/>
        </p:nvSpPr>
        <p:spPr>
          <a:xfrm>
            <a:off x="2843280" y="620640"/>
            <a:ext cx="3672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ès de l’étang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e grenouille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28"/>
          <p:cNvSpPr/>
          <p:nvPr/>
        </p:nvSpPr>
        <p:spPr>
          <a:xfrm>
            <a:off x="468360" y="1773360"/>
            <a:ext cx="4967280" cy="1368360"/>
          </a:xfrm>
          <a:prstGeom prst="wedgeRoundRectCallout">
            <a:avLst>
              <a:gd name="adj1" fmla="val 32037"/>
              <a:gd name="adj2" fmla="val 12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 printemps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3.33333E-006 C 0.00712 -0.05093 -0.00261 -0.08982 -0.03907 -0.10232 C -0.04323 -0.10162 -0.04757 -0.10162 -0.05191 -0.10047 C -0.05486 -0.09977 -0.05764 -0.09769 -0.06042 -0.09653 C -0.06198 -0.09584 -0.06476 -0.09445 -0.06476 -0.09422 C -0.06563 -0.0926 -0.0658 -0.08866 -0.06771 -0.08866 C -0.07136 -0.08866 -0.06771 -0.10047 -0.06771 -0.10023 C -0.06823 -0.11621 -0.06841 -0.13195 -0.0691 -0.14769 C -0.06997 -0.16505 -0.07604 -0.17593 -0.08334 -0.18889 C -0.08924 -0.19954 -0.09427 -0.21019 -0.10052 -0.22037 C -0.10538 -0.22824 -0.10868 -0.23843 -0.11493 -0.24398 C -0.1158 -0.24607 -0.12587 -0.26111 -0.12639 -0.26181 C -0.12882 -0.26389 -0.13212 -0.26436 -0.1349 -0.26574 C -0.13959 -0.26783 -0.14323 -0.2713 -0.14792 -0.27361 C -0.15313 -0.27269 -0.15834 -0.27292 -0.16354 -0.27153 C -0.16528 -0.27107 -0.1665 -0.26621 -0.16788 -0.2676 C -0.17153 -0.27153 -0.16841 -0.28195 -0.17223 -0.28542 C -0.175 -0.28797 -0.17795 -0.29051 -0.18073 -0.29329 C -0.18733 -0.29908 -0.19045 -0.30162 -0.19792 -0.3051 C -0.19948 -0.30579 -0.20226 -0.30695 -0.20226 -0.30672 C -0.21459 -0.30579 -0.22552 -0.31158 -0.22952 -0.29514 C -0.2375 -0.29885 -0.23264 -0.30162 -0.23802 -0.30903 C -0.24636 -0.32014 -0.25278 -0.32199 -0.2625 -0.32848 C -0.26823 -0.32778 -0.27396 -0.32778 -0.27969 -0.32662 C -0.28264 -0.32593 -0.2882 -0.32269 -0.2882 -0.32246 C -0.28907 -0.32084 -0.28976 -0.31852 -0.29115 -0.3169 C -0.29236 -0.31505 -0.29445 -0.31482 -0.29532 -0.31297 C -0.29705 -0.30949 -0.29827 -0.30116 -0.29827 -0.3007 C -0.30938 -0.31111 -0.30365 -0.30741 -0.31545 -0.31297 C -0.31684 -0.31366 -0.31979 -0.31482 -0.31979 -0.31459 C -0.3342 -0.31227 -0.32761 -0.31459 -0.33976 -0.30903 C -0.34306 -0.30741 -0.34844 -0.30116 -0.34844 -0.3007 C -0.35747 -0.28218 -0.35834 -0.27454 -0.35834 -0.25186 E">
                                      <p:cBhvr>
                                        <p:cTn id="5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-757080" y="2276640"/>
            <a:ext cx="10910880" cy="5400360"/>
          </a:xfrm>
          <a:custGeom>
            <a:avLst/>
            <a:gdLst>
              <a:gd name="textAreaLeft" fmla="*/ 0 w 10910880"/>
              <a:gd name="textAreaRight" fmla="*/ 10911240 w 10910880"/>
              <a:gd name="textAreaTop" fmla="*/ 0 h 5400360"/>
              <a:gd name="textAreaBottom" fmla="*/ 5400720 h 5400360"/>
            </a:gdLst>
            <a:ahLst/>
            <a:rect l="textAreaLeft" t="textAreaTop" r="textAreaRight" b="textAreaBottom"/>
            <a:pathLst>
              <a:path w="6873" h="3019">
                <a:moveTo>
                  <a:pt x="306" y="784"/>
                </a:moveTo>
                <a:cubicBezTo>
                  <a:pt x="340" y="750"/>
                  <a:pt x="425" y="716"/>
                  <a:pt x="474" y="704"/>
                </a:cubicBezTo>
                <a:cubicBezTo>
                  <a:pt x="507" y="682"/>
                  <a:pt x="544" y="669"/>
                  <a:pt x="578" y="648"/>
                </a:cubicBezTo>
                <a:cubicBezTo>
                  <a:pt x="589" y="641"/>
                  <a:pt x="598" y="630"/>
                  <a:pt x="610" y="624"/>
                </a:cubicBezTo>
                <a:cubicBezTo>
                  <a:pt x="625" y="616"/>
                  <a:pt x="644" y="617"/>
                  <a:pt x="658" y="608"/>
                </a:cubicBezTo>
                <a:cubicBezTo>
                  <a:pt x="718" y="568"/>
                  <a:pt x="784" y="545"/>
                  <a:pt x="850" y="520"/>
                </a:cubicBezTo>
                <a:cubicBezTo>
                  <a:pt x="952" y="482"/>
                  <a:pt x="822" y="525"/>
                  <a:pt x="906" y="488"/>
                </a:cubicBezTo>
                <a:cubicBezTo>
                  <a:pt x="931" y="477"/>
                  <a:pt x="978" y="472"/>
                  <a:pt x="1002" y="456"/>
                </a:cubicBezTo>
                <a:cubicBezTo>
                  <a:pt x="1031" y="437"/>
                  <a:pt x="1059" y="436"/>
                  <a:pt x="1090" y="424"/>
                </a:cubicBezTo>
                <a:cubicBezTo>
                  <a:pt x="1240" y="366"/>
                  <a:pt x="1110" y="408"/>
                  <a:pt x="1218" y="384"/>
                </a:cubicBezTo>
                <a:cubicBezTo>
                  <a:pt x="1245" y="378"/>
                  <a:pt x="1263" y="360"/>
                  <a:pt x="1290" y="352"/>
                </a:cubicBezTo>
                <a:cubicBezTo>
                  <a:pt x="1405" y="319"/>
                  <a:pt x="1515" y="271"/>
                  <a:pt x="1634" y="256"/>
                </a:cubicBezTo>
                <a:cubicBezTo>
                  <a:pt x="1711" y="230"/>
                  <a:pt x="1793" y="217"/>
                  <a:pt x="1874" y="208"/>
                </a:cubicBezTo>
                <a:cubicBezTo>
                  <a:pt x="1950" y="189"/>
                  <a:pt x="2028" y="175"/>
                  <a:pt x="2106" y="168"/>
                </a:cubicBezTo>
                <a:cubicBezTo>
                  <a:pt x="2149" y="154"/>
                  <a:pt x="2197" y="142"/>
                  <a:pt x="2242" y="136"/>
                </a:cubicBezTo>
                <a:cubicBezTo>
                  <a:pt x="2285" y="130"/>
                  <a:pt x="2370" y="120"/>
                  <a:pt x="2370" y="120"/>
                </a:cubicBezTo>
                <a:cubicBezTo>
                  <a:pt x="2430" y="100"/>
                  <a:pt x="2482" y="94"/>
                  <a:pt x="2546" y="88"/>
                </a:cubicBezTo>
                <a:cubicBezTo>
                  <a:pt x="2616" y="70"/>
                  <a:pt x="2690" y="66"/>
                  <a:pt x="2762" y="56"/>
                </a:cubicBezTo>
                <a:cubicBezTo>
                  <a:pt x="2931" y="32"/>
                  <a:pt x="3094" y="11"/>
                  <a:pt x="3266" y="0"/>
                </a:cubicBezTo>
                <a:cubicBezTo>
                  <a:pt x="3305" y="1"/>
                  <a:pt x="4052" y="13"/>
                  <a:pt x="4122" y="16"/>
                </a:cubicBezTo>
                <a:cubicBezTo>
                  <a:pt x="4202" y="19"/>
                  <a:pt x="4289" y="42"/>
                  <a:pt x="4370" y="48"/>
                </a:cubicBezTo>
                <a:cubicBezTo>
                  <a:pt x="4449" y="74"/>
                  <a:pt x="4531" y="68"/>
                  <a:pt x="4610" y="88"/>
                </a:cubicBezTo>
                <a:cubicBezTo>
                  <a:pt x="4733" y="119"/>
                  <a:pt x="4867" y="142"/>
                  <a:pt x="4994" y="152"/>
                </a:cubicBezTo>
                <a:cubicBezTo>
                  <a:pt x="5072" y="178"/>
                  <a:pt x="5160" y="184"/>
                  <a:pt x="5242" y="192"/>
                </a:cubicBezTo>
                <a:cubicBezTo>
                  <a:pt x="5291" y="204"/>
                  <a:pt x="5336" y="210"/>
                  <a:pt x="5386" y="216"/>
                </a:cubicBezTo>
                <a:cubicBezTo>
                  <a:pt x="5498" y="253"/>
                  <a:pt x="5615" y="270"/>
                  <a:pt x="5730" y="296"/>
                </a:cubicBezTo>
                <a:cubicBezTo>
                  <a:pt x="5845" y="323"/>
                  <a:pt x="5957" y="367"/>
                  <a:pt x="6074" y="384"/>
                </a:cubicBezTo>
                <a:cubicBezTo>
                  <a:pt x="6085" y="389"/>
                  <a:pt x="6095" y="396"/>
                  <a:pt x="6106" y="400"/>
                </a:cubicBezTo>
                <a:cubicBezTo>
                  <a:pt x="6127" y="407"/>
                  <a:pt x="6170" y="416"/>
                  <a:pt x="6170" y="416"/>
                </a:cubicBezTo>
                <a:cubicBezTo>
                  <a:pt x="6219" y="449"/>
                  <a:pt x="6165" y="417"/>
                  <a:pt x="6234" y="440"/>
                </a:cubicBezTo>
                <a:cubicBezTo>
                  <a:pt x="6306" y="464"/>
                  <a:pt x="6368" y="497"/>
                  <a:pt x="6442" y="512"/>
                </a:cubicBezTo>
                <a:cubicBezTo>
                  <a:pt x="6471" y="531"/>
                  <a:pt x="6496" y="544"/>
                  <a:pt x="6530" y="552"/>
                </a:cubicBezTo>
                <a:cubicBezTo>
                  <a:pt x="6559" y="571"/>
                  <a:pt x="6584" y="584"/>
                  <a:pt x="6618" y="592"/>
                </a:cubicBezTo>
                <a:cubicBezTo>
                  <a:pt x="6647" y="614"/>
                  <a:pt x="6675" y="623"/>
                  <a:pt x="6706" y="640"/>
                </a:cubicBezTo>
                <a:cubicBezTo>
                  <a:pt x="6723" y="649"/>
                  <a:pt x="6754" y="672"/>
                  <a:pt x="6754" y="672"/>
                </a:cubicBezTo>
                <a:cubicBezTo>
                  <a:pt x="6873" y="1266"/>
                  <a:pt x="6761" y="1883"/>
                  <a:pt x="6754" y="2488"/>
                </a:cubicBezTo>
                <a:cubicBezTo>
                  <a:pt x="6752" y="2620"/>
                  <a:pt x="6746" y="2631"/>
                  <a:pt x="6722" y="2728"/>
                </a:cubicBezTo>
                <a:cubicBezTo>
                  <a:pt x="6716" y="2750"/>
                  <a:pt x="6679" y="2744"/>
                  <a:pt x="6658" y="2752"/>
                </a:cubicBezTo>
                <a:cubicBezTo>
                  <a:pt x="6603" y="2773"/>
                  <a:pt x="6540" y="2776"/>
                  <a:pt x="6482" y="2784"/>
                </a:cubicBezTo>
                <a:cubicBezTo>
                  <a:pt x="6397" y="2820"/>
                  <a:pt x="6314" y="2826"/>
                  <a:pt x="6226" y="2848"/>
                </a:cubicBezTo>
                <a:cubicBezTo>
                  <a:pt x="6035" y="2896"/>
                  <a:pt x="5838" y="2890"/>
                  <a:pt x="5642" y="2912"/>
                </a:cubicBezTo>
                <a:cubicBezTo>
                  <a:pt x="5461" y="2957"/>
                  <a:pt x="5274" y="2982"/>
                  <a:pt x="5090" y="3008"/>
                </a:cubicBezTo>
                <a:cubicBezTo>
                  <a:pt x="4759" y="3004"/>
                  <a:pt x="4362" y="3019"/>
                  <a:pt x="4018" y="2960"/>
                </a:cubicBezTo>
                <a:cubicBezTo>
                  <a:pt x="3631" y="2893"/>
                  <a:pt x="3246" y="2825"/>
                  <a:pt x="2858" y="2760"/>
                </a:cubicBezTo>
                <a:cubicBezTo>
                  <a:pt x="2733" y="2739"/>
                  <a:pt x="2585" y="2705"/>
                  <a:pt x="2458" y="2704"/>
                </a:cubicBezTo>
                <a:cubicBezTo>
                  <a:pt x="1997" y="2701"/>
                  <a:pt x="1535" y="2699"/>
                  <a:pt x="1074" y="2696"/>
                </a:cubicBezTo>
                <a:cubicBezTo>
                  <a:pt x="940" y="2690"/>
                  <a:pt x="821" y="2669"/>
                  <a:pt x="690" y="2656"/>
                </a:cubicBezTo>
                <a:cubicBezTo>
                  <a:pt x="571" y="2626"/>
                  <a:pt x="452" y="2609"/>
                  <a:pt x="330" y="2600"/>
                </a:cubicBezTo>
                <a:cubicBezTo>
                  <a:pt x="253" y="2581"/>
                  <a:pt x="169" y="2570"/>
                  <a:pt x="90" y="2560"/>
                </a:cubicBezTo>
                <a:cubicBezTo>
                  <a:pt x="58" y="2549"/>
                  <a:pt x="52" y="2535"/>
                  <a:pt x="42" y="2504"/>
                </a:cubicBezTo>
                <a:cubicBezTo>
                  <a:pt x="0" y="2213"/>
                  <a:pt x="30" y="2439"/>
                  <a:pt x="42" y="1728"/>
                </a:cubicBezTo>
                <a:cubicBezTo>
                  <a:pt x="46" y="1502"/>
                  <a:pt x="93" y="1300"/>
                  <a:pt x="130" y="1080"/>
                </a:cubicBezTo>
                <a:cubicBezTo>
                  <a:pt x="135" y="1004"/>
                  <a:pt x="126" y="849"/>
                  <a:pt x="226" y="816"/>
                </a:cubicBezTo>
                <a:cubicBezTo>
                  <a:pt x="249" y="808"/>
                  <a:pt x="287" y="803"/>
                  <a:pt x="306" y="784"/>
                </a:cubicBezTo>
                <a:close/>
              </a:path>
            </a:pathLst>
          </a:custGeom>
          <a:gradFill rotWithShape="0">
            <a:gsLst>
              <a:gs pos="0">
                <a:srgbClr val="458a00"/>
              </a:gs>
              <a:gs pos="100000">
                <a:srgbClr val="204000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3" descr="AG00373_"/>
          <p:cNvPicPr/>
          <p:nvPr/>
        </p:nvPicPr>
        <p:blipFill>
          <a:blip r:embed="rId1"/>
          <a:stretch/>
        </p:blipFill>
        <p:spPr>
          <a:xfrm>
            <a:off x="1547640" y="2852640"/>
            <a:ext cx="1368720" cy="1316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79280" y="4437000"/>
            <a:ext cx="42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mai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vi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716360" y="4437000"/>
            <a:ext cx="424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pied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naî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6" descr="stamp"/>
          <p:cNvPicPr/>
          <p:nvPr/>
        </p:nvPicPr>
        <p:blipFill>
          <a:blip r:embed="rId2"/>
          <a:stretch/>
        </p:blipFill>
        <p:spPr>
          <a:xfrm>
            <a:off x="6156360" y="278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j0338158"/>
          <p:cNvPicPr/>
          <p:nvPr/>
        </p:nvPicPr>
        <p:blipFill>
          <a:blip r:embed="rId3"/>
          <a:stretch/>
        </p:blipFill>
        <p:spPr>
          <a:xfrm>
            <a:off x="3203640" y="-27000"/>
            <a:ext cx="2879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0" y="0"/>
            <a:ext cx="48592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ns la prairie, ce mat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ne hirondelle m’a dit: «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 printemps est sur le chemin.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Refrain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ns la forêt, ce mat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n écureuil m’a dit: «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 printemps est sur le chemin.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Refrai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rès de l’étang, ce mat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ne grenouille m’a dit: «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 printemps est sur le chemin.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003640" y="0"/>
            <a:ext cx="44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Refrai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ape les ma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’est l’printemps qui revi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ape les pied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’est l’printemps qui renaî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003640" y="0"/>
            <a:ext cx="0" cy="595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755640" y="0"/>
            <a:ext cx="1512720" cy="40464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684360" y="2205000"/>
            <a:ext cx="1512720" cy="40500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755640" y="4437000"/>
            <a:ext cx="1512720" cy="40500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-181080" y="333360"/>
            <a:ext cx="2378160" cy="40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-252360" y="2492280"/>
            <a:ext cx="2378160" cy="40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0" y="4797360"/>
            <a:ext cx="2378160" cy="40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Detailed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1280" y="1268280"/>
            <a:ext cx="79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Prè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de l’étang, ce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Une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grenouille m’a dit: «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Vien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 viens, 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Le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printemps est sur le chemin.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611280" y="6524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26.01.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Detailed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11280" y="1268280"/>
            <a:ext cx="79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ès d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l’étang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 c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Une grenouille m’a dit: «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printemp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est sur 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chemin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611280" y="6524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26.01.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Detailed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11280" y="1268280"/>
            <a:ext cx="79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ès de l’étang, c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Une grenouille m’a dit: «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printemp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est sur 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chemin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1"/>
          <p:cNvGrpSpPr/>
          <p:nvPr/>
        </p:nvGrpSpPr>
        <p:grpSpPr>
          <a:xfrm>
            <a:off x="719280" y="1052640"/>
            <a:ext cx="8424720" cy="3547800"/>
            <a:chOff x="719280" y="1052640"/>
            <a:chExt cx="8424720" cy="3547800"/>
          </a:xfrm>
        </p:grpSpPr>
        <p:sp>
          <p:nvSpPr>
            <p:cNvPr id="166" name="Text Box 7"/>
            <p:cNvSpPr/>
            <p:nvPr/>
          </p:nvSpPr>
          <p:spPr>
            <a:xfrm>
              <a:off x="719280" y="1052640"/>
              <a:ext cx="820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Viens, viens, viens,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719280" y="2013120"/>
              <a:ext cx="84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Le printemps est sur le chemin.»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9"/>
            <p:cNvSpPr/>
            <p:nvPr/>
          </p:nvSpPr>
          <p:spPr>
            <a:xfrm>
              <a:off x="719280" y="2997360"/>
              <a:ext cx="83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Un écureuil m’a dit: «Viens,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719280" y="3957840"/>
              <a:ext cx="84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Dans la forêt, ce matin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12"/>
          <p:cNvSpPr/>
          <p:nvPr/>
        </p:nvSpPr>
        <p:spPr>
          <a:xfrm>
            <a:off x="179280" y="1125360"/>
            <a:ext cx="611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133720"/>
            <a:ext cx="611280" cy="503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179280" y="3068640"/>
            <a:ext cx="6112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179280" y="4005360"/>
            <a:ext cx="6112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Focussed liste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611280" y="6524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26.01.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Extension and Creativ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10" descr="Creativity"/>
          <p:cNvPicPr/>
          <p:nvPr/>
        </p:nvPicPr>
        <p:blipFill>
          <a:blip r:embed="rId2"/>
          <a:stretch/>
        </p:blipFill>
        <p:spPr>
          <a:xfrm>
            <a:off x="4716360" y="1844640"/>
            <a:ext cx="3816360" cy="269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684360" y="1844640"/>
            <a:ext cx="374472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8" descr="MCj02958670000[1]"/>
          <p:cNvPicPr/>
          <p:nvPr/>
        </p:nvPicPr>
        <p:blipFill>
          <a:blip r:embed="rId3"/>
          <a:stretch/>
        </p:blipFill>
        <p:spPr>
          <a:xfrm>
            <a:off x="826920" y="1844640"/>
            <a:ext cx="3527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1" descr="house"/>
          <p:cNvPicPr/>
          <p:nvPr/>
        </p:nvPicPr>
        <p:blipFill>
          <a:blip r:embed="rId1"/>
          <a:stretch/>
        </p:blipFill>
        <p:spPr>
          <a:xfrm>
            <a:off x="4932360" y="620640"/>
            <a:ext cx="4356000" cy="244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tree6"/>
          <p:cNvPicPr/>
          <p:nvPr/>
        </p:nvPicPr>
        <p:blipFill>
          <a:blip r:embed="rId2"/>
          <a:stretch/>
        </p:blipFill>
        <p:spPr>
          <a:xfrm>
            <a:off x="8261280" y="-458640"/>
            <a:ext cx="882720" cy="3652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so01392_"/>
          <p:cNvPicPr/>
          <p:nvPr/>
        </p:nvPicPr>
        <p:blipFill>
          <a:blip r:embed="rId3"/>
          <a:stretch/>
        </p:blipFill>
        <p:spPr>
          <a:xfrm>
            <a:off x="6372360" y="2565360"/>
            <a:ext cx="3132000" cy="933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2" descr="maize"/>
          <p:cNvPicPr/>
          <p:nvPr/>
        </p:nvPicPr>
        <p:blipFill>
          <a:blip r:embed="rId4"/>
          <a:stretch/>
        </p:blipFill>
        <p:spPr>
          <a:xfrm>
            <a:off x="183528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3" descr="maize"/>
          <p:cNvPicPr/>
          <p:nvPr/>
        </p:nvPicPr>
        <p:blipFill>
          <a:blip r:embed="rId5"/>
          <a:stretch/>
        </p:blipFill>
        <p:spPr>
          <a:xfrm>
            <a:off x="2340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4" descr="maize"/>
          <p:cNvPicPr/>
          <p:nvPr/>
        </p:nvPicPr>
        <p:blipFill>
          <a:blip r:embed="rId6"/>
          <a:stretch/>
        </p:blipFill>
        <p:spPr>
          <a:xfrm>
            <a:off x="270036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maize"/>
          <p:cNvPicPr/>
          <p:nvPr/>
        </p:nvPicPr>
        <p:blipFill>
          <a:blip r:embed="rId7"/>
          <a:stretch/>
        </p:blipFill>
        <p:spPr>
          <a:xfrm>
            <a:off x="3132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maize"/>
          <p:cNvPicPr/>
          <p:nvPr/>
        </p:nvPicPr>
        <p:blipFill>
          <a:blip r:embed="rId8"/>
          <a:stretch/>
        </p:blipFill>
        <p:spPr>
          <a:xfrm>
            <a:off x="3564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maize"/>
          <p:cNvPicPr/>
          <p:nvPr/>
        </p:nvPicPr>
        <p:blipFill>
          <a:blip r:embed="rId9"/>
          <a:stretch/>
        </p:blipFill>
        <p:spPr>
          <a:xfrm>
            <a:off x="3780000" y="2133720"/>
            <a:ext cx="502920" cy="690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8" descr="maize"/>
          <p:cNvPicPr/>
          <p:nvPr/>
        </p:nvPicPr>
        <p:blipFill>
          <a:blip r:embed="rId10"/>
          <a:stretch/>
        </p:blipFill>
        <p:spPr>
          <a:xfrm>
            <a:off x="421164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9" descr="maize"/>
          <p:cNvPicPr/>
          <p:nvPr/>
        </p:nvPicPr>
        <p:blipFill>
          <a:blip r:embed="rId11"/>
          <a:stretch/>
        </p:blipFill>
        <p:spPr>
          <a:xfrm>
            <a:off x="464328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0" descr="maize"/>
          <p:cNvPicPr/>
          <p:nvPr/>
        </p:nvPicPr>
        <p:blipFill>
          <a:blip r:embed="rId12"/>
          <a:stretch/>
        </p:blipFill>
        <p:spPr>
          <a:xfrm>
            <a:off x="4788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1" descr="maize"/>
          <p:cNvPicPr/>
          <p:nvPr/>
        </p:nvPicPr>
        <p:blipFill>
          <a:blip r:embed="rId13"/>
          <a:stretch/>
        </p:blipFill>
        <p:spPr>
          <a:xfrm>
            <a:off x="161928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autumn"/>
          <p:cNvPicPr/>
          <p:nvPr/>
        </p:nvPicPr>
        <p:blipFill>
          <a:blip r:embed="rId14"/>
          <a:stretch/>
        </p:blipFill>
        <p:spPr>
          <a:xfrm>
            <a:off x="2987640" y="0"/>
            <a:ext cx="2994120" cy="311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barn5s"/>
          <p:cNvPicPr/>
          <p:nvPr/>
        </p:nvPicPr>
        <p:blipFill>
          <a:blip r:embed="rId15"/>
          <a:stretch/>
        </p:blipFill>
        <p:spPr>
          <a:xfrm>
            <a:off x="-181080" y="1052640"/>
            <a:ext cx="2051280" cy="1846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2" descr="na01293_"/>
          <p:cNvPicPr/>
          <p:nvPr/>
        </p:nvPicPr>
        <p:blipFill>
          <a:blip r:embed="rId16"/>
          <a:stretch/>
        </p:blipFill>
        <p:spPr>
          <a:xfrm>
            <a:off x="7308720" y="4221000"/>
            <a:ext cx="1579680" cy="191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fence"/>
          <p:cNvPicPr/>
          <p:nvPr/>
        </p:nvPicPr>
        <p:blipFill>
          <a:blip r:embed="rId17"/>
          <a:stretch/>
        </p:blipFill>
        <p:spPr>
          <a:xfrm>
            <a:off x="-541440" y="5127480"/>
            <a:ext cx="11704680" cy="173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MCAN00690_0000[1]"/>
          <p:cNvPicPr/>
          <p:nvPr/>
        </p:nvPicPr>
        <p:blipFill>
          <a:blip r:embed="rId18"/>
          <a:stretch/>
        </p:blipFill>
        <p:spPr>
          <a:xfrm>
            <a:off x="-1800360" y="3860640"/>
            <a:ext cx="1800360" cy="135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autumn2"/>
          <p:cNvPicPr/>
          <p:nvPr/>
        </p:nvPicPr>
        <p:blipFill>
          <a:blip r:embed="rId19"/>
          <a:stretch/>
        </p:blipFill>
        <p:spPr>
          <a:xfrm>
            <a:off x="0" y="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j0172539"/>
          <p:cNvPicPr/>
          <p:nvPr/>
        </p:nvPicPr>
        <p:blipFill>
          <a:blip r:embed="rId2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8"/>
          <p:cNvSpPr/>
          <p:nvPr/>
        </p:nvSpPr>
        <p:spPr>
          <a:xfrm>
            <a:off x="3635280" y="1844640"/>
            <a:ext cx="5329440" cy="1368360"/>
          </a:xfrm>
          <a:prstGeom prst="wedgeRoundRectCallout">
            <a:avLst>
              <a:gd name="adj1" fmla="val -48212"/>
              <a:gd name="adj2" fmla="val 1042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843280" y="620640"/>
            <a:ext cx="3960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41528 -0.03148 E">
                                      <p:cBhvr>
                                        <p:cTn id="10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81c0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de53"/>
              </a:gs>
            </a:gsLst>
            <a:lin ang="5400000"/>
          </a:gradFill>
          <a:ln w="9360">
            <a:solidFill>
              <a:srgbClr val="ffe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14"/>
          <p:cNvSpPr/>
          <p:nvPr/>
        </p:nvSpPr>
        <p:spPr>
          <a:xfrm rot="21472800">
            <a:off x="-473040" y="2703240"/>
            <a:ext cx="9723240" cy="919080"/>
          </a:xfrm>
          <a:custGeom>
            <a:avLst/>
            <a:gdLst>
              <a:gd name="textAreaLeft" fmla="*/ 0 w 9723240"/>
              <a:gd name="textAreaRight" fmla="*/ 9723600 w 972324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6013" h="488">
                <a:moveTo>
                  <a:pt x="21" y="296"/>
                </a:moveTo>
                <a:cubicBezTo>
                  <a:pt x="63" y="307"/>
                  <a:pt x="101" y="320"/>
                  <a:pt x="141" y="336"/>
                </a:cubicBezTo>
                <a:cubicBezTo>
                  <a:pt x="157" y="342"/>
                  <a:pt x="175" y="343"/>
                  <a:pt x="189" y="352"/>
                </a:cubicBezTo>
                <a:cubicBezTo>
                  <a:pt x="219" y="372"/>
                  <a:pt x="270" y="398"/>
                  <a:pt x="301" y="408"/>
                </a:cubicBezTo>
                <a:cubicBezTo>
                  <a:pt x="338" y="420"/>
                  <a:pt x="375" y="426"/>
                  <a:pt x="413" y="432"/>
                </a:cubicBezTo>
                <a:cubicBezTo>
                  <a:pt x="424" y="432"/>
                  <a:pt x="680" y="422"/>
                  <a:pt x="725" y="416"/>
                </a:cubicBezTo>
                <a:cubicBezTo>
                  <a:pt x="773" y="409"/>
                  <a:pt x="808" y="379"/>
                  <a:pt x="853" y="368"/>
                </a:cubicBezTo>
                <a:cubicBezTo>
                  <a:pt x="923" y="321"/>
                  <a:pt x="1000" y="330"/>
                  <a:pt x="1077" y="304"/>
                </a:cubicBezTo>
                <a:cubicBezTo>
                  <a:pt x="1125" y="306"/>
                  <a:pt x="1317" y="311"/>
                  <a:pt x="1389" y="320"/>
                </a:cubicBezTo>
                <a:cubicBezTo>
                  <a:pt x="1422" y="324"/>
                  <a:pt x="1448" y="348"/>
                  <a:pt x="1477" y="360"/>
                </a:cubicBezTo>
                <a:cubicBezTo>
                  <a:pt x="1581" y="405"/>
                  <a:pt x="1733" y="429"/>
                  <a:pt x="1845" y="440"/>
                </a:cubicBezTo>
                <a:cubicBezTo>
                  <a:pt x="1969" y="435"/>
                  <a:pt x="2038" y="428"/>
                  <a:pt x="2149" y="416"/>
                </a:cubicBezTo>
                <a:cubicBezTo>
                  <a:pt x="2208" y="419"/>
                  <a:pt x="2266" y="419"/>
                  <a:pt x="2325" y="424"/>
                </a:cubicBezTo>
                <a:cubicBezTo>
                  <a:pt x="2390" y="429"/>
                  <a:pt x="2453" y="472"/>
                  <a:pt x="2517" y="488"/>
                </a:cubicBezTo>
                <a:cubicBezTo>
                  <a:pt x="2596" y="480"/>
                  <a:pt x="2653" y="467"/>
                  <a:pt x="2725" y="440"/>
                </a:cubicBezTo>
                <a:cubicBezTo>
                  <a:pt x="2813" y="407"/>
                  <a:pt x="2869" y="397"/>
                  <a:pt x="2949" y="344"/>
                </a:cubicBezTo>
                <a:cubicBezTo>
                  <a:pt x="2977" y="325"/>
                  <a:pt x="3013" y="291"/>
                  <a:pt x="3045" y="280"/>
                </a:cubicBezTo>
                <a:cubicBezTo>
                  <a:pt x="3061" y="275"/>
                  <a:pt x="3077" y="269"/>
                  <a:pt x="3093" y="264"/>
                </a:cubicBezTo>
                <a:cubicBezTo>
                  <a:pt x="3101" y="261"/>
                  <a:pt x="3117" y="256"/>
                  <a:pt x="3117" y="256"/>
                </a:cubicBezTo>
                <a:cubicBezTo>
                  <a:pt x="3207" y="266"/>
                  <a:pt x="3280" y="292"/>
                  <a:pt x="3365" y="320"/>
                </a:cubicBezTo>
                <a:cubicBezTo>
                  <a:pt x="3469" y="315"/>
                  <a:pt x="3553" y="308"/>
                  <a:pt x="3653" y="328"/>
                </a:cubicBezTo>
                <a:cubicBezTo>
                  <a:pt x="3695" y="356"/>
                  <a:pt x="3739" y="374"/>
                  <a:pt x="3789" y="384"/>
                </a:cubicBezTo>
                <a:cubicBezTo>
                  <a:pt x="3873" y="365"/>
                  <a:pt x="3953" y="337"/>
                  <a:pt x="4037" y="320"/>
                </a:cubicBezTo>
                <a:cubicBezTo>
                  <a:pt x="4137" y="326"/>
                  <a:pt x="4171" y="325"/>
                  <a:pt x="4253" y="352"/>
                </a:cubicBezTo>
                <a:cubicBezTo>
                  <a:pt x="4279" y="361"/>
                  <a:pt x="4333" y="376"/>
                  <a:pt x="4333" y="376"/>
                </a:cubicBezTo>
                <a:cubicBezTo>
                  <a:pt x="4373" y="406"/>
                  <a:pt x="4407" y="417"/>
                  <a:pt x="4453" y="432"/>
                </a:cubicBezTo>
                <a:cubicBezTo>
                  <a:pt x="4526" y="424"/>
                  <a:pt x="4596" y="408"/>
                  <a:pt x="4669" y="400"/>
                </a:cubicBezTo>
                <a:cubicBezTo>
                  <a:pt x="4727" y="386"/>
                  <a:pt x="4781" y="371"/>
                  <a:pt x="4837" y="352"/>
                </a:cubicBezTo>
                <a:cubicBezTo>
                  <a:pt x="4853" y="347"/>
                  <a:pt x="4871" y="345"/>
                  <a:pt x="4885" y="336"/>
                </a:cubicBezTo>
                <a:cubicBezTo>
                  <a:pt x="4931" y="305"/>
                  <a:pt x="4983" y="286"/>
                  <a:pt x="5037" y="272"/>
                </a:cubicBezTo>
                <a:cubicBezTo>
                  <a:pt x="5164" y="278"/>
                  <a:pt x="5195" y="271"/>
                  <a:pt x="5293" y="304"/>
                </a:cubicBezTo>
                <a:cubicBezTo>
                  <a:pt x="5319" y="313"/>
                  <a:pt x="5347" y="319"/>
                  <a:pt x="5373" y="328"/>
                </a:cubicBezTo>
                <a:cubicBezTo>
                  <a:pt x="5381" y="331"/>
                  <a:pt x="5397" y="336"/>
                  <a:pt x="5397" y="336"/>
                </a:cubicBezTo>
                <a:cubicBezTo>
                  <a:pt x="5456" y="329"/>
                  <a:pt x="5507" y="316"/>
                  <a:pt x="5565" y="304"/>
                </a:cubicBezTo>
                <a:cubicBezTo>
                  <a:pt x="5678" y="313"/>
                  <a:pt x="5631" y="302"/>
                  <a:pt x="5709" y="328"/>
                </a:cubicBezTo>
                <a:cubicBezTo>
                  <a:pt x="5725" y="333"/>
                  <a:pt x="5741" y="339"/>
                  <a:pt x="5757" y="344"/>
                </a:cubicBezTo>
                <a:cubicBezTo>
                  <a:pt x="5765" y="347"/>
                  <a:pt x="5781" y="352"/>
                  <a:pt x="5781" y="352"/>
                </a:cubicBezTo>
                <a:cubicBezTo>
                  <a:pt x="5793" y="351"/>
                  <a:pt x="5860" y="350"/>
                  <a:pt x="5885" y="336"/>
                </a:cubicBezTo>
                <a:cubicBezTo>
                  <a:pt x="5968" y="290"/>
                  <a:pt x="5903" y="314"/>
                  <a:pt x="5957" y="296"/>
                </a:cubicBezTo>
                <a:cubicBezTo>
                  <a:pt x="5979" y="263"/>
                  <a:pt x="6001" y="237"/>
                  <a:pt x="6013" y="200"/>
                </a:cubicBezTo>
                <a:cubicBezTo>
                  <a:pt x="6005" y="197"/>
                  <a:pt x="5997" y="191"/>
                  <a:pt x="5989" y="192"/>
                </a:cubicBezTo>
                <a:cubicBezTo>
                  <a:pt x="5972" y="194"/>
                  <a:pt x="5941" y="208"/>
                  <a:pt x="5941" y="208"/>
                </a:cubicBezTo>
                <a:cubicBezTo>
                  <a:pt x="5173" y="204"/>
                  <a:pt x="4652" y="211"/>
                  <a:pt x="3981" y="176"/>
                </a:cubicBezTo>
                <a:cubicBezTo>
                  <a:pt x="3748" y="143"/>
                  <a:pt x="3512" y="149"/>
                  <a:pt x="3277" y="144"/>
                </a:cubicBezTo>
                <a:cubicBezTo>
                  <a:pt x="3050" y="106"/>
                  <a:pt x="2818" y="67"/>
                  <a:pt x="2589" y="48"/>
                </a:cubicBezTo>
                <a:cubicBezTo>
                  <a:pt x="2515" y="33"/>
                  <a:pt x="2440" y="25"/>
                  <a:pt x="2365" y="16"/>
                </a:cubicBezTo>
                <a:cubicBezTo>
                  <a:pt x="2314" y="10"/>
                  <a:pt x="2213" y="0"/>
                  <a:pt x="2213" y="0"/>
                </a:cubicBezTo>
                <a:cubicBezTo>
                  <a:pt x="1672" y="3"/>
                  <a:pt x="1130" y="3"/>
                  <a:pt x="589" y="8"/>
                </a:cubicBezTo>
                <a:cubicBezTo>
                  <a:pt x="551" y="8"/>
                  <a:pt x="477" y="32"/>
                  <a:pt x="477" y="32"/>
                </a:cubicBezTo>
                <a:cubicBezTo>
                  <a:pt x="410" y="66"/>
                  <a:pt x="485" y="32"/>
                  <a:pt x="397" y="56"/>
                </a:cubicBezTo>
                <a:cubicBezTo>
                  <a:pt x="331" y="74"/>
                  <a:pt x="272" y="111"/>
                  <a:pt x="205" y="128"/>
                </a:cubicBezTo>
                <a:cubicBezTo>
                  <a:pt x="170" y="151"/>
                  <a:pt x="135" y="166"/>
                  <a:pt x="101" y="192"/>
                </a:cubicBezTo>
                <a:cubicBezTo>
                  <a:pt x="93" y="216"/>
                  <a:pt x="70" y="271"/>
                  <a:pt x="53" y="288"/>
                </a:cubicBezTo>
                <a:cubicBezTo>
                  <a:pt x="52" y="289"/>
                  <a:pt x="12" y="319"/>
                  <a:pt x="5" y="312"/>
                </a:cubicBezTo>
                <a:cubicBezTo>
                  <a:pt x="0" y="307"/>
                  <a:pt x="16" y="301"/>
                  <a:pt x="21" y="296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Freeform 16"/>
          <p:cNvSpPr/>
          <p:nvPr/>
        </p:nvSpPr>
        <p:spPr>
          <a:xfrm rot="21463800">
            <a:off x="-252360" y="3357720"/>
            <a:ext cx="3149640" cy="24120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984" h="152">
                <a:moveTo>
                  <a:pt x="0" y="8"/>
                </a:moveTo>
                <a:cubicBezTo>
                  <a:pt x="42" y="22"/>
                  <a:pt x="17" y="11"/>
                  <a:pt x="72" y="48"/>
                </a:cubicBezTo>
                <a:cubicBezTo>
                  <a:pt x="86" y="57"/>
                  <a:pt x="104" y="59"/>
                  <a:pt x="120" y="64"/>
                </a:cubicBezTo>
                <a:cubicBezTo>
                  <a:pt x="162" y="78"/>
                  <a:pt x="198" y="98"/>
                  <a:pt x="240" y="112"/>
                </a:cubicBezTo>
                <a:cubicBezTo>
                  <a:pt x="264" y="120"/>
                  <a:pt x="288" y="128"/>
                  <a:pt x="312" y="136"/>
                </a:cubicBezTo>
                <a:cubicBezTo>
                  <a:pt x="320" y="139"/>
                  <a:pt x="336" y="144"/>
                  <a:pt x="336" y="144"/>
                </a:cubicBezTo>
                <a:cubicBezTo>
                  <a:pt x="408" y="141"/>
                  <a:pt x="480" y="143"/>
                  <a:pt x="552" y="136"/>
                </a:cubicBezTo>
                <a:cubicBezTo>
                  <a:pt x="593" y="132"/>
                  <a:pt x="638" y="104"/>
                  <a:pt x="680" y="96"/>
                </a:cubicBezTo>
                <a:cubicBezTo>
                  <a:pt x="734" y="86"/>
                  <a:pt x="772" y="81"/>
                  <a:pt x="824" y="64"/>
                </a:cubicBezTo>
                <a:cubicBezTo>
                  <a:pt x="874" y="47"/>
                  <a:pt x="925" y="37"/>
                  <a:pt x="976" y="24"/>
                </a:cubicBezTo>
                <a:cubicBezTo>
                  <a:pt x="1005" y="17"/>
                  <a:pt x="1064" y="0"/>
                  <a:pt x="1064" y="0"/>
                </a:cubicBezTo>
                <a:cubicBezTo>
                  <a:pt x="1103" y="2"/>
                  <a:pt x="1190" y="3"/>
                  <a:pt x="1240" y="16"/>
                </a:cubicBezTo>
                <a:cubicBezTo>
                  <a:pt x="1317" y="35"/>
                  <a:pt x="1396" y="63"/>
                  <a:pt x="1472" y="88"/>
                </a:cubicBezTo>
                <a:cubicBezTo>
                  <a:pt x="1501" y="98"/>
                  <a:pt x="1518" y="116"/>
                  <a:pt x="1552" y="120"/>
                </a:cubicBezTo>
                <a:cubicBezTo>
                  <a:pt x="1589" y="124"/>
                  <a:pt x="1627" y="125"/>
                  <a:pt x="1664" y="128"/>
                </a:cubicBezTo>
                <a:cubicBezTo>
                  <a:pt x="1722" y="147"/>
                  <a:pt x="1696" y="140"/>
                  <a:pt x="1744" y="152"/>
                </a:cubicBezTo>
                <a:cubicBezTo>
                  <a:pt x="1792" y="149"/>
                  <a:pt x="1840" y="148"/>
                  <a:pt x="1888" y="144"/>
                </a:cubicBezTo>
                <a:cubicBezTo>
                  <a:pt x="1914" y="142"/>
                  <a:pt x="1956" y="128"/>
                  <a:pt x="1984" y="12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reeform 17"/>
          <p:cNvSpPr/>
          <p:nvPr/>
        </p:nvSpPr>
        <p:spPr>
          <a:xfrm rot="21249600">
            <a:off x="3851280" y="3141720"/>
            <a:ext cx="3784680" cy="279360"/>
          </a:xfrm>
          <a:custGeom>
            <a:avLst/>
            <a:gdLst>
              <a:gd name="textAreaLeft" fmla="*/ 0 w 3784680"/>
              <a:gd name="textAreaRight" fmla="*/ 3785040 w 37846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384" h="176">
                <a:moveTo>
                  <a:pt x="0" y="176"/>
                </a:moveTo>
                <a:cubicBezTo>
                  <a:pt x="8" y="173"/>
                  <a:pt x="16" y="172"/>
                  <a:pt x="24" y="168"/>
                </a:cubicBezTo>
                <a:cubicBezTo>
                  <a:pt x="33" y="164"/>
                  <a:pt x="39" y="156"/>
                  <a:pt x="48" y="152"/>
                </a:cubicBezTo>
                <a:cubicBezTo>
                  <a:pt x="79" y="139"/>
                  <a:pt x="96" y="150"/>
                  <a:pt x="128" y="128"/>
                </a:cubicBezTo>
                <a:cubicBezTo>
                  <a:pt x="176" y="96"/>
                  <a:pt x="242" y="74"/>
                  <a:pt x="296" y="56"/>
                </a:cubicBezTo>
                <a:cubicBezTo>
                  <a:pt x="305" y="53"/>
                  <a:pt x="311" y="44"/>
                  <a:pt x="320" y="40"/>
                </a:cubicBezTo>
                <a:cubicBezTo>
                  <a:pt x="320" y="40"/>
                  <a:pt x="380" y="20"/>
                  <a:pt x="392" y="16"/>
                </a:cubicBezTo>
                <a:cubicBezTo>
                  <a:pt x="408" y="11"/>
                  <a:pt x="440" y="0"/>
                  <a:pt x="440" y="0"/>
                </a:cubicBezTo>
                <a:cubicBezTo>
                  <a:pt x="483" y="3"/>
                  <a:pt x="525" y="4"/>
                  <a:pt x="568" y="8"/>
                </a:cubicBezTo>
                <a:cubicBezTo>
                  <a:pt x="617" y="13"/>
                  <a:pt x="652" y="41"/>
                  <a:pt x="696" y="56"/>
                </a:cubicBezTo>
                <a:cubicBezTo>
                  <a:pt x="841" y="48"/>
                  <a:pt x="850" y="42"/>
                  <a:pt x="992" y="56"/>
                </a:cubicBezTo>
                <a:cubicBezTo>
                  <a:pt x="1033" y="60"/>
                  <a:pt x="1073" y="99"/>
                  <a:pt x="1112" y="112"/>
                </a:cubicBezTo>
                <a:cubicBezTo>
                  <a:pt x="1136" y="108"/>
                  <a:pt x="1187" y="102"/>
                  <a:pt x="1208" y="88"/>
                </a:cubicBezTo>
                <a:cubicBezTo>
                  <a:pt x="1239" y="67"/>
                  <a:pt x="1223" y="75"/>
                  <a:pt x="1256" y="64"/>
                </a:cubicBezTo>
                <a:cubicBezTo>
                  <a:pt x="1363" y="67"/>
                  <a:pt x="1470" y="65"/>
                  <a:pt x="1576" y="72"/>
                </a:cubicBezTo>
                <a:cubicBezTo>
                  <a:pt x="1620" y="75"/>
                  <a:pt x="1658" y="111"/>
                  <a:pt x="1696" y="128"/>
                </a:cubicBezTo>
                <a:cubicBezTo>
                  <a:pt x="1711" y="135"/>
                  <a:pt x="1728" y="139"/>
                  <a:pt x="1744" y="144"/>
                </a:cubicBezTo>
                <a:cubicBezTo>
                  <a:pt x="1752" y="147"/>
                  <a:pt x="1768" y="152"/>
                  <a:pt x="1768" y="152"/>
                </a:cubicBezTo>
                <a:cubicBezTo>
                  <a:pt x="1827" y="149"/>
                  <a:pt x="1885" y="148"/>
                  <a:pt x="1944" y="144"/>
                </a:cubicBezTo>
                <a:cubicBezTo>
                  <a:pt x="2039" y="137"/>
                  <a:pt x="2141" y="86"/>
                  <a:pt x="2232" y="56"/>
                </a:cubicBezTo>
                <a:cubicBezTo>
                  <a:pt x="2270" y="43"/>
                  <a:pt x="2358" y="26"/>
                  <a:pt x="238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684360" y="328464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reeform 19"/>
          <p:cNvSpPr/>
          <p:nvPr/>
        </p:nvSpPr>
        <p:spPr>
          <a:xfrm rot="1233000">
            <a:off x="1619280" y="321264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Freeform 20"/>
          <p:cNvSpPr/>
          <p:nvPr/>
        </p:nvSpPr>
        <p:spPr>
          <a:xfrm>
            <a:off x="7380360" y="299736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Freeform 21"/>
          <p:cNvSpPr/>
          <p:nvPr/>
        </p:nvSpPr>
        <p:spPr>
          <a:xfrm flipV="1">
            <a:off x="3203640" y="335772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360 h 131760"/>
              <a:gd name="textAreaBottom" fmla="*/ 13248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Freeform 23"/>
          <p:cNvSpPr/>
          <p:nvPr/>
        </p:nvSpPr>
        <p:spPr>
          <a:xfrm rot="20874000">
            <a:off x="4140360" y="306864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Freeform 24"/>
          <p:cNvSpPr/>
          <p:nvPr/>
        </p:nvSpPr>
        <p:spPr>
          <a:xfrm flipH="1">
            <a:off x="5292000" y="3068640"/>
            <a:ext cx="685800" cy="13176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Oval 29"/>
          <p:cNvSpPr/>
          <p:nvPr/>
        </p:nvSpPr>
        <p:spPr>
          <a:xfrm>
            <a:off x="1332000" y="26028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-36360" y="2060640"/>
            <a:ext cx="9215280" cy="1008000"/>
          </a:xfrm>
          <a:prstGeom prst="rect">
            <a:avLst/>
          </a:prstGeom>
          <a:gradFill rotWithShape="0">
            <a:gsLst>
              <a:gs pos="0">
                <a:srgbClr val="2677c8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28" descr="people"/>
          <p:cNvPicPr/>
          <p:nvPr/>
        </p:nvPicPr>
        <p:blipFill>
          <a:blip r:embed="rId1"/>
          <a:stretch/>
        </p:blipFill>
        <p:spPr>
          <a:xfrm>
            <a:off x="5435640" y="1916280"/>
            <a:ext cx="2157480" cy="24588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22"/>
          <p:cNvSpPr/>
          <p:nvPr/>
        </p:nvSpPr>
        <p:spPr>
          <a:xfrm flipV="1">
            <a:off x="8244000" y="299736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360 h 131760"/>
              <a:gd name="textAreaBottom" fmla="*/ 13248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26" descr="ship"/>
          <p:cNvPicPr/>
          <p:nvPr/>
        </p:nvPicPr>
        <p:blipFill>
          <a:blip r:embed="rId2"/>
          <a:stretch/>
        </p:blipFill>
        <p:spPr>
          <a:xfrm>
            <a:off x="8172360" y="1413000"/>
            <a:ext cx="684360" cy="109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1" descr="na02275_"/>
          <p:cNvPicPr/>
          <p:nvPr/>
        </p:nvPicPr>
        <p:blipFill>
          <a:blip r:embed="rId3"/>
          <a:stretch/>
        </p:blipFill>
        <p:spPr>
          <a:xfrm>
            <a:off x="1332000" y="404640"/>
            <a:ext cx="1439640" cy="989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2" descr="MCj04352110000[1]"/>
          <p:cNvPicPr/>
          <p:nvPr/>
        </p:nvPicPr>
        <p:blipFill>
          <a:blip r:embed="rId4"/>
          <a:stretch/>
        </p:blipFill>
        <p:spPr>
          <a:xfrm>
            <a:off x="179280" y="607068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3" descr="MCAN00188_0000[1]"/>
          <p:cNvPicPr/>
          <p:nvPr/>
        </p:nvPicPr>
        <p:blipFill>
          <a:blip r:embed="rId5"/>
          <a:stretch/>
        </p:blipFill>
        <p:spPr>
          <a:xfrm>
            <a:off x="684360" y="6453360"/>
            <a:ext cx="657000" cy="345960"/>
          </a:xfrm>
          <a:prstGeom prst="rect">
            <a:avLst/>
          </a:prstGeom>
          <a:ln w="0">
            <a:noFill/>
          </a:ln>
        </p:spPr>
      </p:pic>
      <p:sp>
        <p:nvSpPr>
          <p:cNvPr id="224" name="Arc 35"/>
          <p:cNvSpPr/>
          <p:nvPr/>
        </p:nvSpPr>
        <p:spPr>
          <a:xfrm flipV="1" rot="11776200">
            <a:off x="742320" y="1062360"/>
            <a:ext cx="191880" cy="314280"/>
          </a:xfrm>
          <a:custGeom>
            <a:avLst/>
            <a:gdLst>
              <a:gd name="textAreaLeft" fmla="*/ 0 w 191880"/>
              <a:gd name="textAreaRight" fmla="*/ 192240 w 19188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fill="none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</a:path>
              <a:path stroke="0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rc 36"/>
          <p:cNvSpPr/>
          <p:nvPr/>
        </p:nvSpPr>
        <p:spPr>
          <a:xfrm flipV="1" rot="11776200">
            <a:off x="899640" y="836280"/>
            <a:ext cx="192240" cy="314280"/>
          </a:xfrm>
          <a:custGeom>
            <a:avLst/>
            <a:gdLst>
              <a:gd name="textAreaLeft" fmla="*/ 0 w 192240"/>
              <a:gd name="textAreaRight" fmla="*/ 192600 w 19224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fill="none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</a:path>
              <a:path stroke="0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37"/>
          <p:cNvSpPr/>
          <p:nvPr/>
        </p:nvSpPr>
        <p:spPr>
          <a:xfrm>
            <a:off x="900000" y="105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38" descr="an02513_"/>
          <p:cNvPicPr/>
          <p:nvPr/>
        </p:nvPicPr>
        <p:blipFill>
          <a:blip r:embed="rId6"/>
          <a:stretch/>
        </p:blipFill>
        <p:spPr>
          <a:xfrm>
            <a:off x="9325080" y="4500720"/>
            <a:ext cx="2676600" cy="2357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9"/>
          <p:cNvSpPr/>
          <p:nvPr/>
        </p:nvSpPr>
        <p:spPr>
          <a:xfrm>
            <a:off x="2771640" y="333360"/>
            <a:ext cx="3961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40"/>
          <p:cNvSpPr/>
          <p:nvPr/>
        </p:nvSpPr>
        <p:spPr>
          <a:xfrm>
            <a:off x="179280" y="1700280"/>
            <a:ext cx="5329440" cy="1368360"/>
          </a:xfrm>
          <a:prstGeom prst="wedgeRoundRectCallout">
            <a:avLst>
              <a:gd name="adj1" fmla="val 35462"/>
              <a:gd name="adj2" fmla="val 139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5301 C -0.0599 0.07778 -0.10348 -0.01412 -0.14948 -0.04329 C -0.15677 -0.04792 -0.16493 -0.05602 -0.17292 -0.05625 C -0.22691 -0.05741 -0.28073 -0.05741 -0.33473 -0.0581 C -0.35625 -0.06482 -0.37205 -0.08241 -0.39132 -0.1007 C -0.39688 -0.10579 -0.4033 -0.10556 -0.40903 -0.10995 C -0.42448 -0.12199 -0.43368 -0.12338 -0.45 -0.12847 C -0.45573 -0.12778 -0.46164 -0.12778 -0.46754 -0.12662 C -0.4698 -0.12616 -0.47205 -0.12407 -0.47431 -0.12292 C -0.47518 -0.12245 -0.47709 -0.12107 -0.47709 -0.12083 E">
                                      <p:cBhvr>
                                        <p:cTn id="11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eet the Chor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9" descr="MCj02921200000[1]"/>
          <p:cNvPicPr/>
          <p:nvPr/>
        </p:nvPicPr>
        <p:blipFill>
          <a:blip r:embed="rId2"/>
          <a:stretch/>
        </p:blipFill>
        <p:spPr>
          <a:xfrm>
            <a:off x="1692360" y="1341360"/>
            <a:ext cx="57592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-36360" y="-2403360"/>
            <a:ext cx="9216720" cy="4365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2340000" y="1125360"/>
            <a:ext cx="7023240" cy="1225800"/>
          </a:xfrm>
          <a:custGeom>
            <a:avLst/>
            <a:gdLst>
              <a:gd name="textAreaLeft" fmla="*/ 0 w 7023240"/>
              <a:gd name="textAreaRight" fmla="*/ 7023600 w 7023240"/>
              <a:gd name="textAreaTop" fmla="*/ 0 h 1225800"/>
              <a:gd name="textAreaBottom" fmla="*/ 1225800 h 1225800"/>
            </a:gdLst>
            <a:ahLst/>
            <a:rect l="textAreaLeft" t="textAreaTop" r="textAreaRight" b="textAreaBottom"/>
            <a:pathLst>
              <a:path w="4424" h="772">
                <a:moveTo>
                  <a:pt x="0" y="600"/>
                </a:moveTo>
                <a:cubicBezTo>
                  <a:pt x="40" y="587"/>
                  <a:pt x="61" y="551"/>
                  <a:pt x="96" y="528"/>
                </a:cubicBezTo>
                <a:cubicBezTo>
                  <a:pt x="130" y="505"/>
                  <a:pt x="208" y="465"/>
                  <a:pt x="248" y="464"/>
                </a:cubicBezTo>
                <a:cubicBezTo>
                  <a:pt x="451" y="461"/>
                  <a:pt x="653" y="459"/>
                  <a:pt x="856" y="456"/>
                </a:cubicBezTo>
                <a:cubicBezTo>
                  <a:pt x="1031" y="431"/>
                  <a:pt x="1292" y="452"/>
                  <a:pt x="1464" y="448"/>
                </a:cubicBezTo>
                <a:cubicBezTo>
                  <a:pt x="1499" y="445"/>
                  <a:pt x="1534" y="445"/>
                  <a:pt x="1568" y="440"/>
                </a:cubicBezTo>
                <a:cubicBezTo>
                  <a:pt x="1601" y="435"/>
                  <a:pt x="1639" y="416"/>
                  <a:pt x="1672" y="408"/>
                </a:cubicBezTo>
                <a:cubicBezTo>
                  <a:pt x="1704" y="387"/>
                  <a:pt x="1739" y="380"/>
                  <a:pt x="1776" y="368"/>
                </a:cubicBezTo>
                <a:cubicBezTo>
                  <a:pt x="1814" y="355"/>
                  <a:pt x="1849" y="338"/>
                  <a:pt x="1888" y="328"/>
                </a:cubicBezTo>
                <a:cubicBezTo>
                  <a:pt x="1932" y="299"/>
                  <a:pt x="1990" y="300"/>
                  <a:pt x="2032" y="272"/>
                </a:cubicBezTo>
                <a:cubicBezTo>
                  <a:pt x="2333" y="71"/>
                  <a:pt x="2849" y="155"/>
                  <a:pt x="3136" y="152"/>
                </a:cubicBezTo>
                <a:cubicBezTo>
                  <a:pt x="3152" y="147"/>
                  <a:pt x="3168" y="141"/>
                  <a:pt x="3184" y="136"/>
                </a:cubicBezTo>
                <a:cubicBezTo>
                  <a:pt x="3192" y="133"/>
                  <a:pt x="3208" y="128"/>
                  <a:pt x="3208" y="128"/>
                </a:cubicBezTo>
                <a:cubicBezTo>
                  <a:pt x="3229" y="107"/>
                  <a:pt x="3251" y="82"/>
                  <a:pt x="3280" y="72"/>
                </a:cubicBezTo>
                <a:cubicBezTo>
                  <a:pt x="3296" y="67"/>
                  <a:pt x="3314" y="65"/>
                  <a:pt x="3328" y="56"/>
                </a:cubicBezTo>
                <a:cubicBezTo>
                  <a:pt x="3374" y="29"/>
                  <a:pt x="3421" y="13"/>
                  <a:pt x="3472" y="0"/>
                </a:cubicBezTo>
                <a:cubicBezTo>
                  <a:pt x="3485" y="2"/>
                  <a:pt x="3541" y="8"/>
                  <a:pt x="3560" y="16"/>
                </a:cubicBezTo>
                <a:cubicBezTo>
                  <a:pt x="3604" y="35"/>
                  <a:pt x="3630" y="56"/>
                  <a:pt x="3680" y="64"/>
                </a:cubicBezTo>
                <a:cubicBezTo>
                  <a:pt x="3785" y="117"/>
                  <a:pt x="3916" y="139"/>
                  <a:pt x="4032" y="152"/>
                </a:cubicBezTo>
                <a:cubicBezTo>
                  <a:pt x="4065" y="163"/>
                  <a:pt x="4080" y="163"/>
                  <a:pt x="4104" y="184"/>
                </a:cubicBezTo>
                <a:cubicBezTo>
                  <a:pt x="4152" y="225"/>
                  <a:pt x="4116" y="209"/>
                  <a:pt x="4160" y="224"/>
                </a:cubicBezTo>
                <a:cubicBezTo>
                  <a:pt x="4242" y="306"/>
                  <a:pt x="4302" y="406"/>
                  <a:pt x="4384" y="488"/>
                </a:cubicBezTo>
                <a:cubicBezTo>
                  <a:pt x="4387" y="496"/>
                  <a:pt x="4388" y="504"/>
                  <a:pt x="4392" y="512"/>
                </a:cubicBezTo>
                <a:cubicBezTo>
                  <a:pt x="4396" y="521"/>
                  <a:pt x="4404" y="527"/>
                  <a:pt x="4408" y="536"/>
                </a:cubicBezTo>
                <a:cubicBezTo>
                  <a:pt x="4415" y="551"/>
                  <a:pt x="4424" y="584"/>
                  <a:pt x="4424" y="584"/>
                </a:cubicBezTo>
                <a:cubicBezTo>
                  <a:pt x="4331" y="646"/>
                  <a:pt x="4173" y="629"/>
                  <a:pt x="4080" y="632"/>
                </a:cubicBezTo>
                <a:cubicBezTo>
                  <a:pt x="3519" y="772"/>
                  <a:pt x="2923" y="661"/>
                  <a:pt x="2344" y="664"/>
                </a:cubicBezTo>
                <a:cubicBezTo>
                  <a:pt x="2105" y="724"/>
                  <a:pt x="1765" y="674"/>
                  <a:pt x="1584" y="672"/>
                </a:cubicBezTo>
                <a:cubicBezTo>
                  <a:pt x="1433" y="653"/>
                  <a:pt x="1280" y="634"/>
                  <a:pt x="1128" y="624"/>
                </a:cubicBezTo>
                <a:cubicBezTo>
                  <a:pt x="1080" y="608"/>
                  <a:pt x="1027" y="607"/>
                  <a:pt x="976" y="600"/>
                </a:cubicBezTo>
                <a:cubicBezTo>
                  <a:pt x="838" y="606"/>
                  <a:pt x="813" y="597"/>
                  <a:pt x="704" y="624"/>
                </a:cubicBezTo>
                <a:cubicBezTo>
                  <a:pt x="657" y="636"/>
                  <a:pt x="560" y="648"/>
                  <a:pt x="560" y="648"/>
                </a:cubicBezTo>
                <a:cubicBezTo>
                  <a:pt x="381" y="645"/>
                  <a:pt x="202" y="650"/>
                  <a:pt x="24" y="640"/>
                </a:cubicBezTo>
                <a:cubicBezTo>
                  <a:pt x="16" y="640"/>
                  <a:pt x="20" y="623"/>
                  <a:pt x="16" y="616"/>
                </a:cubicBezTo>
                <a:cubicBezTo>
                  <a:pt x="12" y="610"/>
                  <a:pt x="5" y="605"/>
                  <a:pt x="0" y="600"/>
                </a:cubicBezTo>
                <a:close/>
              </a:path>
            </a:pathLst>
          </a:cu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-252360" y="1413000"/>
            <a:ext cx="5300640" cy="954000"/>
          </a:xfrm>
          <a:custGeom>
            <a:avLst/>
            <a:gdLst>
              <a:gd name="textAreaLeft" fmla="*/ 0 w 5300640"/>
              <a:gd name="textAreaRight" fmla="*/ 5301000 w 530064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976" h="420">
                <a:moveTo>
                  <a:pt x="2936" y="136"/>
                </a:moveTo>
                <a:cubicBezTo>
                  <a:pt x="2859" y="117"/>
                  <a:pt x="2776" y="74"/>
                  <a:pt x="2696" y="72"/>
                </a:cubicBezTo>
                <a:cubicBezTo>
                  <a:pt x="2533" y="67"/>
                  <a:pt x="2371" y="67"/>
                  <a:pt x="2208" y="64"/>
                </a:cubicBezTo>
                <a:cubicBezTo>
                  <a:pt x="2128" y="44"/>
                  <a:pt x="2222" y="64"/>
                  <a:pt x="2056" y="64"/>
                </a:cubicBezTo>
                <a:cubicBezTo>
                  <a:pt x="2003" y="64"/>
                  <a:pt x="1949" y="59"/>
                  <a:pt x="1896" y="56"/>
                </a:cubicBezTo>
                <a:cubicBezTo>
                  <a:pt x="1833" y="35"/>
                  <a:pt x="1769" y="16"/>
                  <a:pt x="1704" y="0"/>
                </a:cubicBezTo>
                <a:cubicBezTo>
                  <a:pt x="1677" y="2"/>
                  <a:pt x="1594" y="2"/>
                  <a:pt x="1560" y="24"/>
                </a:cubicBezTo>
                <a:cubicBezTo>
                  <a:pt x="1533" y="42"/>
                  <a:pt x="1496" y="66"/>
                  <a:pt x="1464" y="72"/>
                </a:cubicBezTo>
                <a:cubicBezTo>
                  <a:pt x="1334" y="98"/>
                  <a:pt x="1215" y="99"/>
                  <a:pt x="1080" y="104"/>
                </a:cubicBezTo>
                <a:cubicBezTo>
                  <a:pt x="882" y="170"/>
                  <a:pt x="1077" y="141"/>
                  <a:pt x="696" y="152"/>
                </a:cubicBezTo>
                <a:cubicBezTo>
                  <a:pt x="542" y="203"/>
                  <a:pt x="665" y="168"/>
                  <a:pt x="312" y="160"/>
                </a:cubicBezTo>
                <a:cubicBezTo>
                  <a:pt x="267" y="163"/>
                  <a:pt x="221" y="163"/>
                  <a:pt x="176" y="168"/>
                </a:cubicBezTo>
                <a:cubicBezTo>
                  <a:pt x="137" y="172"/>
                  <a:pt x="163" y="177"/>
                  <a:pt x="136" y="200"/>
                </a:cubicBezTo>
                <a:cubicBezTo>
                  <a:pt x="106" y="225"/>
                  <a:pt x="64" y="235"/>
                  <a:pt x="32" y="256"/>
                </a:cubicBezTo>
                <a:cubicBezTo>
                  <a:pt x="26" y="274"/>
                  <a:pt x="0" y="285"/>
                  <a:pt x="0" y="304"/>
                </a:cubicBezTo>
                <a:cubicBezTo>
                  <a:pt x="0" y="312"/>
                  <a:pt x="42" y="328"/>
                  <a:pt x="48" y="328"/>
                </a:cubicBezTo>
                <a:cubicBezTo>
                  <a:pt x="157" y="333"/>
                  <a:pt x="267" y="333"/>
                  <a:pt x="376" y="336"/>
                </a:cubicBezTo>
                <a:cubicBezTo>
                  <a:pt x="510" y="358"/>
                  <a:pt x="641" y="372"/>
                  <a:pt x="776" y="384"/>
                </a:cubicBezTo>
                <a:cubicBezTo>
                  <a:pt x="955" y="420"/>
                  <a:pt x="1102" y="396"/>
                  <a:pt x="1304" y="392"/>
                </a:cubicBezTo>
                <a:cubicBezTo>
                  <a:pt x="1588" y="335"/>
                  <a:pt x="1489" y="377"/>
                  <a:pt x="2080" y="384"/>
                </a:cubicBezTo>
                <a:cubicBezTo>
                  <a:pt x="2243" y="402"/>
                  <a:pt x="2395" y="397"/>
                  <a:pt x="2560" y="392"/>
                </a:cubicBezTo>
                <a:cubicBezTo>
                  <a:pt x="2614" y="379"/>
                  <a:pt x="2680" y="392"/>
                  <a:pt x="2728" y="360"/>
                </a:cubicBezTo>
                <a:cubicBezTo>
                  <a:pt x="2799" y="313"/>
                  <a:pt x="2851" y="291"/>
                  <a:pt x="2936" y="280"/>
                </a:cubicBezTo>
                <a:cubicBezTo>
                  <a:pt x="2944" y="275"/>
                  <a:pt x="2955" y="272"/>
                  <a:pt x="2960" y="264"/>
                </a:cubicBezTo>
                <a:cubicBezTo>
                  <a:pt x="2969" y="250"/>
                  <a:pt x="2976" y="216"/>
                  <a:pt x="2976" y="216"/>
                </a:cubicBezTo>
                <a:cubicBezTo>
                  <a:pt x="2976" y="216"/>
                  <a:pt x="2964" y="164"/>
                  <a:pt x="2960" y="160"/>
                </a:cubicBezTo>
                <a:cubicBezTo>
                  <a:pt x="2931" y="131"/>
                  <a:pt x="2936" y="173"/>
                  <a:pt x="2936" y="136"/>
                </a:cubicBezTo>
                <a:close/>
              </a:path>
            </a:pathLst>
          </a:custGeom>
          <a:gradFill rotWithShape="0">
            <a:gsLst>
              <a:gs pos="0">
                <a:srgbClr val="28283d"/>
              </a:gs>
              <a:gs pos="100000">
                <a:srgbClr val="575783"/>
              </a:gs>
            </a:gsLst>
            <a:lin ang="5400000"/>
          </a:gra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-36360" y="1989000"/>
            <a:ext cx="9215280" cy="48690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8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11" descr="tree8"/>
          <p:cNvPicPr/>
          <p:nvPr/>
        </p:nvPicPr>
        <p:blipFill>
          <a:blip r:embed="rId1"/>
          <a:stretch/>
        </p:blipFill>
        <p:spPr>
          <a:xfrm>
            <a:off x="4140360" y="404640"/>
            <a:ext cx="4176720" cy="3035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tree8"/>
          <p:cNvPicPr/>
          <p:nvPr/>
        </p:nvPicPr>
        <p:blipFill>
          <a:blip r:embed="rId2"/>
          <a:stretch/>
        </p:blipFill>
        <p:spPr>
          <a:xfrm>
            <a:off x="-252360" y="2133720"/>
            <a:ext cx="4825800" cy="3506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3"/>
          <p:cNvSpPr/>
          <p:nvPr/>
        </p:nvSpPr>
        <p:spPr>
          <a:xfrm>
            <a:off x="2484360" y="333360"/>
            <a:ext cx="4249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, ________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15"/>
          <p:cNvSpPr/>
          <p:nvPr/>
        </p:nvSpPr>
        <p:spPr>
          <a:xfrm rot="9847200">
            <a:off x="8387640" y="0"/>
            <a:ext cx="43164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860" y="1098"/>
                  <a:pt x="6119" y="5080"/>
                  <a:pt x="6119" y="10800"/>
                </a:cubicBezTo>
                <a:cubicBezTo>
                  <a:pt x="6119" y="16520"/>
                  <a:pt x="13860" y="2050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7380360" y="3333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7596360" y="5493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7667640" y="18900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8" h="71437">
                <a:moveTo>
                  <a:pt x="0" y="27286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6"/>
                </a:lnTo>
                <a:lnTo>
                  <a:pt x="49362" y="44150"/>
                </a:lnTo>
                <a:lnTo>
                  <a:pt x="57795" y="71437"/>
                </a:lnTo>
                <a:lnTo>
                  <a:pt x="35719" y="54573"/>
                </a:lnTo>
                <a:lnTo>
                  <a:pt x="13643" y="71437"/>
                </a:lnTo>
                <a:lnTo>
                  <a:pt x="22076" y="441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19" descr="an00548_"/>
          <p:cNvPicPr/>
          <p:nvPr/>
        </p:nvPicPr>
        <p:blipFill>
          <a:blip r:embed="rId3"/>
          <a:stretch/>
        </p:blipFill>
        <p:spPr>
          <a:xfrm>
            <a:off x="9325080" y="3933720"/>
            <a:ext cx="1442880" cy="2100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0"/>
          <p:cNvSpPr/>
          <p:nvPr/>
        </p:nvSpPr>
        <p:spPr>
          <a:xfrm>
            <a:off x="684360" y="2276640"/>
            <a:ext cx="5329080" cy="1368360"/>
          </a:xfrm>
          <a:prstGeom prst="wedgeRoundRectCallout">
            <a:avLst>
              <a:gd name="adj1" fmla="val 40763"/>
              <a:gd name="adj2" fmla="val 140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C -0.01875 0.00949 -0.00312 0.00278 -0.04444 0.00556 C -0.06388 0.00694 -0.07968 0.01296 -0.09809 0.01667 C -0.11805 0.0287 -0.13836 0.04051 -0.16111 0.0463 C -0.17378 0.05486 -0.18923 0.05579 -0.20364 0.06111 C -0.23489 0.07269 -0.26475 0.08287 -0.29809 0.08704 C -0.31128 0.08565 -0.32222 0.08218 -0.33507 0.07963 C -0.34409 0.075 -0.35104 0.07454 -0.36093 0.07222 C -0.3743 0.06921 -0.38802 0.06296 -0.40156 0.06296 E">
                                      <p:cBhvr>
                                        <p:cTn id="12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ore Ideas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4000" y="98100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ap when you hear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tch words and pictu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ll in the missing wo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assif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p from memo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ore Ideas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24000" y="98100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the cogn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the false fri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words with certain s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all the masculine nou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the rhym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ore Ideas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24000" y="981000"/>
            <a:ext cx="88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actise reading in pai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dividual reading around the 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the next word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468360" y="549360"/>
            <a:ext cx="8207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Verdana"/>
              </a:rPr>
              <a:t>Tape les mai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C’est l’printemps qui revient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Verdana"/>
              </a:rPr>
              <a:t>Tape les pie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C’est l’printemps qui renaît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Read the po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9" descr="MCj04300490000[1]"/>
          <p:cNvPicPr/>
          <p:nvPr/>
        </p:nvPicPr>
        <p:blipFill>
          <a:blip r:embed="rId3"/>
          <a:stretch/>
        </p:blipFill>
        <p:spPr>
          <a:xfrm>
            <a:off x="2195640" y="1125360"/>
            <a:ext cx="496872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f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4" descr="j0437479"/>
          <p:cNvPicPr/>
          <p:nvPr/>
        </p:nvPicPr>
        <p:blipFill>
          <a:blip r:embed="rId1"/>
          <a:stretch/>
        </p:blipFill>
        <p:spPr>
          <a:xfrm>
            <a:off x="0" y="0"/>
            <a:ext cx="42735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4500720" y="54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00"/>
                </a:solidFill>
                <a:latin typeface="Comic Sans MS"/>
              </a:rPr>
              <a:t>Le retour du printemp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427640" y="6597720"/>
            <a:ext cx="47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10 CS 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0" y="0"/>
            <a:ext cx="9144000" cy="2924280"/>
          </a:xfrm>
          <a:prstGeom prst="rect">
            <a:avLst/>
          </a:prstGeom>
          <a:solidFill>
            <a:srgbClr val="d1dff3"/>
          </a:solidFill>
          <a:ln w="9360">
            <a:solidFill>
              <a:srgbClr val="98b7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0" y="2924280"/>
            <a:ext cx="9144000" cy="3933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847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3" descr="tree1"/>
          <p:cNvPicPr/>
          <p:nvPr/>
        </p:nvPicPr>
        <p:blipFill>
          <a:blip r:embed="rId1"/>
          <a:stretch/>
        </p:blipFill>
        <p:spPr>
          <a:xfrm>
            <a:off x="6084720" y="144360"/>
            <a:ext cx="3059280" cy="3059280"/>
          </a:xfrm>
          <a:prstGeom prst="rect">
            <a:avLst/>
          </a:prstGeom>
          <a:ln w="0">
            <a:noFill/>
          </a:ln>
        </p:spPr>
      </p:pic>
      <p:sp>
        <p:nvSpPr>
          <p:cNvPr id="65" name="Oval 30"/>
          <p:cNvSpPr/>
          <p:nvPr/>
        </p:nvSpPr>
        <p:spPr>
          <a:xfrm>
            <a:off x="2050920" y="476280"/>
            <a:ext cx="64800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9" descr="tree3"/>
          <p:cNvPicPr/>
          <p:nvPr/>
        </p:nvPicPr>
        <p:blipFill>
          <a:blip r:embed="rId2"/>
          <a:stretch/>
        </p:blipFill>
        <p:spPr>
          <a:xfrm>
            <a:off x="0" y="836640"/>
            <a:ext cx="1962000" cy="24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Cj01228610000[1]"/>
          <p:cNvPicPr/>
          <p:nvPr/>
        </p:nvPicPr>
        <p:blipFill>
          <a:blip r:embed="rId3"/>
          <a:stretch/>
        </p:blipFill>
        <p:spPr>
          <a:xfrm>
            <a:off x="395280" y="5661000"/>
            <a:ext cx="635040" cy="63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Cj01228610000[1]"/>
          <p:cNvPicPr/>
          <p:nvPr/>
        </p:nvPicPr>
        <p:blipFill>
          <a:blip r:embed="rId4"/>
          <a:stretch/>
        </p:blipFill>
        <p:spPr>
          <a:xfrm flipH="1">
            <a:off x="826920" y="5805360"/>
            <a:ext cx="635040" cy="63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Cj01228610000[1]"/>
          <p:cNvPicPr/>
          <p:nvPr/>
        </p:nvPicPr>
        <p:blipFill>
          <a:blip r:embed="rId5"/>
          <a:stretch/>
        </p:blipFill>
        <p:spPr>
          <a:xfrm>
            <a:off x="2050920" y="5805360"/>
            <a:ext cx="849600" cy="8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snow"/>
          <p:cNvPicPr/>
          <p:nvPr/>
        </p:nvPicPr>
        <p:blipFill>
          <a:blip r:embed="rId6"/>
          <a:stretch/>
        </p:blipFill>
        <p:spPr>
          <a:xfrm>
            <a:off x="6732720" y="2852640"/>
            <a:ext cx="2303280" cy="53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tree4"/>
          <p:cNvPicPr/>
          <p:nvPr/>
        </p:nvPicPr>
        <p:blipFill>
          <a:blip r:embed="rId7"/>
          <a:stretch/>
        </p:blipFill>
        <p:spPr>
          <a:xfrm>
            <a:off x="4067280" y="-387360"/>
            <a:ext cx="2536560" cy="351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snow"/>
          <p:cNvPicPr/>
          <p:nvPr/>
        </p:nvPicPr>
        <p:blipFill>
          <a:blip r:embed="rId8"/>
          <a:stretch/>
        </p:blipFill>
        <p:spPr>
          <a:xfrm>
            <a:off x="0" y="2924280"/>
            <a:ext cx="2124000" cy="44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tree2"/>
          <p:cNvPicPr/>
          <p:nvPr/>
        </p:nvPicPr>
        <p:blipFill>
          <a:blip r:embed="rId9"/>
          <a:stretch/>
        </p:blipFill>
        <p:spPr>
          <a:xfrm>
            <a:off x="4859280" y="-819000"/>
            <a:ext cx="2914560" cy="412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1" descr="swallow"/>
          <p:cNvPicPr/>
          <p:nvPr/>
        </p:nvPicPr>
        <p:blipFill>
          <a:blip r:embed="rId10"/>
          <a:stretch/>
        </p:blipFill>
        <p:spPr>
          <a:xfrm>
            <a:off x="-1116000" y="-1179360"/>
            <a:ext cx="1168560" cy="124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snow"/>
          <p:cNvPicPr/>
          <p:nvPr/>
        </p:nvPicPr>
        <p:blipFill>
          <a:blip r:embed="rId11"/>
          <a:stretch/>
        </p:blipFill>
        <p:spPr>
          <a:xfrm>
            <a:off x="5867280" y="2852640"/>
            <a:ext cx="1008360" cy="10796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2"/>
          <p:cNvSpPr/>
          <p:nvPr/>
        </p:nvSpPr>
        <p:spPr>
          <a:xfrm>
            <a:off x="3708360" y="2060640"/>
            <a:ext cx="4967280" cy="1368360"/>
          </a:xfrm>
          <a:prstGeom prst="wedgeRoundRectCallout">
            <a:avLst>
              <a:gd name="adj1" fmla="val -37282"/>
              <a:gd name="adj2" fmla="val 111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 printemps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2916360" y="260280"/>
            <a:ext cx="367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ns la prairie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e hirondelle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3473 C 0.05573 0.04329 0.05694 0.04653 0.06198 0.05139 C 0.06493 0.06389 0.06076 0.05023 0.06701 0.06065 C 0.0691 0.06389 0.07066 0.06806 0.0724 0.07176 C 0.07622 0.0794 0.08038 0.08635 0.0842 0.09375 C 0.09288 0.11065 0.08056 0.09236 0.0908 0.10625 C 0.0934 0.11806 0.10104 0.13357 0.10504 0.14537 C 0.11042 0.16042 0.11597 0.17477 0.12205 0.18959 C 0.125 0.19699 0.12622 0.20278 0.13004 0.20996 C 0.13247 0.21991 0.13611 0.23195 0.14045 0.24121 C 0.14201 0.25 0.14427 0.25602 0.14826 0.26343 C 0.15 0.27014 0.15208 0.27593 0.15486 0.28172 C 0.15694 0.29723 0.16233 0.3125 0.16788 0.32616 C 0.17292 0.33889 0.17622 0.35278 0.18229 0.36482 C 0.18698 0.37431 0.18542 0.36621 0.18854 0.37593 C 0.19583 0.39607 0.20469 0.41598 0.21372 0.43496 C 0.21806 0.44445 0.21979 0.4551 0.22413 0.46412 C 0.22795 0.48565 0.22274 0.45973 0.22813 0.47732 C 0.23177 0.48959 0.23507 0.50417 0.23993 0.51621 C 0.24132 0.52014 0.24358 0.52338 0.24514 0.52709 C 0.24879 0.53773 0.25104 0.54792 0.25816 0.55486 C 0.26493 0.56875 0.2724 0.57824 0.28177 0.58797 C 0.28646 0.59329 0.29028 0.6 0.29618 0.60278 C 0.31163 0.61922 0.3276 0.64398 0.34722 0.6507 C 0.35226 0.65579 0.35833 0.65625 0.36424 0.65996 C 0.36736 0.66204 0.36997 0.66551 0.37326 0.66736 C 0.38385 0.67361 0.39497 0.67801 0.40608 0.68218 C 0.42552 0.68912 0.40573 0.68218 0.41788 0.68959 C 0.42552 0.69422 0.43559 0.69584 0.44392 0.69885 C 0.45226 0.70672 0.46163 0.70625 0.47153 0.70625 E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10"/>
          <p:cNvSpPr/>
          <p:nvPr/>
        </p:nvSpPr>
        <p:spPr>
          <a:xfrm>
            <a:off x="-757080" y="2276640"/>
            <a:ext cx="10910880" cy="5400360"/>
          </a:xfrm>
          <a:custGeom>
            <a:avLst/>
            <a:gdLst>
              <a:gd name="textAreaLeft" fmla="*/ 0 w 10910880"/>
              <a:gd name="textAreaRight" fmla="*/ 10911240 w 10910880"/>
              <a:gd name="textAreaTop" fmla="*/ 0 h 5400360"/>
              <a:gd name="textAreaBottom" fmla="*/ 5400720 h 5400360"/>
            </a:gdLst>
            <a:ahLst/>
            <a:rect l="textAreaLeft" t="textAreaTop" r="textAreaRight" b="textAreaBottom"/>
            <a:pathLst>
              <a:path w="6873" h="3019">
                <a:moveTo>
                  <a:pt x="306" y="784"/>
                </a:moveTo>
                <a:cubicBezTo>
                  <a:pt x="340" y="750"/>
                  <a:pt x="425" y="716"/>
                  <a:pt x="474" y="704"/>
                </a:cubicBezTo>
                <a:cubicBezTo>
                  <a:pt x="507" y="682"/>
                  <a:pt x="544" y="669"/>
                  <a:pt x="578" y="648"/>
                </a:cubicBezTo>
                <a:cubicBezTo>
                  <a:pt x="589" y="641"/>
                  <a:pt x="598" y="630"/>
                  <a:pt x="610" y="624"/>
                </a:cubicBezTo>
                <a:cubicBezTo>
                  <a:pt x="625" y="616"/>
                  <a:pt x="644" y="617"/>
                  <a:pt x="658" y="608"/>
                </a:cubicBezTo>
                <a:cubicBezTo>
                  <a:pt x="718" y="568"/>
                  <a:pt x="784" y="545"/>
                  <a:pt x="850" y="520"/>
                </a:cubicBezTo>
                <a:cubicBezTo>
                  <a:pt x="952" y="482"/>
                  <a:pt x="822" y="525"/>
                  <a:pt x="906" y="488"/>
                </a:cubicBezTo>
                <a:cubicBezTo>
                  <a:pt x="931" y="477"/>
                  <a:pt x="978" y="472"/>
                  <a:pt x="1002" y="456"/>
                </a:cubicBezTo>
                <a:cubicBezTo>
                  <a:pt x="1031" y="437"/>
                  <a:pt x="1059" y="436"/>
                  <a:pt x="1090" y="424"/>
                </a:cubicBezTo>
                <a:cubicBezTo>
                  <a:pt x="1240" y="366"/>
                  <a:pt x="1110" y="408"/>
                  <a:pt x="1218" y="384"/>
                </a:cubicBezTo>
                <a:cubicBezTo>
                  <a:pt x="1245" y="378"/>
                  <a:pt x="1263" y="360"/>
                  <a:pt x="1290" y="352"/>
                </a:cubicBezTo>
                <a:cubicBezTo>
                  <a:pt x="1405" y="319"/>
                  <a:pt x="1515" y="271"/>
                  <a:pt x="1634" y="256"/>
                </a:cubicBezTo>
                <a:cubicBezTo>
                  <a:pt x="1711" y="230"/>
                  <a:pt x="1793" y="217"/>
                  <a:pt x="1874" y="208"/>
                </a:cubicBezTo>
                <a:cubicBezTo>
                  <a:pt x="1950" y="189"/>
                  <a:pt x="2028" y="175"/>
                  <a:pt x="2106" y="168"/>
                </a:cubicBezTo>
                <a:cubicBezTo>
                  <a:pt x="2149" y="154"/>
                  <a:pt x="2197" y="142"/>
                  <a:pt x="2242" y="136"/>
                </a:cubicBezTo>
                <a:cubicBezTo>
                  <a:pt x="2285" y="130"/>
                  <a:pt x="2370" y="120"/>
                  <a:pt x="2370" y="120"/>
                </a:cubicBezTo>
                <a:cubicBezTo>
                  <a:pt x="2430" y="100"/>
                  <a:pt x="2482" y="94"/>
                  <a:pt x="2546" y="88"/>
                </a:cubicBezTo>
                <a:cubicBezTo>
                  <a:pt x="2616" y="70"/>
                  <a:pt x="2690" y="66"/>
                  <a:pt x="2762" y="56"/>
                </a:cubicBezTo>
                <a:cubicBezTo>
                  <a:pt x="2931" y="32"/>
                  <a:pt x="3094" y="11"/>
                  <a:pt x="3266" y="0"/>
                </a:cubicBezTo>
                <a:cubicBezTo>
                  <a:pt x="3305" y="1"/>
                  <a:pt x="4052" y="13"/>
                  <a:pt x="4122" y="16"/>
                </a:cubicBezTo>
                <a:cubicBezTo>
                  <a:pt x="4202" y="19"/>
                  <a:pt x="4289" y="42"/>
                  <a:pt x="4370" y="48"/>
                </a:cubicBezTo>
                <a:cubicBezTo>
                  <a:pt x="4449" y="74"/>
                  <a:pt x="4531" y="68"/>
                  <a:pt x="4610" y="88"/>
                </a:cubicBezTo>
                <a:cubicBezTo>
                  <a:pt x="4733" y="119"/>
                  <a:pt x="4867" y="142"/>
                  <a:pt x="4994" y="152"/>
                </a:cubicBezTo>
                <a:cubicBezTo>
                  <a:pt x="5072" y="178"/>
                  <a:pt x="5160" y="184"/>
                  <a:pt x="5242" y="192"/>
                </a:cubicBezTo>
                <a:cubicBezTo>
                  <a:pt x="5291" y="204"/>
                  <a:pt x="5336" y="210"/>
                  <a:pt x="5386" y="216"/>
                </a:cubicBezTo>
                <a:cubicBezTo>
                  <a:pt x="5498" y="253"/>
                  <a:pt x="5615" y="270"/>
                  <a:pt x="5730" y="296"/>
                </a:cubicBezTo>
                <a:cubicBezTo>
                  <a:pt x="5845" y="323"/>
                  <a:pt x="5957" y="367"/>
                  <a:pt x="6074" y="384"/>
                </a:cubicBezTo>
                <a:cubicBezTo>
                  <a:pt x="6085" y="389"/>
                  <a:pt x="6095" y="396"/>
                  <a:pt x="6106" y="400"/>
                </a:cubicBezTo>
                <a:cubicBezTo>
                  <a:pt x="6127" y="407"/>
                  <a:pt x="6170" y="416"/>
                  <a:pt x="6170" y="416"/>
                </a:cubicBezTo>
                <a:cubicBezTo>
                  <a:pt x="6219" y="449"/>
                  <a:pt x="6165" y="417"/>
                  <a:pt x="6234" y="440"/>
                </a:cubicBezTo>
                <a:cubicBezTo>
                  <a:pt x="6306" y="464"/>
                  <a:pt x="6368" y="497"/>
                  <a:pt x="6442" y="512"/>
                </a:cubicBezTo>
                <a:cubicBezTo>
                  <a:pt x="6471" y="531"/>
                  <a:pt x="6496" y="544"/>
                  <a:pt x="6530" y="552"/>
                </a:cubicBezTo>
                <a:cubicBezTo>
                  <a:pt x="6559" y="571"/>
                  <a:pt x="6584" y="584"/>
                  <a:pt x="6618" y="592"/>
                </a:cubicBezTo>
                <a:cubicBezTo>
                  <a:pt x="6647" y="614"/>
                  <a:pt x="6675" y="623"/>
                  <a:pt x="6706" y="640"/>
                </a:cubicBezTo>
                <a:cubicBezTo>
                  <a:pt x="6723" y="649"/>
                  <a:pt x="6754" y="672"/>
                  <a:pt x="6754" y="672"/>
                </a:cubicBezTo>
                <a:cubicBezTo>
                  <a:pt x="6873" y="1266"/>
                  <a:pt x="6761" y="1883"/>
                  <a:pt x="6754" y="2488"/>
                </a:cubicBezTo>
                <a:cubicBezTo>
                  <a:pt x="6752" y="2620"/>
                  <a:pt x="6746" y="2631"/>
                  <a:pt x="6722" y="2728"/>
                </a:cubicBezTo>
                <a:cubicBezTo>
                  <a:pt x="6716" y="2750"/>
                  <a:pt x="6679" y="2744"/>
                  <a:pt x="6658" y="2752"/>
                </a:cubicBezTo>
                <a:cubicBezTo>
                  <a:pt x="6603" y="2773"/>
                  <a:pt x="6540" y="2776"/>
                  <a:pt x="6482" y="2784"/>
                </a:cubicBezTo>
                <a:cubicBezTo>
                  <a:pt x="6397" y="2820"/>
                  <a:pt x="6314" y="2826"/>
                  <a:pt x="6226" y="2848"/>
                </a:cubicBezTo>
                <a:cubicBezTo>
                  <a:pt x="6035" y="2896"/>
                  <a:pt x="5838" y="2890"/>
                  <a:pt x="5642" y="2912"/>
                </a:cubicBezTo>
                <a:cubicBezTo>
                  <a:pt x="5461" y="2957"/>
                  <a:pt x="5274" y="2982"/>
                  <a:pt x="5090" y="3008"/>
                </a:cubicBezTo>
                <a:cubicBezTo>
                  <a:pt x="4759" y="3004"/>
                  <a:pt x="4362" y="3019"/>
                  <a:pt x="4018" y="2960"/>
                </a:cubicBezTo>
                <a:cubicBezTo>
                  <a:pt x="3631" y="2893"/>
                  <a:pt x="3246" y="2825"/>
                  <a:pt x="2858" y="2760"/>
                </a:cubicBezTo>
                <a:cubicBezTo>
                  <a:pt x="2733" y="2739"/>
                  <a:pt x="2585" y="2705"/>
                  <a:pt x="2458" y="2704"/>
                </a:cubicBezTo>
                <a:cubicBezTo>
                  <a:pt x="1997" y="2701"/>
                  <a:pt x="1535" y="2699"/>
                  <a:pt x="1074" y="2696"/>
                </a:cubicBezTo>
                <a:cubicBezTo>
                  <a:pt x="940" y="2690"/>
                  <a:pt x="821" y="2669"/>
                  <a:pt x="690" y="2656"/>
                </a:cubicBezTo>
                <a:cubicBezTo>
                  <a:pt x="571" y="2626"/>
                  <a:pt x="452" y="2609"/>
                  <a:pt x="330" y="2600"/>
                </a:cubicBezTo>
                <a:cubicBezTo>
                  <a:pt x="253" y="2581"/>
                  <a:pt x="169" y="2570"/>
                  <a:pt x="90" y="2560"/>
                </a:cubicBezTo>
                <a:cubicBezTo>
                  <a:pt x="58" y="2549"/>
                  <a:pt x="52" y="2535"/>
                  <a:pt x="42" y="2504"/>
                </a:cubicBezTo>
                <a:cubicBezTo>
                  <a:pt x="0" y="2213"/>
                  <a:pt x="30" y="2439"/>
                  <a:pt x="42" y="1728"/>
                </a:cubicBezTo>
                <a:cubicBezTo>
                  <a:pt x="46" y="1502"/>
                  <a:pt x="93" y="1300"/>
                  <a:pt x="130" y="1080"/>
                </a:cubicBezTo>
                <a:cubicBezTo>
                  <a:pt x="135" y="1004"/>
                  <a:pt x="126" y="849"/>
                  <a:pt x="226" y="816"/>
                </a:cubicBezTo>
                <a:cubicBezTo>
                  <a:pt x="249" y="808"/>
                  <a:pt x="287" y="803"/>
                  <a:pt x="306" y="784"/>
                </a:cubicBezTo>
                <a:close/>
              </a:path>
            </a:pathLst>
          </a:custGeom>
          <a:gradFill rotWithShape="0">
            <a:gsLst>
              <a:gs pos="0">
                <a:srgbClr val="458a00"/>
              </a:gs>
              <a:gs pos="100000">
                <a:srgbClr val="204000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3" descr="AG00373_"/>
          <p:cNvPicPr/>
          <p:nvPr/>
        </p:nvPicPr>
        <p:blipFill>
          <a:blip r:embed="rId1"/>
          <a:stretch/>
        </p:blipFill>
        <p:spPr>
          <a:xfrm>
            <a:off x="1547640" y="2852640"/>
            <a:ext cx="1368720" cy="1316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79280" y="4437000"/>
            <a:ext cx="42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mai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vi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716360" y="4437000"/>
            <a:ext cx="424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pied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naî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8" descr="stamp"/>
          <p:cNvPicPr/>
          <p:nvPr/>
        </p:nvPicPr>
        <p:blipFill>
          <a:blip r:embed="rId2"/>
          <a:stretch/>
        </p:blipFill>
        <p:spPr>
          <a:xfrm>
            <a:off x="6156360" y="278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j0338158"/>
          <p:cNvPicPr/>
          <p:nvPr/>
        </p:nvPicPr>
        <p:blipFill>
          <a:blip r:embed="rId3"/>
          <a:stretch/>
        </p:blipFill>
        <p:spPr>
          <a:xfrm>
            <a:off x="3203640" y="-27000"/>
            <a:ext cx="2879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2" descr="tree1"/>
          <p:cNvPicPr/>
          <p:nvPr/>
        </p:nvPicPr>
        <p:blipFill>
          <a:blip r:embed="rId1"/>
          <a:stretch/>
        </p:blipFill>
        <p:spPr>
          <a:xfrm>
            <a:off x="-1476360" y="0"/>
            <a:ext cx="4670280" cy="4670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d1d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Oval 39"/>
          <p:cNvSpPr/>
          <p:nvPr/>
        </p:nvSpPr>
        <p:spPr>
          <a:xfrm>
            <a:off x="1042920" y="-17136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38" descr="tree5"/>
          <p:cNvPicPr/>
          <p:nvPr/>
        </p:nvPicPr>
        <p:blipFill>
          <a:blip r:embed="rId2"/>
          <a:stretch/>
        </p:blipFill>
        <p:spPr>
          <a:xfrm>
            <a:off x="6732720" y="-1900080"/>
            <a:ext cx="1915920" cy="482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7" descr="tree6"/>
          <p:cNvPicPr/>
          <p:nvPr/>
        </p:nvPicPr>
        <p:blipFill>
          <a:blip r:embed="rId3"/>
          <a:stretch/>
        </p:blipFill>
        <p:spPr>
          <a:xfrm>
            <a:off x="1547640" y="-1108080"/>
            <a:ext cx="812880" cy="336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6" descr="tree4"/>
          <p:cNvPicPr/>
          <p:nvPr/>
        </p:nvPicPr>
        <p:blipFill>
          <a:blip r:embed="rId4"/>
          <a:stretch/>
        </p:blipFill>
        <p:spPr>
          <a:xfrm>
            <a:off x="2843280" y="-1395360"/>
            <a:ext cx="3174840" cy="4392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9" descr="tree7"/>
          <p:cNvPicPr/>
          <p:nvPr/>
        </p:nvPicPr>
        <p:blipFill>
          <a:blip r:embed="rId5"/>
          <a:stretch/>
        </p:blipFill>
        <p:spPr>
          <a:xfrm>
            <a:off x="6154560" y="-387360"/>
            <a:ext cx="2989440" cy="36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tree1"/>
          <p:cNvPicPr/>
          <p:nvPr/>
        </p:nvPicPr>
        <p:blipFill>
          <a:blip r:embed="rId6"/>
          <a:stretch/>
        </p:blipFill>
        <p:spPr>
          <a:xfrm>
            <a:off x="3348000" y="260280"/>
            <a:ext cx="2870280" cy="287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tree4"/>
          <p:cNvPicPr/>
          <p:nvPr/>
        </p:nvPicPr>
        <p:blipFill>
          <a:blip r:embed="rId7"/>
          <a:stretch/>
        </p:blipFill>
        <p:spPr>
          <a:xfrm>
            <a:off x="4572000" y="-747720"/>
            <a:ext cx="3114720" cy="4309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tree2"/>
          <p:cNvPicPr/>
          <p:nvPr/>
        </p:nvPicPr>
        <p:blipFill>
          <a:blip r:embed="rId8"/>
          <a:stretch/>
        </p:blipFill>
        <p:spPr>
          <a:xfrm>
            <a:off x="6012000" y="-243000"/>
            <a:ext cx="2914560" cy="412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3" descr="tree6"/>
          <p:cNvPicPr/>
          <p:nvPr/>
        </p:nvPicPr>
        <p:blipFill>
          <a:blip r:embed="rId9"/>
          <a:stretch/>
        </p:blipFill>
        <p:spPr>
          <a:xfrm>
            <a:off x="7885080" y="-819000"/>
            <a:ext cx="1557360" cy="644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tree5"/>
          <p:cNvPicPr/>
          <p:nvPr/>
        </p:nvPicPr>
        <p:blipFill>
          <a:blip r:embed="rId10"/>
          <a:stretch/>
        </p:blipFill>
        <p:spPr>
          <a:xfrm>
            <a:off x="7093080" y="1773360"/>
            <a:ext cx="1009440" cy="25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tree3"/>
          <p:cNvPicPr/>
          <p:nvPr/>
        </p:nvPicPr>
        <p:blipFill>
          <a:blip r:embed="rId11"/>
          <a:stretch/>
        </p:blipFill>
        <p:spPr>
          <a:xfrm>
            <a:off x="4395960" y="765000"/>
            <a:ext cx="3433680" cy="436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tree4"/>
          <p:cNvPicPr/>
          <p:nvPr/>
        </p:nvPicPr>
        <p:blipFill>
          <a:blip r:embed="rId12"/>
          <a:stretch/>
        </p:blipFill>
        <p:spPr>
          <a:xfrm>
            <a:off x="6588000" y="2700360"/>
            <a:ext cx="3005280" cy="41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tree6"/>
          <p:cNvPicPr/>
          <p:nvPr/>
        </p:nvPicPr>
        <p:blipFill>
          <a:blip r:embed="rId13"/>
          <a:stretch/>
        </p:blipFill>
        <p:spPr>
          <a:xfrm>
            <a:off x="5292720" y="5024520"/>
            <a:ext cx="2009880" cy="183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tree7"/>
          <p:cNvPicPr/>
          <p:nvPr/>
        </p:nvPicPr>
        <p:blipFill>
          <a:blip r:embed="rId14"/>
          <a:stretch/>
        </p:blipFill>
        <p:spPr>
          <a:xfrm>
            <a:off x="3995640" y="1557360"/>
            <a:ext cx="4529160" cy="550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tree4"/>
          <p:cNvPicPr/>
          <p:nvPr/>
        </p:nvPicPr>
        <p:blipFill>
          <a:blip r:embed="rId15"/>
          <a:stretch/>
        </p:blipFill>
        <p:spPr>
          <a:xfrm>
            <a:off x="1547640" y="-171360"/>
            <a:ext cx="2835360" cy="392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tree4"/>
          <p:cNvPicPr/>
          <p:nvPr/>
        </p:nvPicPr>
        <p:blipFill>
          <a:blip r:embed="rId16"/>
          <a:stretch/>
        </p:blipFill>
        <p:spPr>
          <a:xfrm>
            <a:off x="-684360" y="-458640"/>
            <a:ext cx="3435480" cy="475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tree7"/>
          <p:cNvPicPr/>
          <p:nvPr/>
        </p:nvPicPr>
        <p:blipFill>
          <a:blip r:embed="rId17"/>
          <a:stretch/>
        </p:blipFill>
        <p:spPr>
          <a:xfrm>
            <a:off x="108000" y="115920"/>
            <a:ext cx="4738680" cy="576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tree5"/>
          <p:cNvPicPr/>
          <p:nvPr/>
        </p:nvPicPr>
        <p:blipFill>
          <a:blip r:embed="rId18"/>
          <a:stretch/>
        </p:blipFill>
        <p:spPr>
          <a:xfrm>
            <a:off x="-766800" y="3213000"/>
            <a:ext cx="1531800" cy="3854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tree4"/>
          <p:cNvPicPr/>
          <p:nvPr/>
        </p:nvPicPr>
        <p:blipFill>
          <a:blip r:embed="rId19"/>
          <a:stretch/>
        </p:blipFill>
        <p:spPr>
          <a:xfrm>
            <a:off x="0" y="2205000"/>
            <a:ext cx="3773520" cy="521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j0326476"/>
          <p:cNvPicPr/>
          <p:nvPr/>
        </p:nvPicPr>
        <p:blipFill>
          <a:blip r:embed="rId20"/>
          <a:stretch/>
        </p:blipFill>
        <p:spPr>
          <a:xfrm>
            <a:off x="7308720" y="3645000"/>
            <a:ext cx="849600" cy="693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1"/>
          <p:cNvSpPr/>
          <p:nvPr/>
        </p:nvSpPr>
        <p:spPr>
          <a:xfrm>
            <a:off x="2843280" y="476280"/>
            <a:ext cx="3672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ns la forêt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écureuil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42"/>
          <p:cNvSpPr/>
          <p:nvPr/>
        </p:nvSpPr>
        <p:spPr>
          <a:xfrm>
            <a:off x="468360" y="1773360"/>
            <a:ext cx="4967280" cy="1368360"/>
          </a:xfrm>
          <a:prstGeom prst="wedgeRoundRectCallout">
            <a:avLst>
              <a:gd name="adj1" fmla="val 32037"/>
              <a:gd name="adj2" fmla="val 12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 printemps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C -0.00973 -0.00972 -0.02014 -0.01643 -0.03195 -0.02037 C -0.04028 -0.01921 -0.04653 -0.01828 -0.05417 -0.01481 C -0.06077 -0.00601 -0.0573 -0.01134 -0.06389 0.00186 C -0.06476 0.00371 -0.06667 0.00741 -0.06667 0.00741 C -0.06823 0.01551 -0.07066 0.02338 -0.07223 0.03149 C -0.07309 0.03635 -0.075 0.0463 -0.075 0.0463 C -0.07761 0.04399 -0.08073 0.04306 -0.08334 0.04074 C -0.09341 0.03195 -0.08056 0.03704 -0.09445 0.03334 C -0.10365 0.02732 -0.11268 0.02963 -0.12084 0.03704 C -0.12587 0.04723 -0.13056 0.05741 -0.13056 0.07037 C -0.13056 0.07223 -0.12969 0.06667 -0.12917 0.06482 C -0.13125 0.05371 -0.13143 0.04514 -0.1375 0.03704 C -0.13941 0.02963 -0.14237 0.02662 -0.14723 0.02223 C -0.14914 0.02292 -0.15087 0.02338 -0.15278 0.02408 C -0.15417 0.02454 -0.15556 0.02686 -0.15695 0.02593 C -0.15834 0.025 -0.15764 0.02223 -0.15834 0.02037 C -0.15973 0.01667 -0.16285 0.01158 -0.16528 0.00926 C -0.17032 0.0044 -0.17882 0.00024 -0.18473 -0.00185 C -0.19688 -0.00046 -0.20782 0.000240000000000001 -0.21806 0.00926 C -0.22101 0.01528 -0.22483 0.01806 -0.22778 0.02408 C -0.23525 0.02153 -0.24098 0.01551 -0.24862 0.01297 C -0.2632 0.01436 -0.26372 0.01297 -0.27362 0.01667 C -0.27813 0.01852 -0.28612 0.02593 -0.28612 0.02593 C -0.28698 0.02778 -0.28768 0.02987 -0.28889 0.03149 C -0.29011 0.03311 -0.29202 0.03357 -0.29306 0.03519 C -0.29896 0.04422 -0.30278 0.05672 -0.30278 0.06852 E">
                                      <p:cBhvr>
                                        <p:cTn id="2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2"/>
          <p:cNvSpPr/>
          <p:nvPr/>
        </p:nvSpPr>
        <p:spPr>
          <a:xfrm>
            <a:off x="-757080" y="2276640"/>
            <a:ext cx="10910880" cy="5400360"/>
          </a:xfrm>
          <a:custGeom>
            <a:avLst/>
            <a:gdLst>
              <a:gd name="textAreaLeft" fmla="*/ 0 w 10910880"/>
              <a:gd name="textAreaRight" fmla="*/ 10911240 w 10910880"/>
              <a:gd name="textAreaTop" fmla="*/ 0 h 5400360"/>
              <a:gd name="textAreaBottom" fmla="*/ 5400720 h 5400360"/>
            </a:gdLst>
            <a:ahLst/>
            <a:rect l="textAreaLeft" t="textAreaTop" r="textAreaRight" b="textAreaBottom"/>
            <a:pathLst>
              <a:path w="6873" h="3019">
                <a:moveTo>
                  <a:pt x="306" y="784"/>
                </a:moveTo>
                <a:cubicBezTo>
                  <a:pt x="340" y="750"/>
                  <a:pt x="425" y="716"/>
                  <a:pt x="474" y="704"/>
                </a:cubicBezTo>
                <a:cubicBezTo>
                  <a:pt x="507" y="682"/>
                  <a:pt x="544" y="669"/>
                  <a:pt x="578" y="648"/>
                </a:cubicBezTo>
                <a:cubicBezTo>
                  <a:pt x="589" y="641"/>
                  <a:pt x="598" y="630"/>
                  <a:pt x="610" y="624"/>
                </a:cubicBezTo>
                <a:cubicBezTo>
                  <a:pt x="625" y="616"/>
                  <a:pt x="644" y="617"/>
                  <a:pt x="658" y="608"/>
                </a:cubicBezTo>
                <a:cubicBezTo>
                  <a:pt x="718" y="568"/>
                  <a:pt x="784" y="545"/>
                  <a:pt x="850" y="520"/>
                </a:cubicBezTo>
                <a:cubicBezTo>
                  <a:pt x="952" y="482"/>
                  <a:pt x="822" y="525"/>
                  <a:pt x="906" y="488"/>
                </a:cubicBezTo>
                <a:cubicBezTo>
                  <a:pt x="931" y="477"/>
                  <a:pt x="978" y="472"/>
                  <a:pt x="1002" y="456"/>
                </a:cubicBezTo>
                <a:cubicBezTo>
                  <a:pt x="1031" y="437"/>
                  <a:pt x="1059" y="436"/>
                  <a:pt x="1090" y="424"/>
                </a:cubicBezTo>
                <a:cubicBezTo>
                  <a:pt x="1240" y="366"/>
                  <a:pt x="1110" y="408"/>
                  <a:pt x="1218" y="384"/>
                </a:cubicBezTo>
                <a:cubicBezTo>
                  <a:pt x="1245" y="378"/>
                  <a:pt x="1263" y="360"/>
                  <a:pt x="1290" y="352"/>
                </a:cubicBezTo>
                <a:cubicBezTo>
                  <a:pt x="1405" y="319"/>
                  <a:pt x="1515" y="271"/>
                  <a:pt x="1634" y="256"/>
                </a:cubicBezTo>
                <a:cubicBezTo>
                  <a:pt x="1711" y="230"/>
                  <a:pt x="1793" y="217"/>
                  <a:pt x="1874" y="208"/>
                </a:cubicBezTo>
                <a:cubicBezTo>
                  <a:pt x="1950" y="189"/>
                  <a:pt x="2028" y="175"/>
                  <a:pt x="2106" y="168"/>
                </a:cubicBezTo>
                <a:cubicBezTo>
                  <a:pt x="2149" y="154"/>
                  <a:pt x="2197" y="142"/>
                  <a:pt x="2242" y="136"/>
                </a:cubicBezTo>
                <a:cubicBezTo>
                  <a:pt x="2285" y="130"/>
                  <a:pt x="2370" y="120"/>
                  <a:pt x="2370" y="120"/>
                </a:cubicBezTo>
                <a:cubicBezTo>
                  <a:pt x="2430" y="100"/>
                  <a:pt x="2482" y="94"/>
                  <a:pt x="2546" y="88"/>
                </a:cubicBezTo>
                <a:cubicBezTo>
                  <a:pt x="2616" y="70"/>
                  <a:pt x="2690" y="66"/>
                  <a:pt x="2762" y="56"/>
                </a:cubicBezTo>
                <a:cubicBezTo>
                  <a:pt x="2931" y="32"/>
                  <a:pt x="3094" y="11"/>
                  <a:pt x="3266" y="0"/>
                </a:cubicBezTo>
                <a:cubicBezTo>
                  <a:pt x="3305" y="1"/>
                  <a:pt x="4052" y="13"/>
                  <a:pt x="4122" y="16"/>
                </a:cubicBezTo>
                <a:cubicBezTo>
                  <a:pt x="4202" y="19"/>
                  <a:pt x="4289" y="42"/>
                  <a:pt x="4370" y="48"/>
                </a:cubicBezTo>
                <a:cubicBezTo>
                  <a:pt x="4449" y="74"/>
                  <a:pt x="4531" y="68"/>
                  <a:pt x="4610" y="88"/>
                </a:cubicBezTo>
                <a:cubicBezTo>
                  <a:pt x="4733" y="119"/>
                  <a:pt x="4867" y="142"/>
                  <a:pt x="4994" y="152"/>
                </a:cubicBezTo>
                <a:cubicBezTo>
                  <a:pt x="5072" y="178"/>
                  <a:pt x="5160" y="184"/>
                  <a:pt x="5242" y="192"/>
                </a:cubicBezTo>
                <a:cubicBezTo>
                  <a:pt x="5291" y="204"/>
                  <a:pt x="5336" y="210"/>
                  <a:pt x="5386" y="216"/>
                </a:cubicBezTo>
                <a:cubicBezTo>
                  <a:pt x="5498" y="253"/>
                  <a:pt x="5615" y="270"/>
                  <a:pt x="5730" y="296"/>
                </a:cubicBezTo>
                <a:cubicBezTo>
                  <a:pt x="5845" y="323"/>
                  <a:pt x="5957" y="367"/>
                  <a:pt x="6074" y="384"/>
                </a:cubicBezTo>
                <a:cubicBezTo>
                  <a:pt x="6085" y="389"/>
                  <a:pt x="6095" y="396"/>
                  <a:pt x="6106" y="400"/>
                </a:cubicBezTo>
                <a:cubicBezTo>
                  <a:pt x="6127" y="407"/>
                  <a:pt x="6170" y="416"/>
                  <a:pt x="6170" y="416"/>
                </a:cubicBezTo>
                <a:cubicBezTo>
                  <a:pt x="6219" y="449"/>
                  <a:pt x="6165" y="417"/>
                  <a:pt x="6234" y="440"/>
                </a:cubicBezTo>
                <a:cubicBezTo>
                  <a:pt x="6306" y="464"/>
                  <a:pt x="6368" y="497"/>
                  <a:pt x="6442" y="512"/>
                </a:cubicBezTo>
                <a:cubicBezTo>
                  <a:pt x="6471" y="531"/>
                  <a:pt x="6496" y="544"/>
                  <a:pt x="6530" y="552"/>
                </a:cubicBezTo>
                <a:cubicBezTo>
                  <a:pt x="6559" y="571"/>
                  <a:pt x="6584" y="584"/>
                  <a:pt x="6618" y="592"/>
                </a:cubicBezTo>
                <a:cubicBezTo>
                  <a:pt x="6647" y="614"/>
                  <a:pt x="6675" y="623"/>
                  <a:pt x="6706" y="640"/>
                </a:cubicBezTo>
                <a:cubicBezTo>
                  <a:pt x="6723" y="649"/>
                  <a:pt x="6754" y="672"/>
                  <a:pt x="6754" y="672"/>
                </a:cubicBezTo>
                <a:cubicBezTo>
                  <a:pt x="6873" y="1266"/>
                  <a:pt x="6761" y="1883"/>
                  <a:pt x="6754" y="2488"/>
                </a:cubicBezTo>
                <a:cubicBezTo>
                  <a:pt x="6752" y="2620"/>
                  <a:pt x="6746" y="2631"/>
                  <a:pt x="6722" y="2728"/>
                </a:cubicBezTo>
                <a:cubicBezTo>
                  <a:pt x="6716" y="2750"/>
                  <a:pt x="6679" y="2744"/>
                  <a:pt x="6658" y="2752"/>
                </a:cubicBezTo>
                <a:cubicBezTo>
                  <a:pt x="6603" y="2773"/>
                  <a:pt x="6540" y="2776"/>
                  <a:pt x="6482" y="2784"/>
                </a:cubicBezTo>
                <a:cubicBezTo>
                  <a:pt x="6397" y="2820"/>
                  <a:pt x="6314" y="2826"/>
                  <a:pt x="6226" y="2848"/>
                </a:cubicBezTo>
                <a:cubicBezTo>
                  <a:pt x="6035" y="2896"/>
                  <a:pt x="5838" y="2890"/>
                  <a:pt x="5642" y="2912"/>
                </a:cubicBezTo>
                <a:cubicBezTo>
                  <a:pt x="5461" y="2957"/>
                  <a:pt x="5274" y="2982"/>
                  <a:pt x="5090" y="3008"/>
                </a:cubicBezTo>
                <a:cubicBezTo>
                  <a:pt x="4759" y="3004"/>
                  <a:pt x="4362" y="3019"/>
                  <a:pt x="4018" y="2960"/>
                </a:cubicBezTo>
                <a:cubicBezTo>
                  <a:pt x="3631" y="2893"/>
                  <a:pt x="3246" y="2825"/>
                  <a:pt x="2858" y="2760"/>
                </a:cubicBezTo>
                <a:cubicBezTo>
                  <a:pt x="2733" y="2739"/>
                  <a:pt x="2585" y="2705"/>
                  <a:pt x="2458" y="2704"/>
                </a:cubicBezTo>
                <a:cubicBezTo>
                  <a:pt x="1997" y="2701"/>
                  <a:pt x="1535" y="2699"/>
                  <a:pt x="1074" y="2696"/>
                </a:cubicBezTo>
                <a:cubicBezTo>
                  <a:pt x="940" y="2690"/>
                  <a:pt x="821" y="2669"/>
                  <a:pt x="690" y="2656"/>
                </a:cubicBezTo>
                <a:cubicBezTo>
                  <a:pt x="571" y="2626"/>
                  <a:pt x="452" y="2609"/>
                  <a:pt x="330" y="2600"/>
                </a:cubicBezTo>
                <a:cubicBezTo>
                  <a:pt x="253" y="2581"/>
                  <a:pt x="169" y="2570"/>
                  <a:pt x="90" y="2560"/>
                </a:cubicBezTo>
                <a:cubicBezTo>
                  <a:pt x="58" y="2549"/>
                  <a:pt x="52" y="2535"/>
                  <a:pt x="42" y="2504"/>
                </a:cubicBezTo>
                <a:cubicBezTo>
                  <a:pt x="0" y="2213"/>
                  <a:pt x="30" y="2439"/>
                  <a:pt x="42" y="1728"/>
                </a:cubicBezTo>
                <a:cubicBezTo>
                  <a:pt x="46" y="1502"/>
                  <a:pt x="93" y="1300"/>
                  <a:pt x="130" y="1080"/>
                </a:cubicBezTo>
                <a:cubicBezTo>
                  <a:pt x="135" y="1004"/>
                  <a:pt x="126" y="849"/>
                  <a:pt x="226" y="816"/>
                </a:cubicBezTo>
                <a:cubicBezTo>
                  <a:pt x="249" y="808"/>
                  <a:pt x="287" y="803"/>
                  <a:pt x="306" y="784"/>
                </a:cubicBezTo>
                <a:close/>
              </a:path>
            </a:pathLst>
          </a:custGeom>
          <a:gradFill rotWithShape="0">
            <a:gsLst>
              <a:gs pos="0">
                <a:srgbClr val="458a00"/>
              </a:gs>
              <a:gs pos="100000">
                <a:srgbClr val="204000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AG00373_"/>
          <p:cNvPicPr/>
          <p:nvPr/>
        </p:nvPicPr>
        <p:blipFill>
          <a:blip r:embed="rId1"/>
          <a:stretch/>
        </p:blipFill>
        <p:spPr>
          <a:xfrm>
            <a:off x="1547640" y="2852640"/>
            <a:ext cx="1368720" cy="1316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79280" y="4437000"/>
            <a:ext cx="42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mai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vi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6360" y="4437000"/>
            <a:ext cx="424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pied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naî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stamp"/>
          <p:cNvPicPr/>
          <p:nvPr/>
        </p:nvPicPr>
        <p:blipFill>
          <a:blip r:embed="rId2"/>
          <a:stretch/>
        </p:blipFill>
        <p:spPr>
          <a:xfrm>
            <a:off x="6156360" y="278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0338158"/>
          <p:cNvPicPr/>
          <p:nvPr/>
        </p:nvPicPr>
        <p:blipFill>
          <a:blip r:embed="rId3"/>
          <a:stretch/>
        </p:blipFill>
        <p:spPr>
          <a:xfrm>
            <a:off x="3203640" y="-27000"/>
            <a:ext cx="2879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1:56:35Z</dcterms:created>
  <dc:creator>Clare Seccombe</dc:creator>
  <dc:description/>
  <dc:language>en-US</dc:language>
  <cp:lastModifiedBy>Clare Seccombe</cp:lastModifiedBy>
  <dcterms:modified xsi:type="dcterms:W3CDTF">2010-11-02T14:35:07Z</dcterms:modified>
  <cp:revision>59</cp:revision>
  <dc:subject/>
  <dc:title>Slide 1</dc:title>
</cp:coreProperties>
</file>