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5B8-30DC-45F1-ADB4-A703EC20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C70-D655-40E7-A35F-29DD3133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85E-150E-4F8A-B944-F0455030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FA1-9FB2-4149-ADED-705CAF07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543-3C60-4190-8CEF-9576B1F7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127-A27F-4F48-B1A7-4B54710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170-1B00-4AD2-A52E-8E91FAE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166-CA36-45C7-88A7-DE496E2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DCE-3D5A-4315-9BD8-1685E759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054-EB5D-4F31-81E4-009619F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0AF-EE52-4E84-B399-4110203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BCA-FCE7-4DB2-8A70-7F83389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4DF4-CFA9-445B-BE85-FB2233E262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132000" y="1197000"/>
            <a:ext cx="863640" cy="764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92720" y="1197000"/>
            <a:ext cx="863640" cy="764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4720" y="1268280"/>
            <a:ext cx="96408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7"/>
          <p:cNvCxnSpPr/>
          <p:nvPr/>
        </p:nvCxnSpPr>
        <p:spPr>
          <a:xfrm>
            <a:off x="1618920" y="1628280"/>
            <a:ext cx="1081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TextBox 9"/>
          <p:cNvSpPr/>
          <p:nvPr/>
        </p:nvSpPr>
        <p:spPr>
          <a:xfrm>
            <a:off x="3153960" y="3141720"/>
            <a:ext cx="872640" cy="764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5239440" y="3068640"/>
            <a:ext cx="1188000" cy="764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684360" y="3213000"/>
            <a:ext cx="47304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3"/>
          <p:cNvCxnSpPr/>
          <p:nvPr/>
        </p:nvCxnSpPr>
        <p:spPr>
          <a:xfrm>
            <a:off x="1618920" y="3573000"/>
            <a:ext cx="1081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6"/>
          <p:cNvCxnSpPr/>
          <p:nvPr/>
        </p:nvCxnSpPr>
        <p:spPr>
          <a:xfrm flipH="1">
            <a:off x="3563640" y="4149720"/>
            <a:ext cx="2160" cy="1440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8"/>
          <p:cNvCxnSpPr/>
          <p:nvPr/>
        </p:nvCxnSpPr>
        <p:spPr>
          <a:xfrm flipH="1">
            <a:off x="5795640" y="4076640"/>
            <a:ext cx="2160" cy="1440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TextBox 19"/>
          <p:cNvSpPr/>
          <p:nvPr/>
        </p:nvSpPr>
        <p:spPr>
          <a:xfrm>
            <a:off x="2113200" y="5805360"/>
            <a:ext cx="2850840" cy="764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scu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5040720" y="5805360"/>
            <a:ext cx="2507760" cy="764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min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07520" y="119700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alle de clas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80160" y="170028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rande sa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62960" y="23493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79160" y="479736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tr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46400" y="37893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r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462240" y="3357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8040" y="42926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rrain de 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508320" y="530064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ilet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448560" y="29242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ibliothè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4646160" y="189000"/>
            <a:ext cx="432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3057480" y="189000"/>
            <a:ext cx="43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6160680" y="189000"/>
            <a:ext cx="578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7818120" y="189000"/>
            <a:ext cx="313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2 0.00231 L 0.21163 0.00231 E">
                                      <p:cBhvr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71 0.00231 L 0.22673 0.00231 E">
                                      <p:cBhvr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76 0.00231 L 0.24982 0.00231 E">
                                      <p:cBhvr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2 0.00255 L 0.21666 0.00255 E">
                                      <p:cBhvr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91 0.00231 L 0.2684 0.00231 E">
                                      <p:cBhvr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24 0.00232 L 0.45399 0.00232 E">
                                      <p:cBhvr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48 0.00231 L 0.40399 0.00231 E">
                                      <p:cBhvr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43 0.00231 L 0.82813 0.00231 E">
                                      <p:cBhvr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48 0.00231 L 0.63368 0.00231 E">
                                      <p:cBhvr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488160" y="40464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73240" y="4292640"/>
            <a:ext cx="14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21040" y="2565360"/>
            <a:ext cx="36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tre école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7"/>
          <p:cNvCxnSpPr/>
          <p:nvPr/>
        </p:nvCxnSpPr>
        <p:spPr>
          <a:xfrm flipV="1">
            <a:off x="2268000" y="836280"/>
            <a:ext cx="1512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Straight Arrow Connector 11"/>
          <p:cNvCxnSpPr/>
          <p:nvPr/>
        </p:nvCxnSpPr>
        <p:spPr>
          <a:xfrm>
            <a:off x="2195640" y="4797000"/>
            <a:ext cx="1224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Straight Arrow Connector 13"/>
          <p:cNvCxnSpPr/>
          <p:nvPr/>
        </p:nvCxnSpPr>
        <p:spPr>
          <a:xfrm>
            <a:off x="4067280" y="3068640"/>
            <a:ext cx="1442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TextBox 18"/>
          <p:cNvSpPr/>
          <p:nvPr/>
        </p:nvSpPr>
        <p:spPr>
          <a:xfrm>
            <a:off x="380520" y="119700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9646"/>
                </a:solidFill>
                <a:latin typeface="Comic Sans MS"/>
              </a:rPr>
              <a:t>There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237240" y="328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79646"/>
                </a:solidFill>
                <a:latin typeface="Comic Sans MS"/>
              </a:rPr>
              <a:t>Our school h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357120" y="508464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79646"/>
                </a:solidFill>
                <a:latin typeface="Comic Sans MS"/>
              </a:rPr>
              <a:t>Here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5587560" y="404640"/>
            <a:ext cx="20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5803200" y="2637000"/>
            <a:ext cx="20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u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6119640" y="4437000"/>
            <a:ext cx="13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omic Sans MS"/>
              </a:rPr>
              <a:t>l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6300720" y="692280"/>
            <a:ext cx="3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6510600" y="3284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6"/>
          <p:cNvSpPr/>
          <p:nvPr/>
        </p:nvSpPr>
        <p:spPr>
          <a:xfrm>
            <a:off x="6459120" y="515772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omic Sans MS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79280" y="260280"/>
            <a:ext cx="89647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an you create some sentences of your own using all three structur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913040" y="2421000"/>
            <a:ext cx="5022360" cy="344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y a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tre école a..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oici...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13:22Z</dcterms:created>
  <dc:creator>ruth.moreland</dc:creator>
  <dc:description/>
  <dc:language>en-US</dc:language>
  <cp:lastModifiedBy>Clare</cp:lastModifiedBy>
  <dcterms:modified xsi:type="dcterms:W3CDTF">2011-07-10T20:13:08Z</dcterms:modified>
  <cp:revision>6</cp:revision>
  <dc:subject/>
  <dc:title>Slide 1</dc:title>
</cp:coreProperties>
</file>