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1C0-B799-479A-B8E9-FFC9AA35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27A-AED3-411A-AD25-BF0C25CB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E5A-157B-4F54-81DB-1745E2EB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F75-C8FF-49F4-81A2-DB840275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38B-7F1C-4CEB-8F70-5B214139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2AD-58D4-4BAE-8958-CBB6CE70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720-7CE1-4EB0-9B78-92965D6E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A28-D63D-4D1F-9E16-3A8F51D9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649-00D2-4D39-8980-0AD1DB97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8D8-FEF6-4DC6-85CB-C4BE833C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39F-D756-4C5E-8A4B-1C684DFD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667-F64A-4C14-846A-DD7754E1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5B34-9D46-405E-AEBC-EA7F7FDF6D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132000" y="1197000"/>
            <a:ext cx="863640" cy="7642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292720" y="1197000"/>
            <a:ext cx="863640" cy="764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4720" y="1268280"/>
            <a:ext cx="96408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7"/>
          <p:cNvCxnSpPr/>
          <p:nvPr/>
        </p:nvCxnSpPr>
        <p:spPr>
          <a:xfrm>
            <a:off x="1618920" y="1628280"/>
            <a:ext cx="108180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TextBox 9"/>
          <p:cNvSpPr/>
          <p:nvPr/>
        </p:nvSpPr>
        <p:spPr>
          <a:xfrm>
            <a:off x="3153960" y="3141720"/>
            <a:ext cx="872640" cy="7642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5239440" y="3068640"/>
            <a:ext cx="1188000" cy="764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684360" y="3213000"/>
            <a:ext cx="47304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13"/>
          <p:cNvCxnSpPr/>
          <p:nvPr/>
        </p:nvCxnSpPr>
        <p:spPr>
          <a:xfrm>
            <a:off x="1618920" y="3573000"/>
            <a:ext cx="108180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6"/>
          <p:cNvCxnSpPr/>
          <p:nvPr/>
        </p:nvCxnSpPr>
        <p:spPr>
          <a:xfrm flipH="1">
            <a:off x="3563640" y="4149720"/>
            <a:ext cx="2160" cy="1440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18"/>
          <p:cNvCxnSpPr/>
          <p:nvPr/>
        </p:nvCxnSpPr>
        <p:spPr>
          <a:xfrm flipH="1">
            <a:off x="5795640" y="4076640"/>
            <a:ext cx="2160" cy="1440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TextBox 19"/>
          <p:cNvSpPr/>
          <p:nvPr/>
        </p:nvSpPr>
        <p:spPr>
          <a:xfrm>
            <a:off x="2113200" y="5805360"/>
            <a:ext cx="2850840" cy="7642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scu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5040720" y="5805360"/>
            <a:ext cx="2507760" cy="764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min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407520" y="1197000"/>
            <a:ext cx="18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alle de clas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80160" y="1700280"/>
            <a:ext cx="16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rande sa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62960" y="23493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nt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79160" y="479736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tr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46400" y="37893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r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462240" y="3357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8040" y="42926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errain de 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508320" y="5300640"/>
            <a:ext cx="11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ilet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448560" y="292428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ibliothè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4646160" y="189000"/>
            <a:ext cx="432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3057480" y="189000"/>
            <a:ext cx="43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6160680" y="189000"/>
            <a:ext cx="578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7818120" y="189000"/>
            <a:ext cx="313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2 0.00231 L 0.21163 0.00231 E">
                                      <p:cBhvr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71 0.00231 L 0.22673 0.00231 E">
                                      <p:cBhvr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76 0.00231 L 0.24982 0.00231 E">
                                      <p:cBhvr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2 0.00255 L 0.21666 0.00255 E">
                                      <p:cBhvr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91 0.00231 L 0.2684 0.00231 E">
                                      <p:cBhvr>
                                        <p:cTn id="6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24 0.00232 L 0.45399 0.00232 E">
                                      <p:cBhvr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48 0.00231 L 0.40399 0.00231 E">
                                      <p:cBhvr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43 0.00231 L 0.82813 0.00231 E">
                                      <p:cBhvr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48 0.00231 L 0.63368 0.00231 E">
                                      <p:cBhvr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488160" y="404640"/>
            <a:ext cx="15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73240" y="4292640"/>
            <a:ext cx="14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i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21040" y="2565360"/>
            <a:ext cx="367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tre école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7"/>
          <p:cNvCxnSpPr/>
          <p:nvPr/>
        </p:nvCxnSpPr>
        <p:spPr>
          <a:xfrm flipV="1">
            <a:off x="2268000" y="836280"/>
            <a:ext cx="1512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Straight Arrow Connector 11"/>
          <p:cNvCxnSpPr/>
          <p:nvPr/>
        </p:nvCxnSpPr>
        <p:spPr>
          <a:xfrm>
            <a:off x="2195640" y="4797000"/>
            <a:ext cx="1224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Straight Arrow Connector 13"/>
          <p:cNvCxnSpPr/>
          <p:nvPr/>
        </p:nvCxnSpPr>
        <p:spPr>
          <a:xfrm>
            <a:off x="4067280" y="3068640"/>
            <a:ext cx="1442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TextBox 18"/>
          <p:cNvSpPr/>
          <p:nvPr/>
        </p:nvSpPr>
        <p:spPr>
          <a:xfrm>
            <a:off x="380520" y="1197000"/>
            <a:ext cx="17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79646"/>
                </a:solidFill>
                <a:latin typeface="Comic Sans MS"/>
              </a:rPr>
              <a:t>There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237240" y="328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79646"/>
                </a:solidFill>
                <a:latin typeface="Comic Sans MS"/>
              </a:rPr>
              <a:t>Our school h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357120" y="508464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79646"/>
                </a:solidFill>
                <a:latin typeface="Comic Sans MS"/>
              </a:rPr>
              <a:t>Here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5587560" y="404640"/>
            <a:ext cx="20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5803200" y="2637000"/>
            <a:ext cx="20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6119640" y="4437000"/>
            <a:ext cx="130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l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6300720" y="692280"/>
            <a:ext cx="3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5"/>
          <p:cNvSpPr/>
          <p:nvPr/>
        </p:nvSpPr>
        <p:spPr>
          <a:xfrm>
            <a:off x="6510600" y="32846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6"/>
          <p:cNvSpPr/>
          <p:nvPr/>
        </p:nvSpPr>
        <p:spPr>
          <a:xfrm>
            <a:off x="6459120" y="515772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omic Sans MS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179280" y="260280"/>
            <a:ext cx="896472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n you create some sentences of your own using all three structur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913040" y="2421000"/>
            <a:ext cx="5022360" cy="344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.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tre école a...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ici....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13:22Z</dcterms:created>
  <dc:creator>ruth.moreland</dc:creator>
  <dc:description/>
  <dc:language>en-US</dc:language>
  <cp:lastModifiedBy>Clare</cp:lastModifiedBy>
  <dcterms:modified xsi:type="dcterms:W3CDTF">2011-07-10T20:13:08Z</dcterms:modified>
  <cp:revision>6</cp:revision>
  <dc:subject/>
  <dc:title>Slide 1</dc:title>
</cp:coreProperties>
</file>