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ruth.moreland" initials="r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<Relationship Id="rId14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0-11-10T12:08:59.105000000" idx="1">
    <p:pos x="10" y="10"/>
    <p:text/>
  </p:cm>
</p:cmLst>
</file>

<file path=ppt/comments/comment4.xml><?xml version="1.0" encoding="utf-8"?>
<p:cmLst xmlns:p="http://schemas.openxmlformats.org/presentationml/2006/main">
  <p:cm authorId="0" dt="2010-11-10T12:08:59.105000000" idx="2">
    <p:pos x="10" y="10"/>
    <p:text/>
  </p:cm>
</p:cmLst>
</file>

<file path=ppt/comments/comment5.xml><?xml version="1.0" encoding="utf-8"?>
<p:cmLst xmlns:p="http://schemas.openxmlformats.org/presentationml/2006/main">
  <p:cm authorId="0" dt="2010-11-10T12:08:59.105000000" idx="3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89EA-B942-4DE8-9EB0-3C3A7CE3CD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uild up longer statements comparing past and present, using connectives. Show children two sentences. Discuss how these could be linked using a connective. Eg mais (bu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ildren work in pairs to make up more sentences on mini whiteboard following the exa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5523-569E-45ED-B44A-276CD6BED1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127B-B998-4F15-A04C-2681D960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E34-4935-48B2-AB44-147BC5F7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BC5-9927-4AB1-A406-A2706D76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2B1F-E62B-447B-BF44-678461EB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D72C-854C-4104-8B37-03B95099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39EF-95C0-4032-9D7F-99EF80D8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A0C8-0C16-430C-8DDC-84A0F7BF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B5D8-5BC3-4C7D-9746-AAB3B189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9525-28D2-4F64-9A97-6934BAFF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5A64-18D0-4607-9C35-D70C5A72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99F9-7C48-4B05-B7F7-F794E18A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603D-233B-4401-8917-3814CEB2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F983-29D5-445A-A1D4-BBB8C47C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909F-A22B-4D65-B151-4F1FB5CC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35CE-DA35-4D99-8F8C-F9805B68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6D1D-61DD-4A67-B2CC-434A06E7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4315-5EF6-4938-AEC0-8A160F89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C5F1B-8B76-4FCD-8CB4-21B4B48B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0CDD6-37EB-4B9A-826E-4DD0B068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2B448-DE45-4DD5-9C66-F2ABC136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AA891-5946-460F-8039-5578E052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683A6-C508-46D9-9E7D-A840DD66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F08A-65EA-40E0-BC2E-4A403225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0CC36-72F2-4CF8-AA05-C934F1EA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23263-0208-4B1B-90A4-7B6BFEC3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1AEC9-E6C6-47B4-9258-E8F420B6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58869-8BE6-4899-B2C9-0B11F1BB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39943-2D9A-4246-85F6-48BDA574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CE315-2ED0-4483-9942-C580CEBA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47B1D-92B7-4838-BD48-041EC044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AFC1-56FB-4616-95A6-DE9E33F5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E21-B807-43F5-9CBE-9E98FEEC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93E-D9CE-45BF-9556-8991D246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32D5-7BE9-4C77-91A2-1AAA777C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F68-4C59-4AE4-B16F-83A5D984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1BFA-ACC8-4779-83D0-2080E0E7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BBED-DA29-45F3-8DD1-C326ADB3C5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0B69-26DC-4E93-90D9-79BAC2BCE2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8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909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B223-CDBD-4D02-A852-4AF9DD24A5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S2 Yr6 French – Lesson 83</a:t>
            </a:r>
            <a:br>
              <a:rPr sz="4000"/>
            </a:br>
            <a:br>
              <a:rPr sz="4800"/>
            </a:br>
            <a:endParaRPr b="0" lang="en-US" sz="40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5943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ahoma"/>
                <a:ea typeface="Tahoma"/>
              </a:rPr>
              <a:t>Then and now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21"/>
          <p:cNvGraphicFramePr/>
          <p:nvPr/>
        </p:nvGraphicFramePr>
        <p:xfrm>
          <a:off x="1600200" y="2133720"/>
          <a:ext cx="130500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130500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22" descr="Aidan's badge no background"/>
          <p:cNvPicPr/>
          <p:nvPr/>
        </p:nvPicPr>
        <p:blipFill>
          <a:blip r:embed="rId3"/>
          <a:stretch/>
        </p:blipFill>
        <p:spPr>
          <a:xfrm>
            <a:off x="3276720" y="1905120"/>
            <a:ext cx="1077840" cy="1323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3" descr="language collegelogo"/>
          <p:cNvPicPr/>
          <p:nvPr/>
        </p:nvPicPr>
        <p:blipFill>
          <a:blip r:embed="rId4"/>
          <a:stretch/>
        </p:blipFill>
        <p:spPr>
          <a:xfrm>
            <a:off x="4805280" y="1905120"/>
            <a:ext cx="986040" cy="132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24"/>
          <p:cNvGraphicFramePr/>
          <p:nvPr/>
        </p:nvGraphicFramePr>
        <p:xfrm>
          <a:off x="6162840" y="2133720"/>
          <a:ext cx="130464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2840" y="2133720"/>
                    <a:ext cx="13046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148" name="Picture 25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8"/>
          <p:cNvSpPr/>
          <p:nvPr/>
        </p:nvSpPr>
        <p:spPr>
          <a:xfrm>
            <a:off x="1835280" y="2060640"/>
            <a:ext cx="482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To be able to talk about your town in the present and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6"/>
          <p:cNvSpPr/>
          <p:nvPr/>
        </p:nvSpPr>
        <p:spPr>
          <a:xfrm>
            <a:off x="1087560" y="549360"/>
            <a:ext cx="20095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un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ujourd’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4606920" y="549360"/>
            <a:ext cx="453708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underland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ille neuf cent quarante h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2" descr="http://farm4.static.flickr.com/3136/2696258727_a7062f9b4f.jpg?v=0"/>
          <p:cNvPicPr/>
          <p:nvPr/>
        </p:nvPicPr>
        <p:blipFill>
          <a:blip r:embed="rId1"/>
          <a:stretch/>
        </p:blipFill>
        <p:spPr>
          <a:xfrm>
            <a:off x="158760" y="2255760"/>
            <a:ext cx="4121280" cy="3211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Go To Large Image"/>
          <p:cNvPicPr/>
          <p:nvPr/>
        </p:nvPicPr>
        <p:blipFill>
          <a:blip r:embed="rId2"/>
          <a:stretch/>
        </p:blipFill>
        <p:spPr>
          <a:xfrm>
            <a:off x="4694400" y="2255760"/>
            <a:ext cx="43272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2" descr="http://farm4.static.flickr.com/3136/2696258727_a7062f9b4f.jpg?v=0"/>
          <p:cNvPicPr/>
          <p:nvPr/>
        </p:nvPicPr>
        <p:blipFill>
          <a:blip r:embed="rId1"/>
          <a:stretch/>
        </p:blipFill>
        <p:spPr>
          <a:xfrm>
            <a:off x="2103480" y="1316160"/>
            <a:ext cx="4121280" cy="3213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1060200" y="5157720"/>
            <a:ext cx="778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Sunderland aujourd’hui  </a:t>
            </a:r>
            <a:r>
              <a:rPr b="0" i="1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il y a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s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4" descr="Go To Large Image"/>
          <p:cNvPicPr/>
          <p:nvPr/>
        </p:nvPicPr>
        <p:blipFill>
          <a:blip r:embed="rId1"/>
          <a:stretch/>
        </p:blipFill>
        <p:spPr>
          <a:xfrm>
            <a:off x="2103480" y="1249200"/>
            <a:ext cx="4327560" cy="32068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5"/>
          <p:cNvSpPr/>
          <p:nvPr/>
        </p:nvSpPr>
        <p:spPr>
          <a:xfrm>
            <a:off x="103680" y="4797360"/>
            <a:ext cx="907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sunderland en mille neuf cent quarante hu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il y avait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s t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2"/>
          <p:cNvSpPr/>
          <p:nvPr/>
        </p:nvSpPr>
        <p:spPr>
          <a:xfrm flipH="1">
            <a:off x="1331280" y="1916280"/>
            <a:ext cx="69390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 1948, il y avait une épicerie. Aujourd’hui, il y a un supermarc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332000" y="3933720"/>
            <a:ext cx="6408720" cy="106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 1948, il y avait une épicerie, 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mai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ujourd’hui, il y a un supermarc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250920" y="260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ook at these two sentences. How could you link them by adding a connec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1"/>
          <p:cNvSpPr/>
          <p:nvPr/>
        </p:nvSpPr>
        <p:spPr>
          <a:xfrm>
            <a:off x="1403280" y="2924280"/>
            <a:ext cx="914400" cy="9144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Isosceles Triangle 2"/>
          <p:cNvSpPr/>
          <p:nvPr/>
        </p:nvSpPr>
        <p:spPr>
          <a:xfrm>
            <a:off x="3995640" y="29242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7093080" y="3500280"/>
            <a:ext cx="914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5-Point Star 4"/>
          <p:cNvSpPr/>
          <p:nvPr/>
        </p:nvSpPr>
        <p:spPr>
          <a:xfrm>
            <a:off x="2050920" y="53006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Heart 5"/>
          <p:cNvSpPr/>
          <p:nvPr/>
        </p:nvSpPr>
        <p:spPr>
          <a:xfrm>
            <a:off x="5148360" y="5589720"/>
            <a:ext cx="914400" cy="914400"/>
          </a:xfrm>
          <a:custGeom>
            <a:avLst/>
            <a:gdLst>
              <a:gd name="textAreaLeft" fmla="*/ 152280 w 914400"/>
              <a:gd name="textAreaRight" fmla="*/ 762120 w 914400"/>
              <a:gd name="textAreaTop" fmla="*/ 228600 h 914400"/>
              <a:gd name="textAreaBottom" fmla="*/ 609840 h 914400"/>
            </a:gdLst>
            <a:ahLst/>
            <a:rect l="textAreaLeft" t="textAreaTop" r="textAreaRight" b="textAreaBottom"/>
            <a:pathLst>
              <a:path w="914400" h="914400">
                <a:moveTo>
                  <a:pt x="457200" y="228600"/>
                </a:moveTo>
                <a:cubicBezTo>
                  <a:pt x="647700" y="-304800"/>
                  <a:pt x="1390650" y="228600"/>
                  <a:pt x="457200" y="914400"/>
                </a:cubicBezTo>
                <a:cubicBezTo>
                  <a:pt x="-476250" y="228600"/>
                  <a:pt x="266700" y="-304800"/>
                  <a:pt x="457200" y="2286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ross 6"/>
          <p:cNvSpPr/>
          <p:nvPr/>
        </p:nvSpPr>
        <p:spPr>
          <a:xfrm>
            <a:off x="8101080" y="5732640"/>
            <a:ext cx="914400" cy="91440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Clare</cp:lastModifiedBy>
  <dcterms:modified xsi:type="dcterms:W3CDTF">2011-07-11T08:00:13Z</dcterms:modified>
  <cp:revision>202</cp:revision>
  <dc:subject/>
  <dc:title>KS2 Yr 5 French – Lesson 1  </dc:title>
</cp:coreProperties>
</file>