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uth.moreland" initials="r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0-11-10T12:08:59.105000000" idx="1">
    <p:pos x="10" y="10"/>
    <p:text/>
  </p:cm>
</p:cmLst>
</file>

<file path=ppt/comments/comment4.xml><?xml version="1.0" encoding="utf-8"?>
<p:cmLst xmlns:p="http://schemas.openxmlformats.org/presentationml/2006/main">
  <p:cm authorId="0" dt="2010-11-10T12:08:59.105000000" idx="2">
    <p:pos x="10" y="10"/>
    <p:text/>
  </p:cm>
</p:cmLst>
</file>

<file path=ppt/comments/comment5.xml><?xml version="1.0" encoding="utf-8"?>
<p:cmLst xmlns:p="http://schemas.openxmlformats.org/presentationml/2006/main">
  <p:cm authorId="0" dt="2010-11-10T12:08:59.105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FB90-E02E-4C98-BECC-077BA62DC5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ild up longer statements comparing past and present, using connectives. Show children two sentences. Discuss how these could be linked using a connective. Eg mais (b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ildren work in pairs to make up more sentences on mini whiteboard following the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7D8-ABED-41E0-BDEE-C0CA45B47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23F-E4DC-4B89-8F75-0DF08C42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925-FA40-4FD3-AFDD-CA614419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D8E-C470-416A-A12D-E552D72B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5AA-FCD4-4A5B-B815-A1F89FE4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509C-3B3E-4DF4-872D-1F2209D5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8EDC-6B25-4945-AF54-1F5938A2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98B-DE93-4538-A118-09616B6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2F18-441E-4354-B5D7-F3C9FBC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0888-4F40-4C39-BA64-1AE46D0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862-36FF-4FFF-8937-7DE2182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08D-43D6-4F99-8632-821B1F6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FBB-8519-4CF4-A956-706A781F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0BE8-8091-47F2-8ED2-461E7A9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48EA-D5F7-4048-8C8D-F4D7757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43DC-8683-4724-85FC-69C9BFE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3BCC-B058-4770-9618-9BD6217A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A58C-FCCB-477F-8DA7-702627D2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35E9-3450-49F1-9705-A3A2C056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1913-FED7-4F91-AD42-E15DC14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08E0-1CD8-460E-8D21-1DFBC05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2538-E939-49A1-9176-8F87FB2C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1A6B-5B64-4F84-BAC1-1DB9C333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18E-F09D-4EB4-93E6-C1D54F4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93CF-F248-4977-A8B9-50813A39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32DB-ACEA-46FF-B9D8-3D57BD4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C535-E41A-41CE-8FE8-96C1402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3ED4-AAE7-4A0C-8065-43E8855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CD35-301C-4CE7-ABF9-476C415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1EF2-6530-40D9-A2B3-B94F8372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A2A3-346D-48B1-877D-D20300ED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7DD-5054-43ED-BC88-4E6E25D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CAF-88C5-4B23-A94B-39554886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84D-B01D-4590-B240-C0B89788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2F8-B376-43C5-A112-4FAEE34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7A0-EDF5-42B1-9BBA-54DE127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4F0-9A43-40B3-851C-BE5869F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35A8-2AFA-403C-B3A0-A73F8CFC1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BCF-8468-4352-A540-54129D976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E59-42AB-4E1D-9B7E-11630D773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3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Then and 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8"/>
          <p:cNvSpPr/>
          <p:nvPr/>
        </p:nvSpPr>
        <p:spPr>
          <a:xfrm>
            <a:off x="1835280" y="20606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talk about your town in the present and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1087560" y="549360"/>
            <a:ext cx="2009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4606920" y="549360"/>
            <a:ext cx="45370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erland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lle neuf cent quarante 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http://farm4.static.flickr.com/3136/2696258727_a7062f9b4f.jpg?v=0"/>
          <p:cNvPicPr/>
          <p:nvPr/>
        </p:nvPicPr>
        <p:blipFill>
          <a:blip r:embed="rId1"/>
          <a:stretch/>
        </p:blipFill>
        <p:spPr>
          <a:xfrm>
            <a:off x="158760" y="2255760"/>
            <a:ext cx="4121280" cy="321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o To Large Image"/>
          <p:cNvPicPr/>
          <p:nvPr/>
        </p:nvPicPr>
        <p:blipFill>
          <a:blip r:embed="rId2"/>
          <a:stretch/>
        </p:blipFill>
        <p:spPr>
          <a:xfrm>
            <a:off x="4694400" y="2255760"/>
            <a:ext cx="4327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http://farm4.static.flickr.com/3136/2696258727_a7062f9b4f.jpg?v=0"/>
          <p:cNvPicPr/>
          <p:nvPr/>
        </p:nvPicPr>
        <p:blipFill>
          <a:blip r:embed="rId1"/>
          <a:stretch/>
        </p:blipFill>
        <p:spPr>
          <a:xfrm>
            <a:off x="2103480" y="1316160"/>
            <a:ext cx="4121280" cy="3213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1060200" y="5157720"/>
            <a:ext cx="77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underland aujourd’hui  </a:t>
            </a:r>
            <a:r>
              <a:rPr b="0" i="1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il y a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Go To Large Image"/>
          <p:cNvPicPr/>
          <p:nvPr/>
        </p:nvPicPr>
        <p:blipFill>
          <a:blip r:embed="rId1"/>
          <a:stretch/>
        </p:blipFill>
        <p:spPr>
          <a:xfrm>
            <a:off x="2103480" y="1249200"/>
            <a:ext cx="4327560" cy="3206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103680" y="4797360"/>
            <a:ext cx="907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underland en mille neuf cent quarante h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il y avait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 t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 flipH="1">
            <a:off x="1331280" y="1916280"/>
            <a:ext cx="6939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, il y avait une épicerie. Aujourd’hui, il y a un super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32000" y="3933720"/>
            <a:ext cx="6408720" cy="106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, il y avait une épicerie,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mai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jourd’hui, il y a un super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these two sentences. How could you link them by adding a conn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1"/>
          <p:cNvSpPr/>
          <p:nvPr/>
        </p:nvSpPr>
        <p:spPr>
          <a:xfrm>
            <a:off x="1403280" y="29242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sosceles Triangle 2"/>
          <p:cNvSpPr/>
          <p:nvPr/>
        </p:nvSpPr>
        <p:spPr>
          <a:xfrm>
            <a:off x="3995640" y="29242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093080" y="350028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-Point Star 4"/>
          <p:cNvSpPr/>
          <p:nvPr/>
        </p:nvSpPr>
        <p:spPr>
          <a:xfrm>
            <a:off x="2050920" y="5300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rt 5"/>
          <p:cNvSpPr/>
          <p:nvPr/>
        </p:nvSpPr>
        <p:spPr>
          <a:xfrm>
            <a:off x="5148360" y="5589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ross 6"/>
          <p:cNvSpPr/>
          <p:nvPr/>
        </p:nvSpPr>
        <p:spPr>
          <a:xfrm>
            <a:off x="8101080" y="573264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8:00:13Z</dcterms:modified>
  <cp:revision>202</cp:revision>
  <dc:subject/>
  <dc:title>KS2 Yr 5 French – Lesson 1  </dc:title>
</cp:coreProperties>
</file>