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2F38-448D-4ADD-B42A-F7ACBF5E85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k them which group of adjectives would be used to describe a female noun, and wh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D1AE-2B13-480C-ADC2-BCACF67383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k them which group of adjectives would be used to describe a female noun, and why. Look at pronunc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D802-8834-45A1-B797-A8CC5F3FD9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C924-7586-4AD4-B188-9E8EAEBA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AE08-771B-4599-964C-CA7A8005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55BB-56AF-4A42-8949-AA957EC1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5CE-B358-4C82-B651-22F7A805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623E-63D6-4916-96C5-2C666D85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8B22-6B82-4F03-823F-D4516F99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069E-E87C-48F3-AE14-1EB4B827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C75E-F025-4A62-A53C-76A19E57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E6C1-2144-4E42-A2DE-0F56DFD3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63F8-7EBB-4B68-BF4D-4834D9ED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AAFB-BE6C-4E44-8600-2673E803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9AA6-F342-4870-9D8A-9A325043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0F75-DCF5-4871-9897-9A5C3904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6F81-0D2C-432C-96BB-17F09990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3D07-3331-4EAD-AFB2-C1D71597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9076-88CA-434E-B458-780B9438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8ADF-C4A3-48A9-AB2B-3C2E4243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9C43E-C148-45FC-8473-BF2DA8E8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4DDB4-A038-497C-A1D3-5E5C2491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379E8-5B20-4C7A-B15F-B9D03641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34123-6E47-4F97-8376-38E94D31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40AB7-7545-4B9A-9234-B9A45DDA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9AA-49B5-4BC3-AC67-F8E15BAB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3C994-CA20-441B-B1DB-E68A3773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47938-282A-48A7-B578-5873F2A7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C29C2-3C57-4F80-A536-CA9936DD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4ACF1-3F21-4C12-B23A-0174A6FA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A848F-D3E1-4633-8787-E68747B5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36EC0-4106-4447-9B3B-7E83456A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E38B1-2DDA-432A-A6F5-3BE1969E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B76-6B64-46B3-AAB2-2B4B75C8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2290-C422-4899-AE1A-EC28C79F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A2D4-5ADC-4919-AAE3-941093C9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3E1-61F5-456C-B0BC-319D62BD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7E5-8A88-4D7A-9944-38062774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8EFE-9349-4C0E-B94F-02464117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AD2A-517B-4A04-9866-62335676C8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6554-1B46-4656-93AF-D2B7EE7D76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909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4802-0D84-4C1B-B0E0-A14F8C7495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S2 Yr6 French – Lesson 84</a:t>
            </a:r>
            <a:br>
              <a:rPr sz="4000"/>
            </a:br>
            <a:br>
              <a:rPr sz="4800"/>
            </a:br>
            <a:endParaRPr b="0" lang="en-US" sz="40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600200" y="3504960"/>
            <a:ext cx="5943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ahoma"/>
                <a:ea typeface="Tahoma"/>
              </a:rPr>
              <a:t>Find the differen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21"/>
          <p:cNvGraphicFramePr/>
          <p:nvPr/>
        </p:nvGraphicFramePr>
        <p:xfrm>
          <a:off x="1600200" y="2133720"/>
          <a:ext cx="130500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130500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22" descr="Aidan's badge no background"/>
          <p:cNvPicPr/>
          <p:nvPr/>
        </p:nvPicPr>
        <p:blipFill>
          <a:blip r:embed="rId3"/>
          <a:stretch/>
        </p:blipFill>
        <p:spPr>
          <a:xfrm>
            <a:off x="3276720" y="1905120"/>
            <a:ext cx="1077840" cy="1323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3" descr="language collegelogo"/>
          <p:cNvPicPr/>
          <p:nvPr/>
        </p:nvPicPr>
        <p:blipFill>
          <a:blip r:embed="rId4"/>
          <a:stretch/>
        </p:blipFill>
        <p:spPr>
          <a:xfrm>
            <a:off x="4805280" y="1905120"/>
            <a:ext cx="986040" cy="132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Object 24"/>
          <p:cNvGraphicFramePr/>
          <p:nvPr/>
        </p:nvGraphicFramePr>
        <p:xfrm>
          <a:off x="6162840" y="2133720"/>
          <a:ext cx="1304640" cy="86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2840" y="2133720"/>
                    <a:ext cx="130464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3732a0"/>
              </a:solidFill>
              <a:latin typeface="Arial Black"/>
            </a:endParaRPr>
          </a:p>
        </p:txBody>
      </p:sp>
      <p:pic>
        <p:nvPicPr>
          <p:cNvPr id="145" name="Picture 25" descr=""/>
          <p:cNvPicPr/>
          <p:nvPr/>
        </p:nvPicPr>
        <p:blipFill>
          <a:blip r:embed="rId1"/>
          <a:stretch/>
        </p:blipFill>
        <p:spPr>
          <a:xfrm>
            <a:off x="1514520" y="177336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8"/>
          <p:cNvSpPr/>
          <p:nvPr/>
        </p:nvSpPr>
        <p:spPr>
          <a:xfrm>
            <a:off x="1835280" y="2060640"/>
            <a:ext cx="482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To be able to be able to recognise and give quick response to ant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1506240" y="692280"/>
            <a:ext cx="190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ran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5982480" y="692280"/>
            <a:ext cx="15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et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l_fi" descr="http://www.mus-musculus.com/mouse.jpg"/>
          <p:cNvPicPr/>
          <p:nvPr/>
        </p:nvPicPr>
        <p:blipFill>
          <a:blip r:embed="rId1"/>
          <a:stretch/>
        </p:blipFill>
        <p:spPr>
          <a:xfrm>
            <a:off x="4859280" y="1844640"/>
            <a:ext cx="3917880" cy="338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http://ts4.mm.bing.net/images/thumbnail.aspx?q=410732397491&amp;id=969a62eb849ca04f791190699e8b83e3&amp;url=http%3a%2f%2fwhateverthingsare.files.wordpress.com%2f2009%2f03%2fgiraffe-01.jpg"/>
          <p:cNvPicPr/>
          <p:nvPr/>
        </p:nvPicPr>
        <p:blipFill>
          <a:blip r:embed="rId2"/>
          <a:stretch/>
        </p:blipFill>
        <p:spPr>
          <a:xfrm>
            <a:off x="395280" y="1844640"/>
            <a:ext cx="381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3"/>
          <p:cNvSpPr/>
          <p:nvPr/>
        </p:nvSpPr>
        <p:spPr>
          <a:xfrm>
            <a:off x="1118160" y="765000"/>
            <a:ext cx="237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oder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5956200" y="765000"/>
            <a:ext cx="153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eil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il_fi" descr="http://www.adifferentplace.org/new/modern.jpg"/>
          <p:cNvPicPr/>
          <p:nvPr/>
        </p:nvPicPr>
        <p:blipFill>
          <a:blip r:embed="rId1"/>
          <a:stretch/>
        </p:blipFill>
        <p:spPr>
          <a:xfrm>
            <a:off x="395280" y="1773360"/>
            <a:ext cx="3681360" cy="3240000"/>
          </a:xfrm>
          <a:prstGeom prst="rect">
            <a:avLst/>
          </a:prstGeom>
          <a:ln w="0">
            <a:noFill/>
          </a:ln>
        </p:spPr>
      </p:pic>
      <p:pic>
        <p:nvPicPr>
          <p:cNvPr id="154" name="il_fi" descr="http://cdn2.ioffer.com/img/item/986/585/57/30-100-04466.jpg"/>
          <p:cNvPicPr/>
          <p:nvPr/>
        </p:nvPicPr>
        <p:blipFill>
          <a:blip r:embed="rId2"/>
          <a:stretch/>
        </p:blipFill>
        <p:spPr>
          <a:xfrm>
            <a:off x="4932360" y="1773360"/>
            <a:ext cx="3743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"/>
          <p:cNvSpPr/>
          <p:nvPr/>
        </p:nvSpPr>
        <p:spPr>
          <a:xfrm>
            <a:off x="1191240" y="981000"/>
            <a:ext cx="19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nim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5689080" y="981000"/>
            <a:ext cx="16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l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" descr="MC900022849[1]"/>
          <p:cNvPicPr/>
          <p:nvPr/>
        </p:nvPicPr>
        <p:blipFill>
          <a:blip r:embed="rId1"/>
          <a:stretch/>
        </p:blipFill>
        <p:spPr>
          <a:xfrm>
            <a:off x="5003640" y="2133720"/>
            <a:ext cx="3384720" cy="3333600"/>
          </a:xfrm>
          <a:prstGeom prst="rect">
            <a:avLst/>
          </a:prstGeom>
          <a:ln w="0">
            <a:noFill/>
          </a:ln>
        </p:spPr>
      </p:pic>
      <p:pic>
        <p:nvPicPr>
          <p:cNvPr id="158" name="il_fi" descr="http://www.unitedresponse.org.uk/pwp/images/excited.gif"/>
          <p:cNvPicPr/>
          <p:nvPr/>
        </p:nvPicPr>
        <p:blipFill>
          <a:blip r:embed="rId2"/>
          <a:stretch/>
        </p:blipFill>
        <p:spPr>
          <a:xfrm>
            <a:off x="468360" y="2133720"/>
            <a:ext cx="381456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1478160" y="1052640"/>
            <a:ext cx="13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el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379840" y="981000"/>
            <a:ext cx="18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o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http://ts2.mm.bing.net/images/thumbnail.aspx?q=419844137833&amp;id=41849badb3edd52d30f3d17c99839686&amp;url=http%3a%2f%2fimages2.fanpop.com%2fimages%2fphotos%2f2900000%2fUgly-Betty-ugly-betty-2966067-1280-1024.jpg"/>
          <p:cNvPicPr/>
          <p:nvPr/>
        </p:nvPicPr>
        <p:blipFill>
          <a:blip r:embed="rId1"/>
          <a:stretch/>
        </p:blipFill>
        <p:spPr>
          <a:xfrm>
            <a:off x="4932360" y="2276640"/>
            <a:ext cx="3527280" cy="3097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http://ts1.mm.bing.net/images/thumbnail.aspx?q=408761344568&amp;id=4d2660941e74a78ecfe99e4ac28d014f&amp;url=http%3a%2f%2ffarm4.static.flickr.com%2f3648%2f3523180475_5428632c17.jpg"/>
          <p:cNvPicPr/>
          <p:nvPr/>
        </p:nvPicPr>
        <p:blipFill>
          <a:blip r:embed="rId2"/>
          <a:stretch/>
        </p:blipFill>
        <p:spPr>
          <a:xfrm>
            <a:off x="539640" y="2276640"/>
            <a:ext cx="35276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3"/>
          <p:cNvSpPr/>
          <p:nvPr/>
        </p:nvSpPr>
        <p:spPr>
          <a:xfrm>
            <a:off x="854280" y="333360"/>
            <a:ext cx="1710720" cy="73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de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ie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im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l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5463000" y="301680"/>
            <a:ext cx="171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t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de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im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l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3"/>
          <p:cNvSpPr/>
          <p:nvPr/>
        </p:nvSpPr>
        <p:spPr>
          <a:xfrm>
            <a:off x="854280" y="333360"/>
            <a:ext cx="1710720" cy="73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gr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mode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vie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nim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cal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b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mo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5463000" y="301680"/>
            <a:ext cx="171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g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pet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ode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v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anim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al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b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o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2:00:26Z</dcterms:created>
  <dc:creator>Ben Dalglish</dc:creator>
  <dc:description/>
  <dc:language>en-US</dc:language>
  <cp:lastModifiedBy>Clare</cp:lastModifiedBy>
  <dcterms:modified xsi:type="dcterms:W3CDTF">2011-07-11T07:55:43Z</dcterms:modified>
  <cp:revision>197</cp:revision>
  <dc:subject/>
  <dc:title>KS2 Yr 5 French – Lesson 1  </dc:title>
</cp:coreProperties>
</file>