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43F7-B933-4921-8ABC-5602FB0832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k them which group of adjectives would be used to describe a female noun, and wh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F868-AF9F-44A4-B019-D9AB1083B7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k them which group of adjectives would be used to describe a female noun, and why. Look at pronunc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68F5-C524-478D-8BE4-B88964917E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BFAC-4C5E-4145-BF80-71C89DB4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317-8695-43E0-AF48-6AB3A70D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1DD-9C0D-4FCC-AC2C-1A115511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3DF1-4DBC-4972-A4C9-719EFF7C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3392-B71C-46DF-AAB8-316A2EA9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55D3-DA2C-4F1A-AB95-0B06864A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8E5C-E41A-4205-8B5E-4959747F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370A-37B0-41A3-8FDE-67D47D74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38FC-FA38-47EB-BC28-E5B95CF7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72D8-8D88-4E86-BEF9-DD63FE56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13D8-2873-46D6-B0F9-FA6DE565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0668-66F6-4D2E-938A-22E84B08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C736-B14B-4942-9C1C-7C28E18C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B60C-D24D-49AF-805D-80D90D03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A4C3-094A-4F9A-B865-1C7AFF93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A7D7-A5FB-4ABF-B8AB-FC37BEBC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FD80-435D-4A88-A173-C05A435D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3F814-6151-4750-9E79-119096EC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749EA-F882-446F-804B-346ECB90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046F5-A413-450D-B86E-B5EEC852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69479-CCC6-48CB-BD44-6A61A567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DA977-B98A-4251-99AC-5F5EEE07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29B-AD2B-48AA-8656-CE3FFDCD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CB6C4-E799-4C28-ABE8-6E1476F9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9F76A-0668-44BD-B938-BF316ED5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C4677-7FA0-4F45-B4E6-ADE6CC1A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706A9-9369-48C1-B426-2DC517B4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ADDD2-F11A-4493-B480-BC3986FB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2CB2-3B0E-40E5-985D-2527EF50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E00BB-4522-4B3E-97C0-24141C43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BFDC-B374-424F-A663-2F5F2247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9A7-59B2-4232-AB02-DF55DA83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E43-A748-459C-B626-95E71274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A7F1-61FB-4506-BBE8-98FB7472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A27F-6B55-4B97-9DF7-61291A6D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8C09-C0E9-4B68-8590-BE4A080E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DB49-AB1B-4BF7-882D-F1EAD5A10D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6091-1561-40D5-A3A1-6C0D92BE7C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909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B150-99D8-4AFD-B0EF-C5B0365BFC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S2 Yr6 French – Lesson 84</a:t>
            </a:r>
            <a:br>
              <a:rPr sz="4000"/>
            </a:br>
            <a:br>
              <a:rPr sz="4800"/>
            </a:br>
            <a:endParaRPr b="0" lang="en-US" sz="40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  <a:ea typeface="Tahoma"/>
              </a:rPr>
              <a:t>Find the differen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21"/>
          <p:cNvGraphicFramePr/>
          <p:nvPr/>
        </p:nvGraphicFramePr>
        <p:xfrm>
          <a:off x="1600200" y="2133720"/>
          <a:ext cx="130500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130500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22" descr="Aidan's badge no background"/>
          <p:cNvPicPr/>
          <p:nvPr/>
        </p:nvPicPr>
        <p:blipFill>
          <a:blip r:embed="rId3"/>
          <a:stretch/>
        </p:blipFill>
        <p:spPr>
          <a:xfrm>
            <a:off x="3276720" y="1905120"/>
            <a:ext cx="1077840" cy="1323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3" descr="language collegelogo"/>
          <p:cNvPicPr/>
          <p:nvPr/>
        </p:nvPicPr>
        <p:blipFill>
          <a:blip r:embed="rId4"/>
          <a:stretch/>
        </p:blipFill>
        <p:spPr>
          <a:xfrm>
            <a:off x="4805280" y="1905120"/>
            <a:ext cx="986040" cy="132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Object 24"/>
          <p:cNvGraphicFramePr/>
          <p:nvPr/>
        </p:nvGraphicFramePr>
        <p:xfrm>
          <a:off x="6162840" y="2133720"/>
          <a:ext cx="130464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2840" y="2133720"/>
                    <a:ext cx="1304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145" name="Picture 25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8"/>
          <p:cNvSpPr/>
          <p:nvPr/>
        </p:nvSpPr>
        <p:spPr>
          <a:xfrm>
            <a:off x="1835280" y="2060640"/>
            <a:ext cx="482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To be able to be able to recognise and give quick response to ant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1506240" y="692280"/>
            <a:ext cx="19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ran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5982480" y="692280"/>
            <a:ext cx="15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et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l_fi" descr="http://www.mus-musculus.com/mouse.jpg"/>
          <p:cNvPicPr/>
          <p:nvPr/>
        </p:nvPicPr>
        <p:blipFill>
          <a:blip r:embed="rId1"/>
          <a:stretch/>
        </p:blipFill>
        <p:spPr>
          <a:xfrm>
            <a:off x="4859280" y="1844640"/>
            <a:ext cx="3917880" cy="338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ttp://ts4.mm.bing.net/images/thumbnail.aspx?q=410732397491&amp;id=969a62eb849ca04f791190699e8b83e3&amp;url=http%3a%2f%2fwhateverthingsare.files.wordpress.com%2f2009%2f03%2fgiraffe-01.jpg"/>
          <p:cNvPicPr/>
          <p:nvPr/>
        </p:nvPicPr>
        <p:blipFill>
          <a:blip r:embed="rId2"/>
          <a:stretch/>
        </p:blipFill>
        <p:spPr>
          <a:xfrm>
            <a:off x="395280" y="1844640"/>
            <a:ext cx="38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"/>
          <p:cNvSpPr/>
          <p:nvPr/>
        </p:nvSpPr>
        <p:spPr>
          <a:xfrm>
            <a:off x="1118160" y="765000"/>
            <a:ext cx="237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oder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5956200" y="765000"/>
            <a:ext cx="15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eil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il_fi" descr="http://www.adifferentplace.org/new/modern.jpg"/>
          <p:cNvPicPr/>
          <p:nvPr/>
        </p:nvPicPr>
        <p:blipFill>
          <a:blip r:embed="rId1"/>
          <a:stretch/>
        </p:blipFill>
        <p:spPr>
          <a:xfrm>
            <a:off x="395280" y="1773360"/>
            <a:ext cx="3681360" cy="3240000"/>
          </a:xfrm>
          <a:prstGeom prst="rect">
            <a:avLst/>
          </a:prstGeom>
          <a:ln w="0">
            <a:noFill/>
          </a:ln>
        </p:spPr>
      </p:pic>
      <p:pic>
        <p:nvPicPr>
          <p:cNvPr id="154" name="il_fi" descr="http://cdn2.ioffer.com/img/item/986/585/57/30-100-04466.jpg"/>
          <p:cNvPicPr/>
          <p:nvPr/>
        </p:nvPicPr>
        <p:blipFill>
          <a:blip r:embed="rId2"/>
          <a:stretch/>
        </p:blipFill>
        <p:spPr>
          <a:xfrm>
            <a:off x="4932360" y="1773360"/>
            <a:ext cx="3743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1191240" y="981000"/>
            <a:ext cx="19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nim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5689080" y="981000"/>
            <a:ext cx="16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" descr="MC900022849[1]"/>
          <p:cNvPicPr/>
          <p:nvPr/>
        </p:nvPicPr>
        <p:blipFill>
          <a:blip r:embed="rId1"/>
          <a:stretch/>
        </p:blipFill>
        <p:spPr>
          <a:xfrm>
            <a:off x="5003640" y="2133720"/>
            <a:ext cx="3384720" cy="3333600"/>
          </a:xfrm>
          <a:prstGeom prst="rect">
            <a:avLst/>
          </a:prstGeom>
          <a:ln w="0">
            <a:noFill/>
          </a:ln>
        </p:spPr>
      </p:pic>
      <p:pic>
        <p:nvPicPr>
          <p:cNvPr id="158" name="il_fi" descr="http://www.unitedresponse.org.uk/pwp/images/excited.gif"/>
          <p:cNvPicPr/>
          <p:nvPr/>
        </p:nvPicPr>
        <p:blipFill>
          <a:blip r:embed="rId2"/>
          <a:stretch/>
        </p:blipFill>
        <p:spPr>
          <a:xfrm>
            <a:off x="468360" y="2133720"/>
            <a:ext cx="38145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1478160" y="1052640"/>
            <a:ext cx="13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el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379840" y="981000"/>
            <a:ext cx="18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o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http://ts2.mm.bing.net/images/thumbnail.aspx?q=419844137833&amp;id=41849badb3edd52d30f3d17c99839686&amp;url=http%3a%2f%2fimages2.fanpop.com%2fimages%2fphotos%2f2900000%2fUgly-Betty-ugly-betty-2966067-1280-1024.jpg"/>
          <p:cNvPicPr/>
          <p:nvPr/>
        </p:nvPicPr>
        <p:blipFill>
          <a:blip r:embed="rId1"/>
          <a:stretch/>
        </p:blipFill>
        <p:spPr>
          <a:xfrm>
            <a:off x="4932360" y="2276640"/>
            <a:ext cx="3527280" cy="3097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://ts1.mm.bing.net/images/thumbnail.aspx?q=408761344568&amp;id=4d2660941e74a78ecfe99e4ac28d014f&amp;url=http%3a%2f%2ffarm4.static.flickr.com%2f3648%2f3523180475_5428632c17.jpg"/>
          <p:cNvPicPr/>
          <p:nvPr/>
        </p:nvPicPr>
        <p:blipFill>
          <a:blip r:embed="rId2"/>
          <a:stretch/>
        </p:blipFill>
        <p:spPr>
          <a:xfrm>
            <a:off x="539640" y="2276640"/>
            <a:ext cx="3527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3"/>
          <p:cNvSpPr/>
          <p:nvPr/>
        </p:nvSpPr>
        <p:spPr>
          <a:xfrm>
            <a:off x="854280" y="333360"/>
            <a:ext cx="1710720" cy="73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de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ie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im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l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5463000" y="301680"/>
            <a:ext cx="171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t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de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im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l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854280" y="333360"/>
            <a:ext cx="1710720" cy="73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gr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mode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vie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nim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cal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mo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5463000" y="301680"/>
            <a:ext cx="171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g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pet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ode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v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anim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cal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b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mo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Clare</cp:lastModifiedBy>
  <dcterms:modified xsi:type="dcterms:W3CDTF">2011-07-11T07:55:43Z</dcterms:modified>
  <cp:revision>197</cp:revision>
  <dc:subject/>
  <dc:title>KS2 Yr 5 French – Lesson 1  </dc:title>
</cp:coreProperties>
</file>