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8.wmf" ContentType="image/x-wmf"/>
  <Override PartName="/ppt/media/image2.jpeg" ContentType="image/jpeg"/>
  <Override PartName="/ppt/media/image28.wmf" ContentType="image/x-wmf"/>
  <Override PartName="/ppt/media/image3.jpeg" ContentType="image/jpeg"/>
  <Override PartName="/ppt/media/image14.jpeg" ContentType="image/jpeg"/>
  <Override PartName="/ppt/media/image16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A64-2825-4CA3-AF7B-F69BABD45F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 through the text changing the pictures for vocabulary. Go through again and see they can add more adjectives, eg: yellow lion/ fierce l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303-E9DF-4D04-ACB7-F9BD40011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95D6-4DA2-41A0-8EA2-EB2CAC5CB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tch the two halves of the sent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E3DD-B707-437E-AE66-558DE072A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t the sentence up and ask them to recreate it. Then come to the front and read it out and then take away a card at a time, until they can say the whol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573A-2C3E-4AD7-99B5-502B36D36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ilding sentences. Hand out packs of cards and show them a slide and they choose cards to create a sentence to describe the pi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368B-48AF-4422-93A5-47C162231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381-8E13-4D54-A71C-92ECBB59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370-4200-4B11-8CD7-C8DF327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B022D-2719-4427-826E-9D332345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86D73-C821-4195-8FC2-3C67AEE6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FF754-C7AE-4CB6-93D3-4EE8265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509A-813A-4B97-A600-CE588F2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5773-A133-4EBE-A4BB-C841F01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4EB45-DCD7-48BC-9E03-4CDB5EC5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5D2F-2CB4-4457-9592-44EDDD8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D4618-D227-4530-AB64-7F855CCE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9A093-9804-4C84-B5A2-F5700438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17CA3-7F66-4638-A27B-4902952D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AE3-2889-4CD1-973E-440B0311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C65AA-0CDC-4A20-9972-609C1553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1B99E-23D4-4FFB-92F5-36C2D1E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B8B8C-1444-4D2B-8229-FB4422F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6333C-1A6F-4704-846D-19A37C7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A60BE-8C39-40A0-B921-744AD6EE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3D177-5AB1-4E39-847C-C526E0DB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B2CF4-A112-430C-9362-3665017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B6142-875C-4D48-886C-D12B41B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E744B-B578-4F4D-A22F-F5E3076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F240B-F947-48F1-AEFD-90D85EAF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C86-1EB6-4111-BE6B-1F5AD53F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60996-C83C-4F30-8E3F-0DD01210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458FD-94A3-4A4F-9BBC-74DAD057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B5398-39A9-49D4-A8A3-79534A5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375A4-9F5A-4C68-975B-0F881E3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FF277-F4CE-4C55-94E8-B901BFE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0CCF4-BEBB-4C7E-8585-AD9C9C9A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5AFD4-1325-46C4-9A6E-F8D22192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F9746-6FC9-441A-B806-8A232EB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7B296-CB08-42C9-852D-A8DD0A3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0600-D58B-40BC-B8F6-61037D7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F79C-90DF-4C2F-9A30-D5423848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97BE1-F5FA-4824-9704-DDADC307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F062-0CC3-4CC0-B48F-8978D86D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7E45-0F81-47A5-8504-27A309DF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8F97D-5EC2-4BE9-BDBA-BDCE4A75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F955C-FEE4-476D-8776-A9CBD5E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041B2-0818-4FC4-B14C-7ADF390A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2F946-67FF-46FB-B38D-B329889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E4CD7-6C26-402E-8400-6451597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B99F3-1F24-4C08-9775-7FD7307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5776E-B5D7-418B-9D1D-5AEC6DCE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9AC-A72F-4A00-AFB5-106C591F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64FDD-5F04-4F1D-B099-1D5D82F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0DD39-4DC7-41A1-90CC-8A20264D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9EA65-5CAA-4DB2-991F-65450ABD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E6EAC-3520-4E53-AB2C-D3A9B5D9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DC0D8-F2B7-4AE2-93EF-3558E3E9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9359-3FC3-46C0-974F-44FFDBD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083-C1E1-4D32-BD54-C6E6BAC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FDB4-0FE8-4D38-9808-2DF9D42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F0C5-4EB2-4627-B61F-2BFBE580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B7B-8034-4684-95F0-BD67624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646-12AC-4396-9CCF-9CE7B697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661-5E88-40D5-BB20-13AC3C6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C9E8-5938-4243-8CE1-DD6D7D3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5390-9D45-4ACB-850B-32D797D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325C-BD2D-4A7F-8123-4E9A1D70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D7E-48AA-4C81-8D75-F9E9355E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1D11-FDDC-4033-8359-DA94AD2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FF50-BAF9-41F6-A6C2-EB4DB94C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DEC1-DDDA-4AB0-97ED-74E99530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3462-A5C1-4207-A9A6-30D74C8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DED1-8E9A-4326-AB47-7105E1F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4F5-D3C5-4C8D-A8D8-7884E94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0CBF-7B0D-4E1D-B5C6-0176CF2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8D43-36EA-406B-91CD-02BBE25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8C82-A0E6-4D43-B35B-3DA66D9B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0E07-DF17-4500-B857-D63AE98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9AE8-648E-4206-930F-2CA06BD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2223-9948-4A28-9E43-90120E34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4966-248B-4247-AB07-8A955C68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25FB-236C-4C26-9B04-1DC66CE3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629C-0666-44AC-BF46-082CC4D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685C-CB39-4B7B-B684-A6550A8C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3D7-3484-4F5F-9AA7-7C03614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323E-BE70-44F4-8E3F-19780C3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2C25-7A55-4B94-B3B7-EA1B6E4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C29E-E918-4588-B05B-C5838BD8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7EE0-CC92-4D93-8889-851B6EC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F6B4-2ACE-4371-82C5-8FF5207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AC50-0C55-41A6-9CED-3A38A15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7C81-BCAC-4277-ABF1-A8CE206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2556-6674-414A-8990-A40979FF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7E80-0C07-4FE1-AE57-7EF0328E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E9B7-4A8A-4847-88CE-BFF0D12B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43F-E65F-4A5B-AC18-258AC73F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16C1-896C-4306-8EFA-C872B84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F3E4-40E8-498E-8201-AAA758AE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D057-848C-4C98-8A54-CB5B0AA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F48C-3907-4DBE-9E9F-E41AF218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38F5-C60B-461C-ADD3-DC693B3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58A9-18A7-4F42-9D32-BCCC598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2AFC-A628-43A7-8EC7-F340F11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C6E8-ACAB-4AFC-B38C-56CF53A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E8B0-9298-4A2A-B128-4A54895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0279C-920E-4216-BBC8-546D2B38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3CD-A83F-4FBE-BD83-E51055E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847B-40EE-46BE-A75F-0481F897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1101-4B15-4159-A094-3AFABF5C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DF73-C53C-45C6-8664-B6F51AD1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1D30-F433-4CF9-9CFD-B248C05E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4FE8-4B0E-4A7F-8F80-2789021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6C4F-A6BA-41A3-B754-60ED04A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7D0D-D655-47E9-8F6A-011FD89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EC97C-DCA8-438A-9D15-8AC2483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08D4-9A0B-4646-92A3-4D19070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7A6D-D540-41C2-9E2F-0B1F647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B79-B55F-4E93-9380-CB6DC639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61FD-E82B-4416-B951-EE9027F2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7133-51EC-4109-9CD6-3E46398B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549E-7171-486E-B2BF-71DAFB8F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42DE-17CD-4F18-B495-08B6C68A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EE01-B6CB-409D-9ECC-533534DE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2AEA-3969-4445-8187-22CA381D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F983-2D82-45FF-BCA1-C7EEB60C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810E-DB89-43B1-B1C3-69ECC71F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6024-608B-4767-B9B3-B96B9A1A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B279-14BA-46FB-98DC-9245E03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6E2-5A25-47A2-8201-4E4126F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5FD8-7DA3-403D-BFE2-A771BCC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ABD8-A9F9-4C8D-8C0F-8D26573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E5E5-C110-4971-9CCD-CDFC1D0C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43A9-DDF0-4943-B137-C693FD8D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E1AB-D455-4DAA-80DE-75B682F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5B53-12A8-4163-820D-519AFB0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AF60-DAA5-4B66-BCD3-8576D00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D889-07F1-408C-B222-1F00DA4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9792-537B-4EF0-9894-FE83E08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AF44-E21E-4612-A484-182A698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6FF-26C1-43FE-B522-D538DA2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028B8-7A16-431C-88A5-DBDF008E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4977C-BD9B-4870-A4B9-7E5FD98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BEAD-BB87-4E30-B8AA-AF272CA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0C482-4099-4B07-B3EA-B4E201F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6DCB7-C76C-4797-B839-50C88F3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312A9-DFDA-420C-8E3A-574B64E5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2B2F-AA48-497D-BADF-75F71ADC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60BE8-E0B0-4586-ADBA-785492E1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9E133-6094-443A-A282-D6F9278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6FCF6-2A36-4DC4-8D18-A4754BD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DB71-454F-48A0-B1CC-46ED824A7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A47F-A0B1-42F4-8FAB-59D293CE2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AA63-1CA4-4345-9EC9-90EA0BDC2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D4D-7D55-428B-92B3-435352622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CD2C-DA34-438F-9195-108FD0C0F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BE9-0D7C-4709-B627-0B5432B0B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DB9-A612-4701-85A5-266E81E95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71C-B2AE-4B88-8344-F0CF85DB2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9EC-A857-4DDA-9734-9AD4C6AB5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6BD3-4992-4BC9-AD15-497BD500E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6C1-B83F-42BC-B924-F8F241FBE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777F-8CE3-41F6-983F-369BD9647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6</a:t>
            </a: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Find the differ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250920" y="301680"/>
            <a:ext cx="88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lut! On vous présente notre ville. Aujourd’hu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lleville est une ville très                   . Il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beaucoup de              et de  . Le          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ès         . Il y a des           ,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 5           dans le parc. Il y a u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très               ! Notre école  ( qui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z  moderne ) est au centre ville, à côté du p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" descr="C:\Documents and Settings\rmo\Local Settings\Temporary Internet Files\Content.IE5\MZORXZN6\MP900442446[1].jpg"/>
          <p:cNvPicPr/>
          <p:nvPr/>
        </p:nvPicPr>
        <p:blipFill>
          <a:blip r:embed="rId1"/>
          <a:stretch/>
        </p:blipFill>
        <p:spPr>
          <a:xfrm>
            <a:off x="5003640" y="1197000"/>
            <a:ext cx="1440000" cy="51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C:\Documents and Settings\rmo\Local Settings\Temporary Internet Files\Content.IE5\4TAQA0SR\MC900432223[1].wmf"/>
          <p:cNvPicPr/>
          <p:nvPr/>
        </p:nvPicPr>
        <p:blipFill>
          <a:blip r:embed="rId2"/>
          <a:stretch/>
        </p:blipFill>
        <p:spPr>
          <a:xfrm>
            <a:off x="2771640" y="1773360"/>
            <a:ext cx="1295640" cy="780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C:\Documents and Settings\rmo\Local Settings\Temporary Internet Files\Content.IE5\IJEJRDOU\MP900443612[1].jpg"/>
          <p:cNvPicPr/>
          <p:nvPr/>
        </p:nvPicPr>
        <p:blipFill>
          <a:blip r:embed="rId3"/>
          <a:stretch/>
        </p:blipFill>
        <p:spPr>
          <a:xfrm>
            <a:off x="5867280" y="1916280"/>
            <a:ext cx="900360" cy="6030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6"/>
          <p:cNvSpPr/>
          <p:nvPr/>
        </p:nvSpPr>
        <p:spPr>
          <a:xfrm>
            <a:off x="1258920" y="2924280"/>
            <a:ext cx="576360" cy="433440"/>
          </a:xfrm>
          <a:prstGeom prst="rect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Documents and Settings\rmo\Local Settings\Temporary Internet Files\Content.IE5\4TAQA0SR\MC900445164[1].wmf"/>
          <p:cNvPicPr/>
          <p:nvPr/>
        </p:nvPicPr>
        <p:blipFill>
          <a:blip r:embed="rId4"/>
          <a:stretch/>
        </p:blipFill>
        <p:spPr>
          <a:xfrm>
            <a:off x="3995640" y="2781360"/>
            <a:ext cx="720720" cy="717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C:\Documents and Settings\rmo\Local Settings\Temporary Internet Files\Content.IE5\IJEJRDOU\MC900326486[1].wmf"/>
          <p:cNvPicPr/>
          <p:nvPr/>
        </p:nvPicPr>
        <p:blipFill>
          <a:blip r:embed="rId5"/>
          <a:stretch/>
        </p:blipFill>
        <p:spPr>
          <a:xfrm>
            <a:off x="6084720" y="2781360"/>
            <a:ext cx="573120" cy="665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C:\Documents and Settings\rmo\Local Settings\Temporary Internet Files\Content.IE5\82ILJ9V9\MC900000928[1].wmf"/>
          <p:cNvPicPr/>
          <p:nvPr/>
        </p:nvPicPr>
        <p:blipFill>
          <a:blip r:embed="rId6"/>
          <a:stretch/>
        </p:blipFill>
        <p:spPr>
          <a:xfrm>
            <a:off x="1476360" y="3645000"/>
            <a:ext cx="396720" cy="609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C:\Documents and Settings\rmo\Local Settings\Temporary Internet Files\Content.IE5\IJEJRDOU\MP900424262[1].jpg"/>
          <p:cNvPicPr/>
          <p:nvPr/>
        </p:nvPicPr>
        <p:blipFill>
          <a:blip r:embed="rId7"/>
          <a:stretch/>
        </p:blipFill>
        <p:spPr>
          <a:xfrm>
            <a:off x="6300720" y="3789360"/>
            <a:ext cx="770040" cy="503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C:\Documents and Settings\rmo\Local Settings\Temporary Internet Files\Content.IE5\4TAQA0SR\MP900448312[1].jpg"/>
          <p:cNvPicPr/>
          <p:nvPr/>
        </p:nvPicPr>
        <p:blipFill>
          <a:blip r:embed="rId8"/>
          <a:stretch/>
        </p:blipFill>
        <p:spPr>
          <a:xfrm>
            <a:off x="2484360" y="4508640"/>
            <a:ext cx="10065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179280" y="573264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jourd’hui, Belleville est une ville très grande et anim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C:\Documents and Settings\rmo\Local Settings\Temporary Internet Files\Content.IE5\82ILJ9V9\MC900101034[1].wmf"/>
          <p:cNvPicPr/>
          <p:nvPr/>
        </p:nvPicPr>
        <p:blipFill>
          <a:blip r:embed="rId1"/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http://t2.gstatic.com/images?q=tbn:ANd9GcSehSo4NWN1tPpi4gC5HhCXWp0WCzpu0NQS9_G0TF74X332xHCsgg"/>
          <p:cNvPicPr/>
          <p:nvPr/>
        </p:nvPicPr>
        <p:blipFill>
          <a:blip r:embed="rId1"/>
          <a:stretch/>
        </p:blipFill>
        <p:spPr>
          <a:xfrm>
            <a:off x="684360" y="476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179280" y="57326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beaucoup de voitures et de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rmo\Local Settings\Temporary Internet Files\Content.IE5\82ILJ9V9\MC900101034[1].wmf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Documents and Settings\rmo\Local Settings\Temporary Internet Files\Content.IE5\4TAQA0SR\MC900233467[1].wmf"/>
          <p:cNvPicPr/>
          <p:nvPr/>
        </p:nvPicPr>
        <p:blipFill>
          <a:blip r:embed="rId2"/>
          <a:stretch/>
        </p:blipFill>
        <p:spPr>
          <a:xfrm>
            <a:off x="179280" y="3716280"/>
            <a:ext cx="1976400" cy="122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Documents and Settings\rmo\Local Settings\Temporary Internet Files\Content.IE5\82ILJ9V9\MC900368448[1].wmf"/>
          <p:cNvPicPr/>
          <p:nvPr/>
        </p:nvPicPr>
        <p:blipFill>
          <a:blip r:embed="rId3"/>
          <a:stretch/>
        </p:blipFill>
        <p:spPr>
          <a:xfrm>
            <a:off x="4859280" y="3716280"/>
            <a:ext cx="1819440" cy="1381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C:\Documents and Settings\rmo\Local Settings\Temporary Internet Files\Content.IE5\IJEJRDOU\MC900100710[1].wmf"/>
          <p:cNvPicPr/>
          <p:nvPr/>
        </p:nvPicPr>
        <p:blipFill>
          <a:blip r:embed="rId4"/>
          <a:stretch/>
        </p:blipFill>
        <p:spPr>
          <a:xfrm>
            <a:off x="7002360" y="3500280"/>
            <a:ext cx="2141640" cy="1582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C:\Documents and Settings\rmo\Local Settings\Temporary Internet Files\Content.IE5\4TAQA0SR\MC900085274[1].wmf"/>
          <p:cNvPicPr/>
          <p:nvPr/>
        </p:nvPicPr>
        <p:blipFill>
          <a:blip r:embed="rId5"/>
          <a:stretch/>
        </p:blipFill>
        <p:spPr>
          <a:xfrm>
            <a:off x="2700360" y="3789360"/>
            <a:ext cx="1727280" cy="947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C:\Documents and Settings\rmo\Local Settings\Temporary Internet Files\Content.IE5\IJEJRDOU\MC900301140[1].wmf"/>
          <p:cNvPicPr/>
          <p:nvPr/>
        </p:nvPicPr>
        <p:blipFill>
          <a:blip r:embed="rId6"/>
          <a:stretch/>
        </p:blipFill>
        <p:spPr>
          <a:xfrm>
            <a:off x="0" y="1844640"/>
            <a:ext cx="1814400" cy="1717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C:\Documents and Settings\rmo\Local Settings\Temporary Internet Files\Content.IE5\82ILJ9V9\MC900149635[1].wmf"/>
          <p:cNvPicPr/>
          <p:nvPr/>
        </p:nvPicPr>
        <p:blipFill>
          <a:blip r:embed="rId7"/>
          <a:stretch/>
        </p:blipFill>
        <p:spPr>
          <a:xfrm>
            <a:off x="1547640" y="1700280"/>
            <a:ext cx="1441800" cy="1873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C:\Documents and Settings\rmo\Local Settings\Temporary Internet Files\Content.IE5\IJEJRDOU\MC900301128[1].wmf"/>
          <p:cNvPicPr/>
          <p:nvPr/>
        </p:nvPicPr>
        <p:blipFill>
          <a:blip r:embed="rId8"/>
          <a:stretch/>
        </p:blipFill>
        <p:spPr>
          <a:xfrm>
            <a:off x="2771640" y="1989000"/>
            <a:ext cx="1801800" cy="1532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C:\Documents and Settings\rmo\Local Settings\Temporary Internet Files\Content.IE5\IJEJRDOU\MC900089336[1].wmf"/>
          <p:cNvPicPr/>
          <p:nvPr/>
        </p:nvPicPr>
        <p:blipFill>
          <a:blip r:embed="rId9"/>
          <a:stretch/>
        </p:blipFill>
        <p:spPr>
          <a:xfrm>
            <a:off x="4427640" y="1989000"/>
            <a:ext cx="1666800" cy="1820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C:\Documents and Settings\rmo\Local Settings\Temporary Internet Files\Content.IE5\4TAQA0SR\MC900082851[1].wmf"/>
          <p:cNvPicPr/>
          <p:nvPr/>
        </p:nvPicPr>
        <p:blipFill>
          <a:blip r:embed="rId10"/>
          <a:stretch/>
        </p:blipFill>
        <p:spPr>
          <a:xfrm>
            <a:off x="5940360" y="2205000"/>
            <a:ext cx="1860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http://t2.gstatic.com/images?q=tbn:ANd9GcSehSo4NWN1tPpi4gC5HhCXWp0WCzpu0NQS9_G0TF74X332xHCsgg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4608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C:\Documents and Settings\rmo\Local Settings\Temporary Internet Files\Content.IE5\MZORXZN6\MC900413474[1].wmf"/>
          <p:cNvPicPr/>
          <p:nvPr/>
        </p:nvPicPr>
        <p:blipFill>
          <a:blip r:embed="rId2"/>
          <a:stretch/>
        </p:blipFill>
        <p:spPr>
          <a:xfrm>
            <a:off x="0" y="3429000"/>
            <a:ext cx="2058840" cy="1558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Documents and Settings\rmo\Local Settings\Temporary Internet Files\Content.IE5\82ILJ9V9\MC900311228[1].wmf"/>
          <p:cNvPicPr/>
          <p:nvPr/>
        </p:nvPicPr>
        <p:blipFill>
          <a:blip r:embed="rId3"/>
          <a:stretch/>
        </p:blipFill>
        <p:spPr>
          <a:xfrm>
            <a:off x="2340000" y="3716280"/>
            <a:ext cx="1825560" cy="1152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C:\Documents and Settings\rmo\Local Settings\Temporary Internet Files\Content.IE5\4TAQA0SR\MC900238172[1].wmf"/>
          <p:cNvPicPr/>
          <p:nvPr/>
        </p:nvPicPr>
        <p:blipFill>
          <a:blip r:embed="rId4"/>
          <a:stretch/>
        </p:blipFill>
        <p:spPr>
          <a:xfrm>
            <a:off x="4500720" y="3357720"/>
            <a:ext cx="2001600" cy="1725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C:\Documents and Settings\rmo\Local Settings\Temporary Internet Files\Content.IE5\MZORXZN6\MC900191747[1].wmf"/>
          <p:cNvPicPr/>
          <p:nvPr/>
        </p:nvPicPr>
        <p:blipFill>
          <a:blip r:embed="rId5"/>
          <a:stretch/>
        </p:blipFill>
        <p:spPr>
          <a:xfrm>
            <a:off x="6659640" y="3573360"/>
            <a:ext cx="2023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1979640" y="566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’église est très 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C:\Documents and Settings\rmo\Local Settings\Temporary Internet Files\Content.IE5\82ILJ9V9\MC900101034[1].wmf"/>
          <p:cNvPicPr/>
          <p:nvPr/>
        </p:nvPicPr>
        <p:blipFill>
          <a:blip r:embed="rId1"/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Documents and Settings\rmo\Local Settings\Temporary Internet Files\Content.IE5\MZORXZN6\MC900434848[1].png"/>
          <p:cNvPicPr/>
          <p:nvPr/>
        </p:nvPicPr>
        <p:blipFill>
          <a:blip r:embed="rId2"/>
          <a:stretch/>
        </p:blipFill>
        <p:spPr>
          <a:xfrm>
            <a:off x="2987640" y="2571840"/>
            <a:ext cx="244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http://star-www.dur.ac.uk/~jra/mill.jpg"/>
          <p:cNvPicPr/>
          <p:nvPr/>
        </p:nvPicPr>
        <p:blipFill>
          <a:blip r:embed="rId1"/>
          <a:stretch/>
        </p:blipFill>
        <p:spPr>
          <a:xfrm>
            <a:off x="611280" y="0"/>
            <a:ext cx="8208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2411280" y="5732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un grand s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C:\Documents and Settings\rmo\Local Settings\Temporary Internet Files\Content.IE5\4TAQA0SR\MP910218843[1].jpg"/>
          <p:cNvPicPr/>
          <p:nvPr/>
        </p:nvPicPr>
        <p:blipFill>
          <a:blip r:embed="rId1"/>
          <a:stretch/>
        </p:blipFill>
        <p:spPr>
          <a:xfrm>
            <a:off x="1403280" y="765000"/>
            <a:ext cx="64008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0" descr="http://t1.gstatic.com/images?q=tbn:ANd9GcSznl5TXDHdZKzUqBfeKfuam_uVQTkoCv7YM6GHAgmUAR88SQYw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514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8"/>
          <p:cNvSpPr/>
          <p:nvPr/>
        </p:nvSpPr>
        <p:spPr>
          <a:xfrm>
            <a:off x="1835280" y="20606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listen and respond to classroom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3"/>
          <p:cNvSpPr/>
          <p:nvPr/>
        </p:nvSpPr>
        <p:spPr>
          <a:xfrm>
            <a:off x="361080" y="620640"/>
            <a:ext cx="98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 Aujourd’hui Belle ville est très petite.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7451640" y="69228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8244000" y="69228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7"/>
          <p:cNvSpPr/>
          <p:nvPr/>
        </p:nvSpPr>
        <p:spPr>
          <a:xfrm>
            <a:off x="0" y="162864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 Aujourd’hui l’église est b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7451640" y="1557360"/>
            <a:ext cx="4334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8244000" y="1557360"/>
            <a:ext cx="4316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0" y="249228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 Aujourd’hui il y a trois resta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7451640" y="249228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8244000" y="249228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4"/>
          <p:cNvSpPr/>
          <p:nvPr/>
        </p:nvSpPr>
        <p:spPr>
          <a:xfrm flipV="1" rot="10800000">
            <a:off x="0" y="32839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 En 1948 Belleville était 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7451640" y="328464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8244000" y="328464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7"/>
          <p:cNvSpPr/>
          <p:nvPr/>
        </p:nvSpPr>
        <p:spPr>
          <a:xfrm>
            <a:off x="0" y="4076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  En 1948 il y avait deux chocola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"/>
          <p:cNvSpPr/>
          <p:nvPr/>
        </p:nvSpPr>
        <p:spPr>
          <a:xfrm>
            <a:off x="7451640" y="407664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9"/>
          <p:cNvSpPr/>
          <p:nvPr/>
        </p:nvSpPr>
        <p:spPr>
          <a:xfrm>
            <a:off x="8244000" y="407664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0"/>
          <p:cNvSpPr/>
          <p:nvPr/>
        </p:nvSpPr>
        <p:spPr>
          <a:xfrm>
            <a:off x="0" y="486900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  En 1948 les magasins étaient pet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7451640" y="4941720"/>
            <a:ext cx="4334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8244000" y="4941720"/>
            <a:ext cx="4316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7451640" y="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8244000" y="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2099880" y="2602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ch the two halves of the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250200" y="12682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beaucoup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4636440" y="371628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itures et de m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380160" y="249228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 y a des cafés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4718880" y="486900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ois supermar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12840" y="364500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4737600" y="12682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 centre 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363600" y="486900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4642920" y="249228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 assez 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1038240" y="191628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 mil neuf cent quarante h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n’y avait pas de restaur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134160" y="3333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ch word is miss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453960" y="1052640"/>
            <a:ext cx="7610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____________ de voitures et de maga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’église est très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est au _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______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___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 la ville __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_____ plu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__  _______ des petites mai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vait pas de restaurant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vait deux vieux caf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1525680" y="105264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beau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3105000" y="19162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472920" y="278136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3060720" y="364500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617040" y="443700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y av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5173920" y="530064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http://t3.gstatic.com/images?q=tbn:ANd9GcRnDCrzUdJrZIIv87rZxuJrBmvKEIMX1YUkVEX4SEkPvGBhYH03"/>
          <p:cNvPicPr/>
          <p:nvPr/>
        </p:nvPicPr>
        <p:blipFill>
          <a:blip r:embed="rId1"/>
          <a:stretch/>
        </p:blipFill>
        <p:spPr>
          <a:xfrm>
            <a:off x="900000" y="981000"/>
            <a:ext cx="74520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http://t1.gstatic.com/images?q=tbn:ANd9GcQg0t_2qS-mkzGI0ZIvBpJLbWNzW2s2cF3HCEI0BUqHYk8gauxyNg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http://ts3.mm.bing.net/images/thumbnail.aspx?q=810714016570&amp;id=c260038726d7f426bc26881b793898a5&amp;url=http%3a%2f%2fwww.lakelandcottages.co.uk%2fblog%2fwp-content%2fuploads%2fBusy-Market-Keswick.jpg"/>
          <p:cNvPicPr/>
          <p:nvPr/>
        </p:nvPicPr>
        <p:blipFill>
          <a:blip r:embed="rId1"/>
          <a:stretch/>
        </p:blipFill>
        <p:spPr>
          <a:xfrm>
            <a:off x="1116000" y="907920"/>
            <a:ext cx="720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8:43:13Z</dcterms:modified>
  <cp:revision>196</cp:revision>
  <dc:subject/>
  <dc:title>KS2 Yr 5 French – Lesson 1  </dc:title>
</cp:coreProperties>
</file>