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7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8.wmf" ContentType="image/x-wmf"/>
  <Override PartName="/ppt/media/image2.jpeg" ContentType="image/jpeg"/>
  <Override PartName="/ppt/media/image28.wmf" ContentType="image/x-wmf"/>
  <Override PartName="/ppt/media/image3.jpeg" ContentType="image/jpeg"/>
  <Override PartName="/ppt/media/image14.jpeg" ContentType="image/jpeg"/>
  <Override PartName="/ppt/media/image16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914-4EF5-4530-AA0C-9928AA5DF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 through the text changing the pictures for vocabulary. Go through again and see they can add more adjectives, eg: yellow lion/ fierce l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C484-7041-42B4-A54F-107866303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271-5182-4D1E-A048-40A6767F3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tch the two halves of the sent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1A07-FA79-4D9C-8C18-FBF5B36DF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t the sentence up and ask them to recreate it. Then come to the front and read it out and then take away a card at a time, until they can say the whol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042-E833-4F0D-B572-68369F325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ilding sentences. Hand out packs of cards and show them a slide and they choose cards to create a sentence to describe the pi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A18-9C39-4D04-8E89-DC26891C2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6D4-E682-4748-9552-6558661E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671-1703-4071-AA31-CDC057E2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159B-519B-46CF-B48F-DA7EBF3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8E51-7AE5-4DD3-A605-BD0E8A1A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72770-8D33-4932-AB0C-40CE334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2743-6C80-4771-94BA-99A0195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00F99-5A90-417F-BF1C-6182018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69E3F-05C7-4E4B-8C79-AB03DE6D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8C781-C71F-4653-856D-FA4928C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59DC4-0AF5-47D3-9C39-7157D253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498C9-A308-480D-A93B-D184148E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D4A1-F16C-4DD7-84BB-11D48C65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9FC-B6B2-4AE0-B5A8-DC751B40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2905-9604-4D5D-BADB-F63D366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C9A0A-9C30-433F-969A-168CD382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D8448-E693-4A58-8212-01721B4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AE3D0-1DFF-432D-8C72-A36C885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531B9-B24C-485D-91A7-1A5695E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C87E-2FAA-4DBA-90E4-DC6B80F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3C5A-38D3-4820-AE54-789E4A4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E374E-7440-4030-A02F-4A72BA56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915AC-288F-47AE-BADF-68A5B4F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6908F-EA88-4CD2-A837-0C345CBD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B5E-7E58-4A75-8C01-0ADAECC1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D0071-ADFB-4933-8F9E-EC753B1E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CBD92-2AE6-48AE-9AAC-9AFFF701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CC53-E480-4EB8-AC80-569B4C6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F857C-6606-46F8-AE25-9873245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5A0D-F246-4F15-8DAD-5AF7EA9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7E723-4993-4650-AD1E-E850820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0CDBC-5A21-4295-A119-BB0FE46D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C5BA-F952-4D45-9948-C69C824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FC96-70A4-4ECF-BCA8-96354AE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9CA76-4ABE-4343-9983-8FC4D77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DD06-CC45-4F3E-ABBD-0C56AED5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04228-4A75-4FCD-9C01-DE2920B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10308-9D7F-4CC7-A3D9-43AAF781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C6451-5AF7-4901-87CD-6E1117C4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1BFE0-C7C9-4337-84DE-1B60742D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C321A-168A-4862-946D-918FE8B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767D4-7D99-47C9-AEB7-5BF64E8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72802-81CB-491C-A0A7-0CB146E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7339-2CB9-4A48-8BE0-B3E4777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B3C68-E003-4841-9E30-65BB12D5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6500D-F468-4C1D-9D0E-7096CCB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158-D0F5-40E9-ACF2-52F297D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D6D0F-DCB6-4B69-8EBC-F87375A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AB1B0-2B25-4501-A07E-7298748A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08C90-43DF-46FC-96B3-EF1EE68E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E4EC-39E3-40F1-BB61-339B54E2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BB32F-2A58-4152-889B-FF20EEAE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F8C-2630-4328-B154-472921E3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78D2-59A6-48C1-96C8-B6EF134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011E-94A5-42B8-95A3-6FC0FA5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E99D-8BA7-4567-B2B6-F183F46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FBA-BE7F-41C7-9438-2DBDF0E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59D-0DC2-41A9-872D-C6D640B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B4E-5033-4A04-B250-C3D1EDF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ABFF-E2C6-49A7-A7FC-2209936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586C-D7A2-46DA-BC6F-372C49E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0E5-9606-44FF-B698-1EF5F62A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084-E540-466C-A505-2DCEABC6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7569-9F16-432B-A94F-B9C7F988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696C-5D78-4AD4-BC44-0444D50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370E-0802-4C4B-BD92-85BA4CA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B6F2-BC35-4D6A-859F-230E9256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1EF8-4B37-47D2-A9CA-46B721F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5E9-08EA-4874-915E-AC1B813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79B3-9F16-493D-8BDA-3C9791B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F3F2-33D0-4232-932A-7A801FC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9009-8AD9-4079-B079-89EF7574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1F48-BD03-40CE-8504-9AA70E5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E9B1-BE15-4F30-AE53-3FA4C564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F10E-4045-46AD-9417-09D10A6B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BE44-1EB4-490D-8D7F-113007E5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79BA-FB03-4E00-B71E-40F4E08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2D78-A46A-4BD3-A1F8-DB3DD91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00A0-8FE9-4492-B581-DE31E4D0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2E3-5C0C-482D-8A58-75FA418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A7702-1B31-4C40-A4A9-DA26139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F870-C032-439C-9934-39CF7215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01A1-1630-4A22-B73B-B983FFCD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F073-266D-4687-A0D9-52B33F4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4972-7778-4958-8E21-7BD7ADC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599B-5FCF-4D01-BC92-EDB034B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7821-A393-4CF8-AE93-701B9C6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8710-250A-47B3-A9D7-B20116C7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1AFF-3C3D-442F-9258-2A5EBC5A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BFD7-5497-4BCE-B01A-167CA96C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969-E138-4A1E-981C-ABD13C8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C1B1-1BDC-4B58-82A3-19E82C7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BFA3-4CDF-4BB9-8E5E-A6A9F5A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4F4A-0882-43D0-AFFE-0F432A9A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FE08-38B2-45DB-8205-E54AB48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3E8A-E074-4408-A083-159F7CB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1CC8-4CF7-4F66-97BB-96B6A45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B03C0-AD48-4FB5-853B-6E7F05F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F56C-95A6-46FB-ADD8-B1AAC2B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317D-17B6-4699-95FF-8E64DA7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6F18-6851-4CE8-A38F-2AD7A6C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106-47C9-4D1F-A465-9AF43CE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5A8D-20F3-4A1D-88C5-8BCC1045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E4A3-0A97-40C4-9D3D-CD507F2E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B10A-93CD-4BD3-87BF-89DFCA0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F625-C1AD-4D43-8FB0-ECBE867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824B5-DD99-4A51-8849-4B6ACCD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22EF-E439-487C-B75B-13964E5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9C1A-FF32-49D7-8095-658E293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27F2-507D-44F1-8199-2EC9550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091F-B626-49F1-9553-8114E9C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E71D-C68F-4971-B67C-3168746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306-C3CF-462F-95AE-7D131D0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1F417-6646-40D7-B22A-D014433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939B5-E1E6-40FA-AF88-07DB4839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709C-E7DC-4ACA-9DBD-8AB18DEC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D226-14E9-43D8-AD61-E2B94501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027F-B4B1-4DBF-AC6D-87CA6800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B2FF1-7655-4DC1-9A4F-7034463E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F630-7D19-4289-8CA8-BC8B8102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2913-C739-42E0-9D78-46E908E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C794E-57DD-45A6-9E51-371AD9F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2B7E-8EA8-4F7B-A44D-AAB1ADA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FEE-D207-454F-B29A-1D54EC0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B99D-48E4-488E-B5E8-6B15372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68F8-08DD-4B6E-A4D0-44E5248C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60FB-CBB0-414C-9939-FEC6142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23234-9464-4A68-9289-200AB114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FE44-0778-405B-A091-4C31F75B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0C374-934D-4B4D-A02E-3047AF01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6A8F-96E6-4A2C-BFD8-808C0E5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A826-7630-440B-803B-4CBADE87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3501-8124-440E-99C7-7A86E297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A436-A1D0-43C7-9E14-103F821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218-2FA6-40F6-B422-0C6FD3F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26A8-E295-48B3-8255-44939EB3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4ED3D-B021-4AC7-BF63-EA06636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9CE3-C223-4463-A53E-D42C0D82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E379-A5ED-4F52-8268-EB2FC58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1FB43-02C5-48B7-B36A-B29CA542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E27D1-E335-4EEC-988D-605FC83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89CC-2191-493D-AE5F-84E70174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EF461-0247-4814-B3ED-943F15CF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00DB3-F747-4983-99C8-66C4D143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738BB-30A2-44CF-9FE3-63292B0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7FC2-F72D-4FB5-879F-F98DC73BE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951-D373-438B-BE2E-EEABE2CBD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563-3005-4344-8F7A-FCEC0B3DC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3D5-1BA0-451A-9F5B-231AC2976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D46-9B64-45FD-8DC7-8EF76B6BF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C80-BEB1-4BD3-9AF7-6C4931958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E50-956C-4A86-ABEC-1D0BDEECC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499-1F5C-4ED5-BC41-131226401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06EF-96C1-46C8-887C-C898BA1DD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BC43-7E1C-4D5E-B72E-B8DEE375E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580-CDEA-48A5-BBED-9F936E5B1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9073-2CD2-41DF-9A9B-CD1B3DBDD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6</a:t>
            </a: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Find the differ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250920" y="301680"/>
            <a:ext cx="88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lut! On vous présente notre ville. Aujourd’hu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lleville est une ville très                   . Il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beaucoup de              et de  . Le          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ès         . Il y a des           ,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 5           dans le parc. Il y a u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’est très               ! Notre école  ( qui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z  moderne ) est au centre ville, à côté du p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" descr="C:\Documents and Settings\rmo\Local Settings\Temporary Internet Files\Content.IE5\MZORXZN6\MP900442446[1].jpg"/>
          <p:cNvPicPr/>
          <p:nvPr/>
        </p:nvPicPr>
        <p:blipFill>
          <a:blip r:embed="rId1"/>
          <a:stretch/>
        </p:blipFill>
        <p:spPr>
          <a:xfrm>
            <a:off x="5003640" y="1197000"/>
            <a:ext cx="1440000" cy="51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C:\Documents and Settings\rmo\Local Settings\Temporary Internet Files\Content.IE5\4TAQA0SR\MC900432223[1].wmf"/>
          <p:cNvPicPr/>
          <p:nvPr/>
        </p:nvPicPr>
        <p:blipFill>
          <a:blip r:embed="rId2"/>
          <a:stretch/>
        </p:blipFill>
        <p:spPr>
          <a:xfrm>
            <a:off x="2771640" y="1773360"/>
            <a:ext cx="1295640" cy="780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C:\Documents and Settings\rmo\Local Settings\Temporary Internet Files\Content.IE5\IJEJRDOU\MP900443612[1].jpg"/>
          <p:cNvPicPr/>
          <p:nvPr/>
        </p:nvPicPr>
        <p:blipFill>
          <a:blip r:embed="rId3"/>
          <a:stretch/>
        </p:blipFill>
        <p:spPr>
          <a:xfrm>
            <a:off x="5867280" y="1916280"/>
            <a:ext cx="900360" cy="6030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6"/>
          <p:cNvSpPr/>
          <p:nvPr/>
        </p:nvSpPr>
        <p:spPr>
          <a:xfrm>
            <a:off x="1258920" y="2924280"/>
            <a:ext cx="576360" cy="433440"/>
          </a:xfrm>
          <a:prstGeom prst="rect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Documents and Settings\rmo\Local Settings\Temporary Internet Files\Content.IE5\4TAQA0SR\MC900445164[1].wmf"/>
          <p:cNvPicPr/>
          <p:nvPr/>
        </p:nvPicPr>
        <p:blipFill>
          <a:blip r:embed="rId4"/>
          <a:stretch/>
        </p:blipFill>
        <p:spPr>
          <a:xfrm>
            <a:off x="3995640" y="2781360"/>
            <a:ext cx="720720" cy="717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C:\Documents and Settings\rmo\Local Settings\Temporary Internet Files\Content.IE5\IJEJRDOU\MC900326486[1].wmf"/>
          <p:cNvPicPr/>
          <p:nvPr/>
        </p:nvPicPr>
        <p:blipFill>
          <a:blip r:embed="rId5"/>
          <a:stretch/>
        </p:blipFill>
        <p:spPr>
          <a:xfrm>
            <a:off x="6084720" y="2781360"/>
            <a:ext cx="573120" cy="665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C:\Documents and Settings\rmo\Local Settings\Temporary Internet Files\Content.IE5\82ILJ9V9\MC900000928[1].wmf"/>
          <p:cNvPicPr/>
          <p:nvPr/>
        </p:nvPicPr>
        <p:blipFill>
          <a:blip r:embed="rId6"/>
          <a:stretch/>
        </p:blipFill>
        <p:spPr>
          <a:xfrm>
            <a:off x="1476360" y="3645000"/>
            <a:ext cx="396720" cy="609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C:\Documents and Settings\rmo\Local Settings\Temporary Internet Files\Content.IE5\IJEJRDOU\MP900424262[1].jpg"/>
          <p:cNvPicPr/>
          <p:nvPr/>
        </p:nvPicPr>
        <p:blipFill>
          <a:blip r:embed="rId7"/>
          <a:stretch/>
        </p:blipFill>
        <p:spPr>
          <a:xfrm>
            <a:off x="6300720" y="3789360"/>
            <a:ext cx="770040" cy="503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C:\Documents and Settings\rmo\Local Settings\Temporary Internet Files\Content.IE5\4TAQA0SR\MP900448312[1].jpg"/>
          <p:cNvPicPr/>
          <p:nvPr/>
        </p:nvPicPr>
        <p:blipFill>
          <a:blip r:embed="rId8"/>
          <a:stretch/>
        </p:blipFill>
        <p:spPr>
          <a:xfrm>
            <a:off x="2484360" y="4508640"/>
            <a:ext cx="10065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179280" y="573264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jourd’hui, Belleville est une ville très grande et anim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C:\Documents and Settings\rmo\Local Settings\Temporary Internet Files\Content.IE5\82ILJ9V9\MC900101034[1].wmf"/>
          <p:cNvPicPr/>
          <p:nvPr/>
        </p:nvPicPr>
        <p:blipFill>
          <a:blip r:embed="rId1"/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http://t2.gstatic.com/images?q=tbn:ANd9GcSehSo4NWN1tPpi4gC5HhCXWp0WCzpu0NQS9_G0TF74X332xHCsgg"/>
          <p:cNvPicPr/>
          <p:nvPr/>
        </p:nvPicPr>
        <p:blipFill>
          <a:blip r:embed="rId1"/>
          <a:stretch/>
        </p:blipFill>
        <p:spPr>
          <a:xfrm>
            <a:off x="684360" y="476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179280" y="57326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beaucoup de voitures et de maga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rmo\Local Settings\Temporary Internet Files\Content.IE5\82ILJ9V9\MC900101034[1].wmf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C:\Documents and Settings\rmo\Local Settings\Temporary Internet Files\Content.IE5\4TAQA0SR\MC900233467[1].wmf"/>
          <p:cNvPicPr/>
          <p:nvPr/>
        </p:nvPicPr>
        <p:blipFill>
          <a:blip r:embed="rId2"/>
          <a:stretch/>
        </p:blipFill>
        <p:spPr>
          <a:xfrm>
            <a:off x="179280" y="3716280"/>
            <a:ext cx="1976400" cy="122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Documents and Settings\rmo\Local Settings\Temporary Internet Files\Content.IE5\82ILJ9V9\MC900368448[1].wmf"/>
          <p:cNvPicPr/>
          <p:nvPr/>
        </p:nvPicPr>
        <p:blipFill>
          <a:blip r:embed="rId3"/>
          <a:stretch/>
        </p:blipFill>
        <p:spPr>
          <a:xfrm>
            <a:off x="4859280" y="3716280"/>
            <a:ext cx="1819440" cy="1381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C:\Documents and Settings\rmo\Local Settings\Temporary Internet Files\Content.IE5\IJEJRDOU\MC900100710[1].wmf"/>
          <p:cNvPicPr/>
          <p:nvPr/>
        </p:nvPicPr>
        <p:blipFill>
          <a:blip r:embed="rId4"/>
          <a:stretch/>
        </p:blipFill>
        <p:spPr>
          <a:xfrm>
            <a:off x="7002360" y="3500280"/>
            <a:ext cx="2141640" cy="1582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C:\Documents and Settings\rmo\Local Settings\Temporary Internet Files\Content.IE5\4TAQA0SR\MC900085274[1].wmf"/>
          <p:cNvPicPr/>
          <p:nvPr/>
        </p:nvPicPr>
        <p:blipFill>
          <a:blip r:embed="rId5"/>
          <a:stretch/>
        </p:blipFill>
        <p:spPr>
          <a:xfrm>
            <a:off x="2700360" y="3789360"/>
            <a:ext cx="1727280" cy="947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C:\Documents and Settings\rmo\Local Settings\Temporary Internet Files\Content.IE5\IJEJRDOU\MC900301140[1].wmf"/>
          <p:cNvPicPr/>
          <p:nvPr/>
        </p:nvPicPr>
        <p:blipFill>
          <a:blip r:embed="rId6"/>
          <a:stretch/>
        </p:blipFill>
        <p:spPr>
          <a:xfrm>
            <a:off x="0" y="1844640"/>
            <a:ext cx="1814400" cy="1717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C:\Documents and Settings\rmo\Local Settings\Temporary Internet Files\Content.IE5\82ILJ9V9\MC900149635[1].wmf"/>
          <p:cNvPicPr/>
          <p:nvPr/>
        </p:nvPicPr>
        <p:blipFill>
          <a:blip r:embed="rId7"/>
          <a:stretch/>
        </p:blipFill>
        <p:spPr>
          <a:xfrm>
            <a:off x="1547640" y="1700280"/>
            <a:ext cx="1441800" cy="1873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C:\Documents and Settings\rmo\Local Settings\Temporary Internet Files\Content.IE5\IJEJRDOU\MC900301128[1].wmf"/>
          <p:cNvPicPr/>
          <p:nvPr/>
        </p:nvPicPr>
        <p:blipFill>
          <a:blip r:embed="rId8"/>
          <a:stretch/>
        </p:blipFill>
        <p:spPr>
          <a:xfrm>
            <a:off x="2771640" y="1989000"/>
            <a:ext cx="1801800" cy="1532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C:\Documents and Settings\rmo\Local Settings\Temporary Internet Files\Content.IE5\IJEJRDOU\MC900089336[1].wmf"/>
          <p:cNvPicPr/>
          <p:nvPr/>
        </p:nvPicPr>
        <p:blipFill>
          <a:blip r:embed="rId9"/>
          <a:stretch/>
        </p:blipFill>
        <p:spPr>
          <a:xfrm>
            <a:off x="4427640" y="1989000"/>
            <a:ext cx="1666800" cy="1820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C:\Documents and Settings\rmo\Local Settings\Temporary Internet Files\Content.IE5\4TAQA0SR\MC900082851[1].wmf"/>
          <p:cNvPicPr/>
          <p:nvPr/>
        </p:nvPicPr>
        <p:blipFill>
          <a:blip r:embed="rId10"/>
          <a:stretch/>
        </p:blipFill>
        <p:spPr>
          <a:xfrm>
            <a:off x="5940360" y="2205000"/>
            <a:ext cx="1860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http://t2.gstatic.com/images?q=tbn:ANd9GcSehSo4NWN1tPpi4gC5HhCXWp0WCzpu0NQS9_G0TF74X332xHCsgg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4608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C:\Documents and Settings\rmo\Local Settings\Temporary Internet Files\Content.IE5\MZORXZN6\MC900413474[1].wmf"/>
          <p:cNvPicPr/>
          <p:nvPr/>
        </p:nvPicPr>
        <p:blipFill>
          <a:blip r:embed="rId2"/>
          <a:stretch/>
        </p:blipFill>
        <p:spPr>
          <a:xfrm>
            <a:off x="0" y="3429000"/>
            <a:ext cx="2058840" cy="1558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Documents and Settings\rmo\Local Settings\Temporary Internet Files\Content.IE5\82ILJ9V9\MC900311228[1].wmf"/>
          <p:cNvPicPr/>
          <p:nvPr/>
        </p:nvPicPr>
        <p:blipFill>
          <a:blip r:embed="rId3"/>
          <a:stretch/>
        </p:blipFill>
        <p:spPr>
          <a:xfrm>
            <a:off x="2340000" y="3716280"/>
            <a:ext cx="1825560" cy="1152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C:\Documents and Settings\rmo\Local Settings\Temporary Internet Files\Content.IE5\4TAQA0SR\MC900238172[1].wmf"/>
          <p:cNvPicPr/>
          <p:nvPr/>
        </p:nvPicPr>
        <p:blipFill>
          <a:blip r:embed="rId4"/>
          <a:stretch/>
        </p:blipFill>
        <p:spPr>
          <a:xfrm>
            <a:off x="4500720" y="3357720"/>
            <a:ext cx="2001600" cy="1725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C:\Documents and Settings\rmo\Local Settings\Temporary Internet Files\Content.IE5\MZORXZN6\MC900191747[1].wmf"/>
          <p:cNvPicPr/>
          <p:nvPr/>
        </p:nvPicPr>
        <p:blipFill>
          <a:blip r:embed="rId5"/>
          <a:stretch/>
        </p:blipFill>
        <p:spPr>
          <a:xfrm>
            <a:off x="6659640" y="3573360"/>
            <a:ext cx="2023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1979640" y="566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’église est très 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C:\Documents and Settings\rmo\Local Settings\Temporary Internet Files\Content.IE5\82ILJ9V9\MC900101034[1].wmf"/>
          <p:cNvPicPr/>
          <p:nvPr/>
        </p:nvPicPr>
        <p:blipFill>
          <a:blip r:embed="rId1"/>
          <a:stretch/>
        </p:blipFill>
        <p:spPr>
          <a:xfrm>
            <a:off x="38160" y="-11160"/>
            <a:ext cx="8926560" cy="502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Documents and Settings\rmo\Local Settings\Temporary Internet Files\Content.IE5\MZORXZN6\MC900434848[1].png"/>
          <p:cNvPicPr/>
          <p:nvPr/>
        </p:nvPicPr>
        <p:blipFill>
          <a:blip r:embed="rId2"/>
          <a:stretch/>
        </p:blipFill>
        <p:spPr>
          <a:xfrm>
            <a:off x="2987640" y="2571840"/>
            <a:ext cx="244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http://star-www.dur.ac.uk/~jra/mill.jpg"/>
          <p:cNvPicPr/>
          <p:nvPr/>
        </p:nvPicPr>
        <p:blipFill>
          <a:blip r:embed="rId1"/>
          <a:stretch/>
        </p:blipFill>
        <p:spPr>
          <a:xfrm>
            <a:off x="611280" y="0"/>
            <a:ext cx="8208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2411280" y="5732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un grand st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C:\Documents and Settings\rmo\Local Settings\Temporary Internet Files\Content.IE5\4TAQA0SR\MP910218843[1].jpg"/>
          <p:cNvPicPr/>
          <p:nvPr/>
        </p:nvPicPr>
        <p:blipFill>
          <a:blip r:embed="rId1"/>
          <a:stretch/>
        </p:blipFill>
        <p:spPr>
          <a:xfrm>
            <a:off x="1403280" y="765000"/>
            <a:ext cx="64008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0" descr="http://t1.gstatic.com/images?q=tbn:ANd9GcSznl5TXDHdZKzUqBfeKfuam_uVQTkoCv7YM6GHAgmUAR88SQYw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514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8"/>
          <p:cNvSpPr/>
          <p:nvPr/>
        </p:nvSpPr>
        <p:spPr>
          <a:xfrm>
            <a:off x="1835280" y="20606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listen and respond to classroom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3"/>
          <p:cNvSpPr/>
          <p:nvPr/>
        </p:nvSpPr>
        <p:spPr>
          <a:xfrm>
            <a:off x="361080" y="620640"/>
            <a:ext cx="98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 Aujourd’hui Belle ville est très petite.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7451640" y="69228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8244000" y="69228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7"/>
          <p:cNvSpPr/>
          <p:nvPr/>
        </p:nvSpPr>
        <p:spPr>
          <a:xfrm>
            <a:off x="0" y="162864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 Aujourd’hui l’église est b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7451640" y="1557360"/>
            <a:ext cx="4334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8244000" y="1557360"/>
            <a:ext cx="4316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0" y="249228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 Aujourd’hui il y a trois resta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7451640" y="249228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8244000" y="249228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4"/>
          <p:cNvSpPr/>
          <p:nvPr/>
        </p:nvSpPr>
        <p:spPr>
          <a:xfrm flipV="1" rot="10800000">
            <a:off x="0" y="32839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 En 1948 Belleville était ca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7451640" y="328464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8244000" y="328464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7"/>
          <p:cNvSpPr/>
          <p:nvPr/>
        </p:nvSpPr>
        <p:spPr>
          <a:xfrm>
            <a:off x="0" y="4076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  En 1948 il y avait deux chocola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"/>
          <p:cNvSpPr/>
          <p:nvPr/>
        </p:nvSpPr>
        <p:spPr>
          <a:xfrm>
            <a:off x="7451640" y="407664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9"/>
          <p:cNvSpPr/>
          <p:nvPr/>
        </p:nvSpPr>
        <p:spPr>
          <a:xfrm>
            <a:off x="8244000" y="407664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0"/>
          <p:cNvSpPr/>
          <p:nvPr/>
        </p:nvSpPr>
        <p:spPr>
          <a:xfrm>
            <a:off x="0" y="486900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  En 1948 les magasins étaient pet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7451640" y="4941720"/>
            <a:ext cx="4334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2"/>
          <p:cNvSpPr/>
          <p:nvPr/>
        </p:nvSpPr>
        <p:spPr>
          <a:xfrm>
            <a:off x="8244000" y="4941720"/>
            <a:ext cx="43164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7451640" y="0"/>
            <a:ext cx="433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4"/>
          <p:cNvSpPr/>
          <p:nvPr/>
        </p:nvSpPr>
        <p:spPr>
          <a:xfrm>
            <a:off x="8244000" y="0"/>
            <a:ext cx="431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2099880" y="2602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ch the two halves of the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250200" y="12682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beaucoup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4636440" y="371628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itures et de m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380160" y="249228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 y a des cafés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4718880" y="486900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ois supermarch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"/>
          <p:cNvSpPr/>
          <p:nvPr/>
        </p:nvSpPr>
        <p:spPr>
          <a:xfrm>
            <a:off x="312840" y="364500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4737600" y="12682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 centre 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363600" y="486900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4642920" y="249228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 assez mod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1038240" y="191628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n mil neuf cent quarante h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n’y avait pas de restaur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134160" y="3333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ch word is miss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453960" y="1052640"/>
            <a:ext cx="7610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 ____________ de voitures et de maga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’église est très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re école est au _</a:t>
            </a: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______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___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 la ville __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____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_____ plus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__  _______ des petites mai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n’y avait pas de restaurant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y avait deux vieux caf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1525680" y="105264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beauc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3105000" y="19162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472920" y="278136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3060720" y="364500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617040" y="443700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y av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5173920" y="530064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omic Sans MS"/>
              </a:rPr>
              <a:t>m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http://t3.gstatic.com/images?q=tbn:ANd9GcRnDCrzUdJrZIIv87rZxuJrBmvKEIMX1YUkVEX4SEkPvGBhYH03"/>
          <p:cNvPicPr/>
          <p:nvPr/>
        </p:nvPicPr>
        <p:blipFill>
          <a:blip r:embed="rId1"/>
          <a:stretch/>
        </p:blipFill>
        <p:spPr>
          <a:xfrm>
            <a:off x="900000" y="981000"/>
            <a:ext cx="74520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http://t1.gstatic.com/images?q=tbn:ANd9GcQg0t_2qS-mkzGI0ZIvBpJLbWNzW2s2cF3HCEI0BUqHYk8gauxyNg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http://ts3.mm.bing.net/images/thumbnail.aspx?q=810714016570&amp;id=c260038726d7f426bc26881b793898a5&amp;url=http%3a%2f%2fwww.lakelandcottages.co.uk%2fblog%2fwp-content%2fuploads%2fBusy-Market-Keswick.jpg"/>
          <p:cNvPicPr/>
          <p:nvPr/>
        </p:nvPicPr>
        <p:blipFill>
          <a:blip r:embed="rId1"/>
          <a:stretch/>
        </p:blipFill>
        <p:spPr>
          <a:xfrm>
            <a:off x="1116000" y="907920"/>
            <a:ext cx="720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8:43:13Z</dcterms:modified>
  <cp:revision>196</cp:revision>
  <dc:subject/>
  <dc:title>KS2 Yr 5 French – Lesson 1  </dc:title>
</cp:coreProperties>
</file>