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3.gif" ContentType="image/gif"/>
  <Override PartName="/ppt/media/image10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7.wmf" ContentType="image/x-wmf"/>
  <Override PartName="/ppt/media/image16.wmf" ContentType="image/x-wmf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18.wmf" ContentType="image/x-wmf"/>
  <Override PartName="/ppt/media/image5.jpeg" ContentType="image/jpeg"/>
  <Override PartName="/ppt/media/image9.wmf" ContentType="image/x-wmf"/>
  <Override PartName="/ppt/media/image11.gif" ContentType="image/gif"/>
  <Override PartName="/ppt/media/image2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88F9-3618-4155-98E6-D7DDCED6F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F509-C3C2-48F0-A3B0-A9242512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BB65-671D-426D-A43B-D13E9C585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F926-94C4-4A4A-AB0A-7CEEAE835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95BD3-024D-4631-9963-5FE671D2A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3316-495E-43E0-8C71-40F825AC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82235-2C34-4860-8A8C-22AA19F1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DB54-57D9-4162-8240-F4031FC1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D1C7-BB0A-49B2-984F-CABEADEB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D099-6C05-422E-9227-F6DD1AFE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5754-B23B-4916-9E17-32EBBDB5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57B2-58A3-4E96-B67B-1E6000D1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F9BA-C74E-4E7C-B716-47ADCA23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D755-7779-4AA0-B038-C5EDCCAA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EF757-107B-490E-94E4-B8F1AA6A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5A95-21E6-42C4-8AE2-3FADCA8EB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ECEE0-63BD-422D-BCC2-9D4765ADC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14DF8-E777-4B55-985B-2C7B6C560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6716E-F650-44A8-84E1-197E3A85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7987B-D4A2-48BD-BABE-B94E10B3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BE2F5-67E9-4FF7-89D6-0A5A92DF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3B931-2F76-49BA-A5A5-8A5A2384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7231-F2CF-42C9-AE19-5DF834A6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B91AF-3F56-4648-8C98-FF8624B1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3CACF-1441-4F23-973A-8174BBB9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826C2-EA5E-4EB4-8328-60A57BDD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26B22-DDE7-4601-B288-E9CADF6D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D51A6-3D8A-4126-AED1-154520A8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D808C-D48C-4A59-879E-E00C837DB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734DE-110B-4EE5-88C0-BE61B7957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66E7-6387-45EE-AC36-B125EF5A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6967-7481-467D-9953-F716064E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9281-4A51-43D6-9870-310867EE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4B7F-898E-4D60-917E-E0EDAAEC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B949-AD65-4A84-9BF1-A1C58DE0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8D4F-B9DC-46C5-B964-07FE42E8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c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732a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9094b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6AEB-672E-471D-90BA-CFEBD3AC06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9094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9094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F840-B13E-4630-8006-B87202D89B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909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c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732a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9094b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7D88-F624-42DA-9063-B632B173DE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gif"/><Relationship Id="rId7" Type="http://schemas.openxmlformats.org/officeDocument/2006/relationships/image" Target="../media/image12.wmf"/><Relationship Id="rId8" Type="http://schemas.openxmlformats.org/officeDocument/2006/relationships/image" Target="../media/image13.gif"/><Relationship Id="rId9" Type="http://schemas.openxmlformats.org/officeDocument/2006/relationships/image" Target="../media/image13.gif"/><Relationship Id="rId10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9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KS2 Yr6 French – Lesson 89</a:t>
            </a:r>
            <a:br>
              <a:rPr sz="4000"/>
            </a:br>
            <a:br>
              <a:rPr sz="4800"/>
            </a:br>
            <a:endParaRPr b="0" lang="en-US" sz="40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600200" y="3504960"/>
            <a:ext cx="5943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ahoma"/>
                <a:ea typeface="Tahoma"/>
              </a:rPr>
              <a:t>At the café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21"/>
          <p:cNvGraphicFramePr/>
          <p:nvPr/>
        </p:nvGraphicFramePr>
        <p:xfrm>
          <a:off x="1600200" y="2133720"/>
          <a:ext cx="1305000" cy="86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130500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Picture 22" descr="Aidan's badge no background"/>
          <p:cNvPicPr/>
          <p:nvPr/>
        </p:nvPicPr>
        <p:blipFill>
          <a:blip r:embed="rId3"/>
          <a:stretch/>
        </p:blipFill>
        <p:spPr>
          <a:xfrm>
            <a:off x="3276720" y="1905120"/>
            <a:ext cx="1077840" cy="1323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3" descr="language collegelogo"/>
          <p:cNvPicPr/>
          <p:nvPr/>
        </p:nvPicPr>
        <p:blipFill>
          <a:blip r:embed="rId4"/>
          <a:stretch/>
        </p:blipFill>
        <p:spPr>
          <a:xfrm>
            <a:off x="4805280" y="1905120"/>
            <a:ext cx="986040" cy="132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Object 24"/>
          <p:cNvGraphicFramePr/>
          <p:nvPr/>
        </p:nvGraphicFramePr>
        <p:xfrm>
          <a:off x="6162840" y="2133720"/>
          <a:ext cx="1304640" cy="86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6" name="Object 2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62840" y="2133720"/>
                    <a:ext cx="130464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Impact"/>
              </a:rPr>
              <a:t>LEARNING OBJECTIVE</a:t>
            </a:r>
            <a:endParaRPr b="0" lang="en-US" sz="7200" spc="-1" strike="noStrike">
              <a:solidFill>
                <a:srgbClr val="3732a0"/>
              </a:solidFill>
              <a:latin typeface="Arial Black"/>
            </a:endParaRPr>
          </a:p>
        </p:txBody>
      </p:sp>
      <p:pic>
        <p:nvPicPr>
          <p:cNvPr id="138" name="Picture 25" descr=""/>
          <p:cNvPicPr/>
          <p:nvPr/>
        </p:nvPicPr>
        <p:blipFill>
          <a:blip r:embed="rId1"/>
          <a:stretch/>
        </p:blipFill>
        <p:spPr>
          <a:xfrm>
            <a:off x="1514520" y="1773360"/>
            <a:ext cx="6095880" cy="45003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28"/>
          <p:cNvSpPr/>
          <p:nvPr/>
        </p:nvSpPr>
        <p:spPr>
          <a:xfrm>
            <a:off x="1835280" y="2060640"/>
            <a:ext cx="482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</a:rPr>
              <a:t>To be able to read and understand some words on a french menu and use a bilingual diction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il_fi" descr="http://www.younghotelier.com/stories/ggf-hotels-french-cafe-de-la-pri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http://www.dineout.co.nz/assets/1094_Eiffel_Tower_Logo.JPG"/>
          <p:cNvPicPr/>
          <p:nvPr/>
        </p:nvPicPr>
        <p:blipFill>
          <a:blip r:embed="rId1"/>
          <a:stretch/>
        </p:blipFill>
        <p:spPr>
          <a:xfrm>
            <a:off x="3203640" y="189000"/>
            <a:ext cx="2089080" cy="1454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2" name="TextBox 2"/>
          <p:cNvSpPr/>
          <p:nvPr/>
        </p:nvSpPr>
        <p:spPr>
          <a:xfrm>
            <a:off x="0" y="1268280"/>
            <a:ext cx="5364000" cy="50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French Script MT"/>
              </a:rPr>
              <a:t>Les sandwic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fromage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7,00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u jambon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7,50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u pâté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8,00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u thon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7,00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French Script MT"/>
              </a:rPr>
              <a:t>Les sala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salade fermière: oeufs, lardons, épinards, laitue    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12,90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salade niçoise: thon, olives noires, oeuf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omates, haricots verts, laitue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12,90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French Script MT"/>
              </a:rPr>
              <a:t>Les sn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moules-frites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            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8,50 €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hamburger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6,00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croque-monsieur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6,00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izza                                        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7,00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ortion de chips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3,50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"/>
          <p:cNvSpPr/>
          <p:nvPr/>
        </p:nvSpPr>
        <p:spPr>
          <a:xfrm>
            <a:off x="3419640" y="-171360"/>
            <a:ext cx="165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French Script MT"/>
              </a:rPr>
              <a:t>Men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5398920" y="1268280"/>
            <a:ext cx="3745080" cy="63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French Script MT"/>
              </a:rPr>
              <a:t>Les gla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une glace au chocolat/ à la fraise/  à la framboise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à  la banane/ à  la vani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une boule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1,50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deux boules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3,00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French Script MT"/>
              </a:rPr>
              <a:t>Les boissons fro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eau minérale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 2,50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coca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2,00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jus d’orange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2,50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citron pressé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3,00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un milkshake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3,00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French Script MT"/>
              </a:rPr>
              <a:t>Boissons cha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é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3,00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café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1,50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café au lait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3,00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chocolat chaud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3,00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9" descr="C:\Documents and Settings\rmo\Local Settings\Temporary Internet Files\Content.IE5\4TAQA0SR\MC900250795[1].wmf"/>
          <p:cNvPicPr/>
          <p:nvPr/>
        </p:nvPicPr>
        <p:blipFill>
          <a:blip r:embed="rId2"/>
          <a:stretch/>
        </p:blipFill>
        <p:spPr>
          <a:xfrm rot="2327400">
            <a:off x="8740440" y="2873520"/>
            <a:ext cx="260280" cy="549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C:\Documents and Settings\rmo\Local Settings\Temporary Internet Files\Content.IE5\W9CTYRO3\MC900389376[1].wmf"/>
          <p:cNvPicPr/>
          <p:nvPr/>
        </p:nvPicPr>
        <p:blipFill>
          <a:blip r:embed="rId3"/>
          <a:stretch/>
        </p:blipFill>
        <p:spPr>
          <a:xfrm rot="2380800">
            <a:off x="8206920" y="4484520"/>
            <a:ext cx="569880" cy="541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C:\Documents and Settings\rmo\Local Settings\Temporary Internet Files\Content.IE5\82ILJ9V9\MC900445692[1].wmf"/>
          <p:cNvPicPr/>
          <p:nvPr/>
        </p:nvPicPr>
        <p:blipFill>
          <a:blip r:embed="rId4"/>
          <a:stretch/>
        </p:blipFill>
        <p:spPr>
          <a:xfrm rot="1502400">
            <a:off x="8502120" y="1224000"/>
            <a:ext cx="262080" cy="596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C:\Documents and Settings\rmo\Local Settings\Temporary Internet Files\Content.IE5\W9CTYRO3\MC900264396[1].wmf"/>
          <p:cNvPicPr/>
          <p:nvPr/>
        </p:nvPicPr>
        <p:blipFill>
          <a:blip r:embed="rId5"/>
          <a:stretch/>
        </p:blipFill>
        <p:spPr>
          <a:xfrm rot="18806400">
            <a:off x="2206440" y="1463760"/>
            <a:ext cx="674640" cy="319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C:\Documents and Settings\rmo\Local Settings\Temporary Internet Files\Content.IE5\4TAQA0SR\MM900223775[1].gif"/>
          <p:cNvPicPr/>
          <p:nvPr/>
        </p:nvPicPr>
        <p:blipFill>
          <a:blip r:embed="rId6"/>
          <a:stretch/>
        </p:blipFill>
        <p:spPr>
          <a:xfrm>
            <a:off x="2206800" y="2986200"/>
            <a:ext cx="596880" cy="476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4" descr="C:\Documents and Settings\rmo\Local Settings\Temporary Internet Files\Content.IE5\EZ2J61EL\MC900290234[1].wmf"/>
          <p:cNvPicPr/>
          <p:nvPr/>
        </p:nvPicPr>
        <p:blipFill>
          <a:blip r:embed="rId7"/>
          <a:stretch/>
        </p:blipFill>
        <p:spPr>
          <a:xfrm>
            <a:off x="2124000" y="4292640"/>
            <a:ext cx="647640" cy="574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5" descr="C:\Documents and Settings\rmo\Local Settings\Temporary Internet Files\Content.IE5\4TAQA0SR\MM900178248[1].gif"/>
          <p:cNvPicPr/>
          <p:nvPr/>
        </p:nvPicPr>
        <p:blipFill>
          <a:blip r:embed="rId8"/>
          <a:stretch/>
        </p:blipFill>
        <p:spPr>
          <a:xfrm>
            <a:off x="819144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5" descr="C:\Documents and Settings\rmo\Local Settings\Temporary Internet Files\Content.IE5\4TAQA0SR\MM900178248[1].gif"/>
          <p:cNvPicPr/>
          <p:nvPr/>
        </p:nvPicPr>
        <p:blipFill>
          <a:blip r:embed="rId9"/>
          <a:stretch/>
        </p:blipFill>
        <p:spPr>
          <a:xfrm>
            <a:off x="179280" y="11592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"/>
          <p:cNvSpPr/>
          <p:nvPr/>
        </p:nvSpPr>
        <p:spPr>
          <a:xfrm>
            <a:off x="2340000" y="138600"/>
            <a:ext cx="4680000" cy="69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Chanson....Vous désirez, Mada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Vous désirez, Vous désirez, Madame? Vous désirez? (x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Je voudrais un café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t un thé au lai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Une bière pour mon pèr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Vin blanc pour ma mer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Un hamburger, et puis un coc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Une glace à la fraise pour moi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Je voudrais des pommes frit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t une lemonad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uis un jus d’orang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andwich au jamb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Viola, Monsieur, Madam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arçon, merci bi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’addition....s’il vous plait! Ooh là là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http://t1.gstatic.com/images?q=tbn:ANd9GcQhP_8gg-NUX3SehqtMTgSiQpaCvCZuv6bBoCnc2an5WSD1_2Rv"/>
          <p:cNvPicPr/>
          <p:nvPr/>
        </p:nvPicPr>
        <p:blipFill>
          <a:blip r:embed="rId1"/>
          <a:stretch/>
        </p:blipFill>
        <p:spPr>
          <a:xfrm rot="20229600">
            <a:off x="995400" y="2391840"/>
            <a:ext cx="1116000" cy="720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C:\Documents and Settings\ruth.moreland.AIDANS\Local Settings\Temporary Internet Files\Content.IE5\W9CTYRO3\MC900433913[1].png"/>
          <p:cNvPicPr/>
          <p:nvPr/>
        </p:nvPicPr>
        <p:blipFill>
          <a:blip r:embed="rId2"/>
          <a:stretch/>
        </p:blipFill>
        <p:spPr>
          <a:xfrm rot="1567800">
            <a:off x="5687640" y="1520640"/>
            <a:ext cx="633600" cy="633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C:\Documents and Settings\ruth.moreland.AIDANS\Local Settings\Temporary Internet Files\Content.IE5\41H1J3T5\MC900445692[1].wmf"/>
          <p:cNvPicPr/>
          <p:nvPr/>
        </p:nvPicPr>
        <p:blipFill>
          <a:blip r:embed="rId3"/>
          <a:stretch/>
        </p:blipFill>
        <p:spPr>
          <a:xfrm>
            <a:off x="6372360" y="3213000"/>
            <a:ext cx="220680" cy="503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C:\Documents and Settings\ruth.moreland.AIDANS\Local Settings\Temporary Internet Files\Content.IE5\X0MAFQMS\MC900264280[1].wmf"/>
          <p:cNvPicPr/>
          <p:nvPr/>
        </p:nvPicPr>
        <p:blipFill>
          <a:blip r:embed="rId4"/>
          <a:stretch/>
        </p:blipFill>
        <p:spPr>
          <a:xfrm>
            <a:off x="1547640" y="3860640"/>
            <a:ext cx="527400" cy="5540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C:\Documents and Settings\ruth.moreland.AIDANS\Local Settings\Temporary Internet Files\Content.IE5\EZ2J61EL\MC900445724[1].wmf"/>
          <p:cNvPicPr/>
          <p:nvPr/>
        </p:nvPicPr>
        <p:blipFill>
          <a:blip r:embed="rId5"/>
          <a:stretch/>
        </p:blipFill>
        <p:spPr>
          <a:xfrm rot="1941000">
            <a:off x="6089400" y="4259160"/>
            <a:ext cx="331560" cy="657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C:\Documents and Settings\ruth.moreland.AIDANS\Local Settings\Temporary Internet Files\Content.IE5\29IRMX6H\MC900040048[1].wmf"/>
          <p:cNvPicPr/>
          <p:nvPr/>
        </p:nvPicPr>
        <p:blipFill>
          <a:blip r:embed="rId6"/>
          <a:stretch/>
        </p:blipFill>
        <p:spPr>
          <a:xfrm rot="20019000">
            <a:off x="1399680" y="4752720"/>
            <a:ext cx="893880" cy="51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2:00:26Z</dcterms:created>
  <dc:creator>Ben Dalglish</dc:creator>
  <dc:description/>
  <dc:language>en-US</dc:language>
  <cp:lastModifiedBy>Clare</cp:lastModifiedBy>
  <dcterms:modified xsi:type="dcterms:W3CDTF">2011-08-11T12:20:03Z</dcterms:modified>
  <cp:revision>228</cp:revision>
  <dc:subject/>
  <dc:title>KS2 Yr 5 French – Lesson 1  </dc:title>
</cp:coreProperties>
</file>