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gif" ContentType="image/gif"/>
  <Override PartName="/ppt/media/image10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2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12D-EBE4-45B3-8BE1-CDA6277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906-F2FD-4B97-A0D9-082B4A5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5B4-83F0-4ED8-96E3-CCA9E1A7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60C-61A2-4AC9-BD5B-149D0E39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0A2-F88D-4AD2-8482-FADB5097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9D3-9D7D-4BFC-9D56-E0AF9A8F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2BD-3592-4840-9B1F-019ADC66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895-64F0-458A-9D82-AC35B190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BC8D-C9F4-4C85-AA6E-4A406959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FCFC-0247-48D2-8F20-AE5693B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AEF-16A6-46E7-B150-FDABC82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456-0167-42A9-9700-AF526C4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A23C-5718-45AC-A0AF-CD3F4203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730-5C51-4A19-9754-B6B18EB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AD6-6E7A-4D38-92E3-BEC858F6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9F89-10B1-4544-81BF-7D467DB3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6E5-D12D-46A7-951A-8B7549C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07A9-B698-46C6-9B80-5686B52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5315-930B-44A3-B045-4553389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B673-A37D-4818-82D3-6FB4D62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A6F7-4163-4AC8-81EB-4673D1C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9F27-6FAB-44D3-9D7D-8A8D7E66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8F6-3014-4FEB-B385-38C855A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91B3-A24C-46CF-8FDE-E1DA9B67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F5E1-C327-43D7-B3CE-EF5C86B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D5EE-F7E6-4374-A605-36373BB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E133-29F6-4CD7-B554-9ED7E6E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9DAF-1846-499E-8C44-C7D83A1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ECDE-F740-4A8C-A817-9D7FFB64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2B17-50D5-439D-8420-80644B80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4CB-D272-468A-95FA-8E2AED0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D5A-0CF0-4D24-89D7-63C0297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A7A-9ABF-4366-8B53-352B7BE6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469-E105-4215-A282-ED1983D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168-41A6-4848-BEB0-B07983B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0CF-C14E-4091-BEB9-4A13ADB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EE16-476E-4737-ABDF-E16ED2B4B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504E-52BB-4FE2-8FB5-9946B870F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9CF-BDDE-4D1D-B6D6-992E84DF9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wm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9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At the caf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835280" y="2060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read and understand some words on a french menu and use a bilingual dictio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l_fi" descr="http://www.younghotelier.com/stories/ggf-hotels-french-cafe-de-la-pri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www.dineout.co.nz/assets/1094_Eiffel_Tower_Logo.JPG"/>
          <p:cNvPicPr/>
          <p:nvPr/>
        </p:nvPicPr>
        <p:blipFill>
          <a:blip r:embed="rId1"/>
          <a:stretch/>
        </p:blipFill>
        <p:spPr>
          <a:xfrm>
            <a:off x="3203640" y="189000"/>
            <a:ext cx="2089080" cy="14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TextBox 2"/>
          <p:cNvSpPr/>
          <p:nvPr/>
        </p:nvSpPr>
        <p:spPr>
          <a:xfrm>
            <a:off x="0" y="1268280"/>
            <a:ext cx="536400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andwic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roma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jambo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pât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8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thon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al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lade fermière: oeufs, lardons, épinards, laitue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2,9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lade niçoise: thon, olives noires, oeuf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omates, haricots verts, laitue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2,9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oules-frite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8,50 €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hamburge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6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roque-monsieu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6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izza                        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ortion de chip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419640" y="-171360"/>
            <a:ext cx="165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French Script MT"/>
              </a:rPr>
              <a:t>M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398920" y="1268280"/>
            <a:ext cx="374508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g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e glace au chocolat/ à la fraise/  à la framboise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à  la banane/ à  la van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e boul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ux boule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boissons fro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au minéral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2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ca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2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jus d’oran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2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itron press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 milkshak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Boissons cha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af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afé au lai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ocolat chau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:\Documents and Settings\rmo\Local Settings\Temporary Internet Files\Content.IE5\4TAQA0SR\MC900250795[1].wmf"/>
          <p:cNvPicPr/>
          <p:nvPr/>
        </p:nvPicPr>
        <p:blipFill>
          <a:blip r:embed="rId2"/>
          <a:stretch/>
        </p:blipFill>
        <p:spPr>
          <a:xfrm rot="2327400">
            <a:off x="8740440" y="2873520"/>
            <a:ext cx="260280" cy="54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:\Documents and Settings\rmo\Local Settings\Temporary Internet Files\Content.IE5\W9CTYRO3\MC900389376[1].wmf"/>
          <p:cNvPicPr/>
          <p:nvPr/>
        </p:nvPicPr>
        <p:blipFill>
          <a:blip r:embed="rId3"/>
          <a:stretch/>
        </p:blipFill>
        <p:spPr>
          <a:xfrm rot="2380800">
            <a:off x="8206920" y="4484520"/>
            <a:ext cx="569880" cy="54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C:\Documents and Settings\rmo\Local Settings\Temporary Internet Files\Content.IE5\82ILJ9V9\MC900445692[1].wmf"/>
          <p:cNvPicPr/>
          <p:nvPr/>
        </p:nvPicPr>
        <p:blipFill>
          <a:blip r:embed="rId4"/>
          <a:stretch/>
        </p:blipFill>
        <p:spPr>
          <a:xfrm rot="1502400">
            <a:off x="8502120" y="1224000"/>
            <a:ext cx="2620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C:\Documents and Settings\rmo\Local Settings\Temporary Internet Files\Content.IE5\W9CTYRO3\MC900264396[1].wmf"/>
          <p:cNvPicPr/>
          <p:nvPr/>
        </p:nvPicPr>
        <p:blipFill>
          <a:blip r:embed="rId5"/>
          <a:stretch/>
        </p:blipFill>
        <p:spPr>
          <a:xfrm rot="18806400">
            <a:off x="2206440" y="1463760"/>
            <a:ext cx="674640" cy="31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:\Documents and Settings\rmo\Local Settings\Temporary Internet Files\Content.IE5\4TAQA0SR\MM900223775[1].gif"/>
          <p:cNvPicPr/>
          <p:nvPr/>
        </p:nvPicPr>
        <p:blipFill>
          <a:blip r:embed="rId6"/>
          <a:stretch/>
        </p:blipFill>
        <p:spPr>
          <a:xfrm>
            <a:off x="2206800" y="2986200"/>
            <a:ext cx="59688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:\Documents and Settings\rmo\Local Settings\Temporary Internet Files\Content.IE5\EZ2J61EL\MC900290234[1].wmf"/>
          <p:cNvPicPr/>
          <p:nvPr/>
        </p:nvPicPr>
        <p:blipFill>
          <a:blip r:embed="rId7"/>
          <a:stretch/>
        </p:blipFill>
        <p:spPr>
          <a:xfrm>
            <a:off x="2124000" y="4292640"/>
            <a:ext cx="647640" cy="57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:\Documents and Settings\rmo\Local Settings\Temporary Internet Files\Content.IE5\4TAQA0SR\MM900178248[1].gif"/>
          <p:cNvPicPr/>
          <p:nvPr/>
        </p:nvPicPr>
        <p:blipFill>
          <a:blip r:embed="rId8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C:\Documents and Settings\rmo\Local Settings\Temporary Internet Files\Content.IE5\4TAQA0SR\MM900178248[1].gif"/>
          <p:cNvPicPr/>
          <p:nvPr/>
        </p:nvPicPr>
        <p:blipFill>
          <a:blip r:embed="rId9"/>
          <a:stretch/>
        </p:blipFill>
        <p:spPr>
          <a:xfrm>
            <a:off x="179280" y="115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340000" y="138600"/>
            <a:ext cx="4680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hanson....Vous désirez, Mad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désirez, Vous désirez, Madame? Vous désirez?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voudrais un caf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un thé au la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bière pour mon pè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n blanc pour ma me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hamburger, et puis un co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glace à la fraise pour mo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voudrais des pommes fri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une lemon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is un jus d’orang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ndwich au jamb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ola, Monsieur, Mad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rçon, merci bi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’addition....s’il vous plait! Ooh là l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ttp://t1.gstatic.com/images?q=tbn:ANd9GcQhP_8gg-NUX3SehqtMTgSiQpaCvCZuv6bBoCnc2an5WSD1_2Rv"/>
          <p:cNvPicPr/>
          <p:nvPr/>
        </p:nvPicPr>
        <p:blipFill>
          <a:blip r:embed="rId1"/>
          <a:stretch/>
        </p:blipFill>
        <p:spPr>
          <a:xfrm rot="20229600">
            <a:off x="995400" y="2391840"/>
            <a:ext cx="111600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ruth.moreland.AIDANS\Local Settings\Temporary Internet Files\Content.IE5\W9CTYRO3\MC900433913[1].png"/>
          <p:cNvPicPr/>
          <p:nvPr/>
        </p:nvPicPr>
        <p:blipFill>
          <a:blip r:embed="rId2"/>
          <a:stretch/>
        </p:blipFill>
        <p:spPr>
          <a:xfrm rot="1567800">
            <a:off x="5687640" y="1520640"/>
            <a:ext cx="633600" cy="63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Documents and Settings\ruth.moreland.AIDANS\Local Settings\Temporary Internet Files\Content.IE5\41H1J3T5\MC900445692[1].wmf"/>
          <p:cNvPicPr/>
          <p:nvPr/>
        </p:nvPicPr>
        <p:blipFill>
          <a:blip r:embed="rId3"/>
          <a:stretch/>
        </p:blipFill>
        <p:spPr>
          <a:xfrm>
            <a:off x="6372360" y="3213000"/>
            <a:ext cx="220680" cy="50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ruth.moreland.AIDANS\Local Settings\Temporary Internet Files\Content.IE5\X0MAFQMS\MC900264280[1].wmf"/>
          <p:cNvPicPr/>
          <p:nvPr/>
        </p:nvPicPr>
        <p:blipFill>
          <a:blip r:embed="rId4"/>
          <a:stretch/>
        </p:blipFill>
        <p:spPr>
          <a:xfrm>
            <a:off x="1547640" y="3860640"/>
            <a:ext cx="527400" cy="55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ruth.moreland.AIDANS\Local Settings\Temporary Internet Files\Content.IE5\EZ2J61EL\MC900445724[1].wmf"/>
          <p:cNvPicPr/>
          <p:nvPr/>
        </p:nvPicPr>
        <p:blipFill>
          <a:blip r:embed="rId5"/>
          <a:stretch/>
        </p:blipFill>
        <p:spPr>
          <a:xfrm rot="1941000">
            <a:off x="6089400" y="4259160"/>
            <a:ext cx="331560" cy="65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Documents and Settings\ruth.moreland.AIDANS\Local Settings\Temporary Internet Files\Content.IE5\29IRMX6H\MC900040048[1].wmf"/>
          <p:cNvPicPr/>
          <p:nvPr/>
        </p:nvPicPr>
        <p:blipFill>
          <a:blip r:embed="rId6"/>
          <a:stretch/>
        </p:blipFill>
        <p:spPr>
          <a:xfrm rot="20019000">
            <a:off x="1399680" y="4752720"/>
            <a:ext cx="893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8-11T12:20:03Z</dcterms:modified>
  <cp:revision>228</cp:revision>
  <dc:subject/>
  <dc:title>KS2 Yr 5 French – Lesson 1  </dc:title>
</cp:coreProperties>
</file>