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C6F-632C-4494-955E-648FF64E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4D6-C985-4EAE-A24F-FA683867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4F1-3A33-4314-A776-55C0293E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FFE-2E98-42B8-80B4-4AACADC1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AC7-4C1C-4503-9432-81713195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9DA-9A5E-417D-8343-292AD56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3EB-078D-48FA-BF74-72A30065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BB2-F752-4375-BDCB-B5AEB980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5A9-7E4B-44BC-8B9E-B7F0AB8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9DB-343C-4172-8444-68DAFE4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2EA-FEF9-4883-9A0B-39D881A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479-4703-4A72-A8E4-C236720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6F98-D1D2-48B7-8F79-B6B0FFC16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92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Tahoma"/>
              </a:rPr>
              <a:t>Vendeur de glac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1"/>
          <p:cNvGraphicFramePr/>
          <p:nvPr/>
        </p:nvGraphicFramePr>
        <p:xfrm>
          <a:off x="1403280" y="69228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69228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03640" y="404640"/>
            <a:ext cx="107784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language collegelogo"/>
          <p:cNvPicPr/>
          <p:nvPr/>
        </p:nvPicPr>
        <p:blipFill>
          <a:blip r:embed="rId4"/>
          <a:stretch/>
        </p:blipFill>
        <p:spPr>
          <a:xfrm>
            <a:off x="4716360" y="404640"/>
            <a:ext cx="98604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24"/>
          <p:cNvGraphicFramePr/>
          <p:nvPr/>
        </p:nvGraphicFramePr>
        <p:xfrm>
          <a:off x="6012000" y="54936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54936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492360" y="285264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539640" y="2924280"/>
            <a:ext cx="8208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1116000" y="33336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911320" y="404640"/>
            <a:ext cx="31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6732720" y="278136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3276720" y="2852640"/>
            <a:ext cx="82044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4932360" y="429264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C’est 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4000" y="6165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à la vani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516720" y="61657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à  la fra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877080" y="558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à l’abric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419640" y="64008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au caf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692360" y="566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u chocol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329 L 0.53924 -0.243 E">
                                      <p:cBhvr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4393 L -0.41354 -0.2326 E">
                                      <p:cBhvr>
                                        <p:cTn id="5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4393 L 0.09046 -0.4948 E">
                                      <p:cBhvr>
                                        <p:cTn id="5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3792 L 0.11806 -0.15145 E">
                                      <p:cBhvr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93642E-007 L -0.2125 -0.48254 E">
                                      <p:cBhvr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, deux ou trois bou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CFD00540_0000[1]"/>
          <p:cNvPicPr/>
          <p:nvPr/>
        </p:nvPicPr>
        <p:blipFill>
          <a:blip r:embed="rId1"/>
          <a:stretch/>
        </p:blipFill>
        <p:spPr>
          <a:xfrm>
            <a:off x="684360" y="3284640"/>
            <a:ext cx="1990440" cy="98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MCFD00540_0000[1]"/>
          <p:cNvPicPr/>
          <p:nvPr/>
        </p:nvPicPr>
        <p:blipFill>
          <a:blip r:embed="rId2"/>
          <a:stretch/>
        </p:blipFill>
        <p:spPr>
          <a:xfrm>
            <a:off x="6372360" y="5013360"/>
            <a:ext cx="1990440" cy="98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FD00540_0000[1]"/>
          <p:cNvPicPr/>
          <p:nvPr/>
        </p:nvPicPr>
        <p:blipFill>
          <a:blip r:embed="rId3"/>
          <a:stretch/>
        </p:blipFill>
        <p:spPr>
          <a:xfrm>
            <a:off x="3635280" y="4365720"/>
            <a:ext cx="1990800" cy="98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FD00540_0000[1]"/>
          <p:cNvPicPr/>
          <p:nvPr/>
        </p:nvPicPr>
        <p:blipFill>
          <a:blip r:embed="rId4"/>
          <a:stretch/>
        </p:blipFill>
        <p:spPr>
          <a:xfrm>
            <a:off x="6372360" y="4005360"/>
            <a:ext cx="1990440" cy="98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CFD00540_0000[1]"/>
          <p:cNvPicPr/>
          <p:nvPr/>
        </p:nvPicPr>
        <p:blipFill>
          <a:blip r:embed="rId5"/>
          <a:stretch/>
        </p:blipFill>
        <p:spPr>
          <a:xfrm>
            <a:off x="6227640" y="2997360"/>
            <a:ext cx="1990800" cy="98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CFD00540_0000[1]"/>
          <p:cNvPicPr/>
          <p:nvPr/>
        </p:nvPicPr>
        <p:blipFill>
          <a:blip r:embed="rId6"/>
          <a:stretch/>
        </p:blipFill>
        <p:spPr>
          <a:xfrm>
            <a:off x="3564000" y="3213000"/>
            <a:ext cx="1990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’est combi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eur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ux eur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ois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j04339640000[1]"/>
          <p:cNvPicPr/>
          <p:nvPr/>
        </p:nvPicPr>
        <p:blipFill>
          <a:blip r:embed="rId1"/>
          <a:stretch/>
        </p:blipFill>
        <p:spPr>
          <a:xfrm>
            <a:off x="826920" y="263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Cj04339640000[1]"/>
          <p:cNvPicPr/>
          <p:nvPr/>
        </p:nvPicPr>
        <p:blipFill>
          <a:blip r:embed="rId2"/>
          <a:stretch/>
        </p:blipFill>
        <p:spPr>
          <a:xfrm>
            <a:off x="3851280" y="2484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MCj04339640000[1]"/>
          <p:cNvPicPr/>
          <p:nvPr/>
        </p:nvPicPr>
        <p:blipFill>
          <a:blip r:embed="rId3"/>
          <a:stretch/>
        </p:blipFill>
        <p:spPr>
          <a:xfrm>
            <a:off x="3851280" y="3716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MCj04339640000[1]"/>
          <p:cNvPicPr/>
          <p:nvPr/>
        </p:nvPicPr>
        <p:blipFill>
          <a:blip r:embed="rId4"/>
          <a:stretch/>
        </p:blipFill>
        <p:spPr>
          <a:xfrm>
            <a:off x="6659640" y="2565360"/>
            <a:ext cx="1135080" cy="113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MCj04339640000[1]"/>
          <p:cNvPicPr/>
          <p:nvPr/>
        </p:nvPicPr>
        <p:blipFill>
          <a:blip r:embed="rId5"/>
          <a:stretch/>
        </p:blipFill>
        <p:spPr>
          <a:xfrm>
            <a:off x="6659640" y="3789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MCj04339640000[1]"/>
          <p:cNvPicPr/>
          <p:nvPr/>
        </p:nvPicPr>
        <p:blipFill>
          <a:blip r:embed="rId6"/>
          <a:stretch/>
        </p:blipFill>
        <p:spPr>
          <a:xfrm>
            <a:off x="6659640" y="5013360"/>
            <a:ext cx="1206360" cy="120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7"/>
          <a:stretch/>
        </p:blipFill>
        <p:spPr>
          <a:xfrm>
            <a:off x="395280" y="587700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6827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443640" y="220500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643280" y="2205000"/>
            <a:ext cx="91944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308720" y="3500280"/>
            <a:ext cx="8575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 Box 8"/>
          <p:cNvSpPr/>
          <p:nvPr/>
        </p:nvSpPr>
        <p:spPr>
          <a:xfrm>
            <a:off x="1979640" y="18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Vendeur de Gla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9"/>
          <p:cNvSpPr/>
          <p:nvPr/>
        </p:nvSpPr>
        <p:spPr>
          <a:xfrm rot="19507200">
            <a:off x="459000" y="5378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antez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944720" y="476280"/>
            <a:ext cx="71992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Moi, je vends des gl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Dans le grand march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bricot, vanill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ocolat, 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13" descr="j0250234"/>
          <p:cNvPicPr/>
          <p:nvPr/>
        </p:nvPicPr>
        <p:blipFill>
          <a:blip r:embed="rId5"/>
          <a:stretch/>
        </p:blipFill>
        <p:spPr>
          <a:xfrm>
            <a:off x="324000" y="1916280"/>
            <a:ext cx="36954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985680" y="1773360"/>
            <a:ext cx="878040" cy="11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Une  Glace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9"/>
          <p:cNvSpPr/>
          <p:nvPr/>
        </p:nvSpPr>
        <p:spPr>
          <a:xfrm rot="2246400">
            <a:off x="6533280" y="848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antez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116000" y="3357720"/>
            <a:ext cx="7199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Je voudrais une abricot, (vanille, chocolat, caf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Monsieur, s’il vous plaî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9064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12" descr=""/>
          <p:cNvPicPr/>
          <p:nvPr/>
        </p:nvPicPr>
        <p:blipFill>
          <a:blip r:embed="rId4"/>
          <a:stretch/>
        </p:blipFill>
        <p:spPr>
          <a:xfrm>
            <a:off x="6300720" y="1773360"/>
            <a:ext cx="91764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89000"/>
            <a:ext cx="71992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6600cc"/>
                </a:solidFill>
                <a:uFillTx/>
                <a:latin typeface="Comic Sans MS"/>
              </a:rPr>
              <a:t>Vendeur de Gl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Moi, je vends des gl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Dans le grand march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bricot, vanil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ocolat, caf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Je voudrais une abricot, (vanille, chocolat, caf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5" descr="j0250234"/>
          <p:cNvPicPr/>
          <p:nvPr/>
        </p:nvPicPr>
        <p:blipFill>
          <a:blip r:embed="rId1"/>
          <a:stretch/>
        </p:blipFill>
        <p:spPr>
          <a:xfrm>
            <a:off x="5448240" y="1916280"/>
            <a:ext cx="3695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j0297295[1]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43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2124000" y="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ez le Marchand de Gl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6ded0"/>
                      </a:solidFill>
                    </a:lnL>
                    <a:lnR w="5760">
                      <a:solidFill>
                        <a:srgbClr val="96ded0"/>
                      </a:solidFill>
                    </a:lnR>
                    <a:lnT w="5760">
                      <a:solidFill>
                        <a:srgbClr val="96ded0"/>
                      </a:solidFill>
                    </a:lnT>
                    <a:lnB w="18720">
                      <a:solidFill>
                        <a:srgbClr val="96ded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6ded0"/>
                      </a:solidFill>
                    </a:lnL>
                    <a:lnR w="5760">
                      <a:solidFill>
                        <a:srgbClr val="96ded0"/>
                      </a:solidFill>
                    </a:lnR>
                    <a:lnT w="5760">
                      <a:solidFill>
                        <a:srgbClr val="96ded0"/>
                      </a:solidFill>
                    </a:lnT>
                    <a:lnB w="18720">
                      <a:solidFill>
                        <a:srgbClr val="96ded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55640" y="1341360"/>
          <a:ext cx="7488360" cy="4896000"/>
        </p:xfrm>
        <a:graphic>
          <a:graphicData uri="http://schemas.openxmlformats.org/drawingml/2006/table">
            <a:tbl>
              <a:tblPr/>
              <a:tblGrid>
                <a:gridCol w="3745080"/>
                <a:gridCol w="37432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marchand de g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jour. Vous désirez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oudrais une g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l parfu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nille s’il vous plaî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bien de boul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ux bo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l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i. C’est combi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ux e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l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r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r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8"/>
          <p:cNvSpPr/>
          <p:nvPr/>
        </p:nvSpPr>
        <p:spPr>
          <a:xfrm>
            <a:off x="1835280" y="206064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6ded0"/>
                </a:solidFill>
                <a:latin typeface="Comic Sans MS"/>
              </a:rPr>
              <a:t>To be able to buy an ice-cr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6600cc"/>
                </a:solidFill>
                <a:latin typeface="Comic Sans MS"/>
              </a:rPr>
              <a:t>Je voudrais une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j0290740"/>
          <p:cNvPicPr/>
          <p:nvPr/>
        </p:nvPicPr>
        <p:blipFill>
          <a:blip r:embed="rId1"/>
          <a:stretch/>
        </p:blipFill>
        <p:spPr>
          <a:xfrm>
            <a:off x="3635280" y="476280"/>
            <a:ext cx="24955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8982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971640" y="2997360"/>
            <a:ext cx="8208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6588000" y="2997360"/>
            <a:ext cx="8575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Text Box 10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1"/>
          <p:cNvSpPr/>
          <p:nvPr/>
        </p:nvSpPr>
        <p:spPr>
          <a:xfrm rot="19624200">
            <a:off x="324720" y="54900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Répétez</a:t>
            </a:r>
            <a:r>
              <a:rPr b="1" lang="en-GB" sz="2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2"/>
          <p:cNvSpPr/>
          <p:nvPr/>
        </p:nvSpPr>
        <p:spPr>
          <a:xfrm rot="1861800">
            <a:off x="6911280" y="62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Oui  ou  n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684360" y="2997360"/>
            <a:ext cx="82044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6588000" y="2997360"/>
            <a:ext cx="8575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9"/>
          <p:cNvSpPr/>
          <p:nvPr/>
        </p:nvSpPr>
        <p:spPr>
          <a:xfrm rot="2246400">
            <a:off x="6422040" y="810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Touchez le Tableau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492360" y="285264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6516720" y="278136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82080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6443640" y="278136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82080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6516720" y="278136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732720" y="278136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82044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6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7" descr=""/>
          <p:cNvPicPr/>
          <p:nvPr/>
        </p:nvPicPr>
        <p:blipFill>
          <a:blip r:embed="rId5"/>
          <a:stretch/>
        </p:blipFill>
        <p:spPr>
          <a:xfrm>
            <a:off x="5003640" y="4221000"/>
            <a:ext cx="8622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15:34Z</dcterms:created>
  <dc:creator>BeestonC</dc:creator>
  <dc:description/>
  <dc:language>en-US</dc:language>
  <cp:lastModifiedBy>Clare</cp:lastModifiedBy>
  <dcterms:modified xsi:type="dcterms:W3CDTF">2011-08-11T12:24:08Z</dcterms:modified>
  <cp:revision>12</cp:revision>
  <dc:subject/>
  <dc:title>Learning  Outcome</dc:title>
</cp:coreProperties>
</file>