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974-FCC2-4D1C-8909-C4E3BA82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170-CEEA-4DEE-A958-254613E7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210-A5F3-4856-B996-484E8B14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2C9-3E42-4337-93FF-EB3CCAF3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76E-8F49-4ED4-AA48-598A4392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FE0-1742-4877-BBBD-E450B662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699-F284-4A68-A90A-706EA72B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A5E-3331-4F18-BF36-3996B124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E80-56FF-426F-82E9-65893627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E1F-1D64-49A8-AF82-DE0986E3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8E3-71C9-4D1C-B6FF-9489D753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398-C9FA-40C7-B558-03E75EA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3450-6262-44EA-942A-E2E4D77935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89000"/>
            <a:ext cx="7199280" cy="9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6600cc"/>
                </a:solidFill>
                <a:uFillTx/>
                <a:latin typeface="Comic Sans MS"/>
              </a:rPr>
              <a:t>Vendeur de G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Moi, je vends des glaces, dans le grand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bricot, vanille, chocolat, caf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h bonjour ma fi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Je voudrais une abricot, Monsieur s’il vous</a:t>
            </a: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 pla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î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h bonjour ma fi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Je voudrais une vanille, Monsieur s’il vous pla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î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h bonjour Suzan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Je voudrais une chocolat, Monsieur s’il vous pla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î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h bonjour mon gar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  <a:ea typeface="Arial"/>
              </a:rPr>
              <a:t>çon</a:t>
            </a: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Je voudrais une café, Monsieur s’il vous pla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î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5013360"/>
            <a:ext cx="24717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6760" cy="595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1440" y="0"/>
            <a:ext cx="4462560" cy="595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6920" cy="623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4040" cy="609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65640" y="0"/>
            <a:ext cx="4878360" cy="61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37:03Z</dcterms:created>
  <dc:creator>beestonc</dc:creator>
  <dc:description/>
  <dc:language>en-US</dc:language>
  <cp:lastModifiedBy>Clare</cp:lastModifiedBy>
  <dcterms:modified xsi:type="dcterms:W3CDTF">2011-08-11T12:22:16Z</dcterms:modified>
  <cp:revision>3</cp:revision>
  <dc:subject/>
  <dc:title>Slide 1</dc:title>
</cp:coreProperties>
</file>