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DE2-3381-412C-B2EC-8CFA4481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93A-5D9F-425D-8C09-CB9AA7E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069-1C2B-4821-A699-4B79DB60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F2A-77AE-4637-8EF6-3A0CC093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958-B3FB-4E63-959F-01632BE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8E5-4836-4460-B7FD-5F35989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0A6-A697-4D6D-980E-3637C15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073-B594-4DA7-BFAE-A1E72340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7E9-077E-464A-9008-C16529B1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845-7E74-4DAA-9814-F1D6C28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318-27D9-4B7E-ABB4-16C7256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48C-C3CE-4FC8-9316-FA2DE70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FF59-F688-4713-8E35-C6924260F2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89000"/>
            <a:ext cx="7199280" cy="9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6600cc"/>
                </a:solidFill>
                <a:uFillTx/>
                <a:latin typeface="Comic Sans MS"/>
              </a:rPr>
              <a:t>Vendeur de G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Moi, je vends des glaces, dans le grand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bricot, vanille, chocolat, caf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abricot, Monsieur s’il vous</a:t>
            </a: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 pla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vanille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Suza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chocolat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Ah bonjour mon gar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  <a:ea typeface="Arial"/>
              </a:rPr>
              <a:t>çon</a:t>
            </a: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Comic Sans MS"/>
              </a:rPr>
              <a:t>Je voudrais une café, Monsieur s’il vous pla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î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24717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595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1440" y="0"/>
            <a:ext cx="4462560" cy="595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6920" cy="623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0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65640" y="0"/>
            <a:ext cx="4878360" cy="61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37:03Z</dcterms:created>
  <dc:creator>beestonc</dc:creator>
  <dc:description/>
  <dc:language>en-US</dc:language>
  <cp:lastModifiedBy>Clare</cp:lastModifiedBy>
  <dcterms:modified xsi:type="dcterms:W3CDTF">2011-08-11T12:22:16Z</dcterms:modified>
  <cp:revision>3</cp:revision>
  <dc:subject/>
  <dc:title>Slide 1</dc:title>
</cp:coreProperties>
</file>