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F1F-4732-4574-8617-105A500A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1B8-40FE-4249-88E1-F3E71FA9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DF2-6E02-4D89-893D-7BF366E9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F22-13A0-4BD5-97DB-857C75CE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A15-82EE-4554-A0B2-2250B662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A887-3210-4BAC-AFC5-6ADF3FF8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6D18-8EC6-4806-9BBC-D750830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3872-0ADF-4AE8-A79D-FE5375A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F7A6-A2FF-431B-97D3-B72824DB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35C-7B71-4F6B-A8F5-A9B5D7A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5319-606D-4AED-BE41-2429A6C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E5B-6313-4AA0-B20A-6ED63B80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FFB-D876-4A91-874F-8735097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3A89-E70B-4FB6-9A14-FE11E70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CFC7-916C-4D2C-8B41-DA773BDA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E502-0EE6-487F-AA31-10628AEF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2BEC-760E-4091-968D-8BC3D302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489-7A96-4D17-A6CA-50514D01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AFB-6D51-4C41-A9BB-9211AE38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05B-E28E-4743-8B3A-DD4C073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F03-DC1D-4985-BCC8-A6BE119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C30-78EB-45FC-9BE9-7A3EDD2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2E2-DCD3-4D15-B460-37D2EB1F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5C3-B40B-492F-BD16-D2B25651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85388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3320" y="8534160"/>
            <a:ext cx="119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F4F6-5C21-4A5D-B9CD-F73198DE9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27080" y="304920"/>
            <a:ext cx="6616800" cy="8127360"/>
            <a:chOff x="127080" y="304920"/>
            <a:chExt cx="6616800" cy="8127360"/>
          </a:xfrm>
        </p:grpSpPr>
        <p:sp>
          <p:nvSpPr>
            <p:cNvPr id="6" name="AutoShape 8"/>
            <p:cNvSpPr/>
            <p:nvPr/>
          </p:nvSpPr>
          <p:spPr>
            <a:xfrm>
              <a:off x="127080" y="304920"/>
              <a:ext cx="6616800" cy="8127360"/>
            </a:xfrm>
            <a:custGeom>
              <a:avLst/>
              <a:gdLst>
                <a:gd name="textAreaLeft" fmla="*/ 213840 w 6616800"/>
                <a:gd name="textAreaRight" fmla="*/ 6402960 w 6616800"/>
                <a:gd name="textAreaTop" fmla="*/ 213840 h 8127360"/>
                <a:gd name="textAreaBottom" fmla="*/ 7913520 h 8127360"/>
              </a:gdLst>
              <a:ahLst/>
              <a:rect l="textAreaLeft" t="textAreaTop" r="textAreaRight" b="textAreaBottom"/>
              <a:pathLst>
                <a:path w="21600" h="26531">
                  <a:moveTo>
                    <a:pt x="2386" y="0"/>
                  </a:moveTo>
                  <a:arcTo wR="2386" hR="2386" stAng="16200000" swAng="-5400000"/>
                  <a:lnTo>
                    <a:pt x="0" y="24145"/>
                  </a:lnTo>
                  <a:arcTo wR="2386" hR="2386" stAng="10800000" swAng="-5400000"/>
                  <a:lnTo>
                    <a:pt x="19214" y="26531"/>
                  </a:lnTo>
                  <a:arcTo wR="2386" hR="2386" stAng="5400000" swAng="-5400000"/>
                  <a:lnTo>
                    <a:pt x="21600" y="2386"/>
                  </a:lnTo>
                  <a:arcTo wR="2386" hR="2386" stAng="0" swAng="-5400000"/>
                  <a:close/>
                </a:path>
              </a:pathLst>
            </a:cu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572400" y="2279520"/>
              <a:ext cx="577116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71360" y="507960"/>
            <a:ext cx="6515280" cy="7518600"/>
          </a:xfrm>
          <a:custGeom>
            <a:avLst/>
            <a:gdLst>
              <a:gd name="textAreaLeft" fmla="*/ 150840 w 6515280"/>
              <a:gd name="textAreaRight" fmla="*/ 6364440 w 6515280"/>
              <a:gd name="textAreaTop" fmla="*/ 150840 h 7518600"/>
              <a:gd name="textAreaBottom" fmla="*/ 7367760 h 7518600"/>
            </a:gdLst>
            <a:ahLst/>
            <a:rect l="textAreaLeft" t="textAreaTop" r="textAreaRight" b="textAreaBottom"/>
            <a:pathLst>
              <a:path w="21600" h="24926">
                <a:moveTo>
                  <a:pt x="1709" y="0"/>
                </a:moveTo>
                <a:arcTo wR="1709" hR="1709" stAng="16200000" swAng="-5400000"/>
                <a:lnTo>
                  <a:pt x="0" y="23217"/>
                </a:lnTo>
                <a:arcTo wR="1709" hR="1709" stAng="10800000" swAng="-5400000"/>
                <a:lnTo>
                  <a:pt x="19891" y="24926"/>
                </a:lnTo>
                <a:arcTo wR="1709" hR="1709" stAng="5400000" swAng="-5400000"/>
                <a:lnTo>
                  <a:pt x="21600" y="1709"/>
                </a:lnTo>
                <a:arcTo wR="1709" hR="1709" stAng="0" swAng="-5400000"/>
                <a:close/>
              </a:path>
            </a:pathLst>
          </a:cu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46240" y="652320"/>
            <a:ext cx="6325920" cy="6357960"/>
          </a:xfrm>
          <a:custGeom>
            <a:avLst/>
            <a:gdLst>
              <a:gd name="textAreaLeft" fmla="*/ 135360 w 6325920"/>
              <a:gd name="textAreaRight" fmla="*/ 6190560 w 6325920"/>
              <a:gd name="textAreaTop" fmla="*/ 135360 h 6357960"/>
              <a:gd name="textAreaBottom" fmla="*/ 6222600 h 6357960"/>
            </a:gdLst>
            <a:ahLst/>
            <a:rect l="textAreaLeft" t="textAreaTop" r="textAreaRight" b="textAreaBottom"/>
            <a:pathLst>
              <a:path w="21600" h="21709">
                <a:moveTo>
                  <a:pt x="1579" y="0"/>
                </a:moveTo>
                <a:arcTo wR="1579" hR="1579" stAng="16200000" swAng="-5400000"/>
                <a:lnTo>
                  <a:pt x="0" y="20130"/>
                </a:lnTo>
                <a:arcTo wR="1579" hR="1579" stAng="10800000" swAng="-5400000"/>
                <a:lnTo>
                  <a:pt x="20021" y="21709"/>
                </a:lnTo>
                <a:arcTo wR="1579" hR="1579" stAng="5400000" swAng="-5400000"/>
                <a:lnTo>
                  <a:pt x="21600" y="1579"/>
                </a:lnTo>
                <a:arcTo wR="1579" hR="15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028880" y="4451400"/>
            <a:ext cx="480060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514240" y="852156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5143320" y="8521560"/>
            <a:ext cx="119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1E9E-0EB0-46D6-8B28-ED477FDD17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143000"/>
            <a:ext cx="5829120" cy="302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93 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00240" y="4673520"/>
            <a:ext cx="4457520" cy="25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At the caf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1"/>
          <p:cNvGraphicFramePr/>
          <p:nvPr/>
        </p:nvGraphicFramePr>
        <p:xfrm>
          <a:off x="1200240" y="2844720"/>
          <a:ext cx="979560" cy="11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844720"/>
                    <a:ext cx="97956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2457360" y="2540160"/>
            <a:ext cx="808200" cy="176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language collegelogo"/>
          <p:cNvPicPr/>
          <p:nvPr/>
        </p:nvPicPr>
        <p:blipFill>
          <a:blip r:embed="rId4"/>
          <a:stretch/>
        </p:blipFill>
        <p:spPr>
          <a:xfrm>
            <a:off x="3603600" y="2540160"/>
            <a:ext cx="739800" cy="17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24"/>
          <p:cNvGraphicFramePr/>
          <p:nvPr/>
        </p:nvGraphicFramePr>
        <p:xfrm>
          <a:off x="4622760" y="2844720"/>
          <a:ext cx="978120" cy="11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22760" y="2844720"/>
                    <a:ext cx="9781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97" name="Picture 25" descr=""/>
          <p:cNvPicPr/>
          <p:nvPr/>
        </p:nvPicPr>
        <p:blipFill>
          <a:blip r:embed="rId1"/>
          <a:stretch/>
        </p:blipFill>
        <p:spPr>
          <a:xfrm>
            <a:off x="1135080" y="2363760"/>
            <a:ext cx="4572000" cy="6000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1376280" y="2747880"/>
            <a:ext cx="361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read and understand some words on a french menu and use a bilingual dictio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57120" y="317340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us désirez, Mademoiselle?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e: ____________________et __________________________, s’il vous plaî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Pas de problè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e: _________! L’addition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 Voilà. Ça fait ______________________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e: Voil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Merci,.Au r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071800" y="214200"/>
            <a:ext cx="2428920" cy="35748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u caf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143240" y="4586400"/>
            <a:ext cx="2214720" cy="8240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cinq euros quarante-cin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Monsi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un caf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un croque-monsi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357120" y="281628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Remplissez les bla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57120" y="574524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Remplissez les bla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57120" y="6108840"/>
            <a:ext cx="6072120" cy="28317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us désirez, __________________________?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                        ___________________ et                 ____________________              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’il vous plaît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Pas de problè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Monsieur! _________________________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ilà. _______  _________________ huit eu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Voil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Merci. Au r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000080" y="6443640"/>
            <a:ext cx="642960" cy="48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rcRect l="0" t="20001" r="10001" b="0"/>
          <a:stretch/>
        </p:blipFill>
        <p:spPr>
          <a:xfrm>
            <a:off x="3497400" y="6500880"/>
            <a:ext cx="431640" cy="384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3"/>
          <p:cNvSpPr/>
          <p:nvPr/>
        </p:nvSpPr>
        <p:spPr>
          <a:xfrm>
            <a:off x="357120" y="857160"/>
            <a:ext cx="5929560" cy="19191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us désirez?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The b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’addition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I would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’il vous plaît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There 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rci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No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Waiter/Wai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 revoir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That com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 de problème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.What would you like?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Ça fai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8.Goodb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ilà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9.P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/Serveu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.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04640" y="53964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Faites correspondre les phr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57120" y="17316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duisez les phrases pour complétez le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57120" y="43668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us désirez, Monsieur/Mad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I would like an orange juice and some chips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Pas de problè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e bill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ilà. Ça fait quatre euros vingt-cin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ere you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Merci. Au r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357120" y="292896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duisez les phrases pour complétez le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57120" y="322272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What would you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Je voudrais un grand crème et un sandwich au jam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No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L’addition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ere you are. That comes to five euros thi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Voil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ankyou. Goodb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571500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duisez ce dialog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57120" y="600876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What would you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I would like an ice-cream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How many scoo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Three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What flavo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Vanilla, chocolate and ban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There you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57120" y="857268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7. Now make up your own dialogue. You can include snacks, drinks and ice-cr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8-11T10:55:56Z</dcterms:modified>
  <cp:revision>230</cp:revision>
  <dc:subject/>
  <dc:title>KS2 Yr 5 French – Lesson 1  </dc:title>
</cp:coreProperties>
</file>