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C74-FF69-4355-B374-EA54B8E8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320" y="535248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39F-43EC-4DBE-83A8-CEA86C1F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2908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FDA-1EE1-4C6A-BA86-03DABFDD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2288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7444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7132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2288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47444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204C-CCC1-4120-B337-46845A19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18B4-EB34-4821-972B-6EAA1225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92F6-43C0-4558-A1D9-3620C3D9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7739-78C8-4AE0-900A-D8AD5CC7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1F71-9A0F-474F-90E7-C6CE4BF9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F938-19D0-4042-8EED-4E846F98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1320" y="711000"/>
            <a:ext cx="57718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29D9-F8BC-44C7-A9A4-BD295A38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002F-F12C-4986-8BC6-B2C653A7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269-0098-454F-B4F0-F5CDD71B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908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1BA1-6706-43C7-ABF7-2CC7D0D6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53C3-1C7C-4FC7-ABDA-B7F6406F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320" y="535248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5BF3-FB10-4B36-A0FD-C69E468B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2908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863B-1165-4D93-862E-68804EAD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2288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7444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7132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2288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47444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21A8-9CF6-4CCB-8E35-B04DC2EF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08D-4E9E-42D3-AC4E-12B08A90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E9A-F7A5-418E-A59D-1D3BBFD0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794-3CFD-446C-8DD7-6C0A2084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1320" y="711000"/>
            <a:ext cx="57718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FFB-3900-4B26-ACC7-39D0C413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F84-C83B-4813-9FFC-78322689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2908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CF4-9B2B-42E7-B164-C153281C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DD0-3032-4C08-A435-34CBC2BB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680" y="8521560"/>
            <a:ext cx="1542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14240" y="853884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43320" y="8534160"/>
            <a:ext cx="1199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C97C-2BFB-41A5-86F9-44A7FD4253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27080" y="304920"/>
            <a:ext cx="6616800" cy="8127360"/>
            <a:chOff x="127080" y="304920"/>
            <a:chExt cx="6616800" cy="8127360"/>
          </a:xfrm>
        </p:grpSpPr>
        <p:sp>
          <p:nvSpPr>
            <p:cNvPr id="6" name="AutoShape 8"/>
            <p:cNvSpPr/>
            <p:nvPr/>
          </p:nvSpPr>
          <p:spPr>
            <a:xfrm>
              <a:off x="127080" y="304920"/>
              <a:ext cx="6616800" cy="8127360"/>
            </a:xfrm>
            <a:custGeom>
              <a:avLst/>
              <a:gdLst>
                <a:gd name="textAreaLeft" fmla="*/ 213840 w 6616800"/>
                <a:gd name="textAreaRight" fmla="*/ 6402960 w 6616800"/>
                <a:gd name="textAreaTop" fmla="*/ 213840 h 8127360"/>
                <a:gd name="textAreaBottom" fmla="*/ 7913520 h 8127360"/>
              </a:gdLst>
              <a:ahLst/>
              <a:rect l="textAreaLeft" t="textAreaTop" r="textAreaRight" b="textAreaBottom"/>
              <a:pathLst>
                <a:path w="21600" h="26531">
                  <a:moveTo>
                    <a:pt x="2386" y="0"/>
                  </a:moveTo>
                  <a:arcTo wR="2386" hR="2386" stAng="16200000" swAng="-5400000"/>
                  <a:lnTo>
                    <a:pt x="0" y="24145"/>
                  </a:lnTo>
                  <a:arcTo wR="2386" hR="2386" stAng="10800000" swAng="-5400000"/>
                  <a:lnTo>
                    <a:pt x="19214" y="26531"/>
                  </a:lnTo>
                  <a:arcTo wR="2386" hR="2386" stAng="5400000" swAng="-5400000"/>
                  <a:lnTo>
                    <a:pt x="21600" y="2386"/>
                  </a:lnTo>
                  <a:arcTo wR="2386" hR="2386" stAng="0" swAng="-5400000"/>
                  <a:close/>
                </a:path>
              </a:pathLst>
            </a:cu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572400" y="2279520"/>
              <a:ext cx="577116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171360" y="507960"/>
            <a:ext cx="6515280" cy="7518600"/>
          </a:xfrm>
          <a:custGeom>
            <a:avLst/>
            <a:gdLst>
              <a:gd name="textAreaLeft" fmla="*/ 150840 w 6515280"/>
              <a:gd name="textAreaRight" fmla="*/ 6364440 w 6515280"/>
              <a:gd name="textAreaTop" fmla="*/ 150840 h 7518600"/>
              <a:gd name="textAreaBottom" fmla="*/ 7367760 h 7518600"/>
            </a:gdLst>
            <a:ahLst/>
            <a:rect l="textAreaLeft" t="textAreaTop" r="textAreaRight" b="textAreaBottom"/>
            <a:pathLst>
              <a:path w="21600" h="24926">
                <a:moveTo>
                  <a:pt x="1709" y="0"/>
                </a:moveTo>
                <a:arcTo wR="1709" hR="1709" stAng="16200000" swAng="-5400000"/>
                <a:lnTo>
                  <a:pt x="0" y="23217"/>
                </a:lnTo>
                <a:arcTo wR="1709" hR="1709" stAng="10800000" swAng="-5400000"/>
                <a:lnTo>
                  <a:pt x="19891" y="24926"/>
                </a:lnTo>
                <a:arcTo wR="1709" hR="1709" stAng="5400000" swAng="-5400000"/>
                <a:lnTo>
                  <a:pt x="21600" y="1709"/>
                </a:lnTo>
                <a:arcTo wR="1709" hR="1709" stAng="0" swAng="-5400000"/>
                <a:close/>
              </a:path>
            </a:pathLst>
          </a:cu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46240" y="652320"/>
            <a:ext cx="6325920" cy="6357960"/>
          </a:xfrm>
          <a:custGeom>
            <a:avLst/>
            <a:gdLst>
              <a:gd name="textAreaLeft" fmla="*/ 135360 w 6325920"/>
              <a:gd name="textAreaRight" fmla="*/ 6190560 w 6325920"/>
              <a:gd name="textAreaTop" fmla="*/ 135360 h 6357960"/>
              <a:gd name="textAreaBottom" fmla="*/ 6222600 h 6357960"/>
            </a:gdLst>
            <a:ahLst/>
            <a:rect l="textAreaLeft" t="textAreaTop" r="textAreaRight" b="textAreaBottom"/>
            <a:pathLst>
              <a:path w="21600" h="21709">
                <a:moveTo>
                  <a:pt x="1579" y="0"/>
                </a:moveTo>
                <a:arcTo wR="1579" hR="1579" stAng="16200000" swAng="-5400000"/>
                <a:lnTo>
                  <a:pt x="0" y="20130"/>
                </a:lnTo>
                <a:arcTo wR="1579" hR="1579" stAng="10800000" swAng="-5400000"/>
                <a:lnTo>
                  <a:pt x="20021" y="21709"/>
                </a:lnTo>
                <a:arcTo wR="1579" hR="1579" stAng="5400000" swAng="-5400000"/>
                <a:lnTo>
                  <a:pt x="21600" y="1579"/>
                </a:lnTo>
                <a:arcTo wR="1579" hR="15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028880" y="4451400"/>
            <a:ext cx="4800600" cy="304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71680" y="8521560"/>
            <a:ext cx="1542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514240" y="852156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5143320" y="8521560"/>
            <a:ext cx="1199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E67F-1A54-4A6D-82DE-A4EAD0E8EA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143000"/>
            <a:ext cx="5829120" cy="3022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6 French – Lesson 93 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00240" y="4673520"/>
            <a:ext cx="4457520" cy="25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  <a:ea typeface="Tahoma"/>
              </a:rPr>
              <a:t>At the caf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1"/>
          <p:cNvGraphicFramePr/>
          <p:nvPr/>
        </p:nvGraphicFramePr>
        <p:xfrm>
          <a:off x="1200240" y="2844720"/>
          <a:ext cx="979560" cy="11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2844720"/>
                    <a:ext cx="97956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22" descr="Aidan's badge no background"/>
          <p:cNvPicPr/>
          <p:nvPr/>
        </p:nvPicPr>
        <p:blipFill>
          <a:blip r:embed="rId3"/>
          <a:stretch/>
        </p:blipFill>
        <p:spPr>
          <a:xfrm>
            <a:off x="2457360" y="2540160"/>
            <a:ext cx="808200" cy="1765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language collegelogo"/>
          <p:cNvPicPr/>
          <p:nvPr/>
        </p:nvPicPr>
        <p:blipFill>
          <a:blip r:embed="rId4"/>
          <a:stretch/>
        </p:blipFill>
        <p:spPr>
          <a:xfrm>
            <a:off x="3603600" y="2540160"/>
            <a:ext cx="739800" cy="176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24"/>
          <p:cNvGraphicFramePr/>
          <p:nvPr/>
        </p:nvGraphicFramePr>
        <p:xfrm>
          <a:off x="4622760" y="2844720"/>
          <a:ext cx="978120" cy="11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22760" y="2844720"/>
                    <a:ext cx="9781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97" name="Picture 25" descr=""/>
          <p:cNvPicPr/>
          <p:nvPr/>
        </p:nvPicPr>
        <p:blipFill>
          <a:blip r:embed="rId1"/>
          <a:stretch/>
        </p:blipFill>
        <p:spPr>
          <a:xfrm>
            <a:off x="1135080" y="2363760"/>
            <a:ext cx="4572000" cy="60008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8"/>
          <p:cNvSpPr/>
          <p:nvPr/>
        </p:nvSpPr>
        <p:spPr>
          <a:xfrm>
            <a:off x="1376280" y="2747880"/>
            <a:ext cx="361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To be able to read and understand some words on a french menu and use a bilingual diction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357120" y="3173400"/>
            <a:ext cx="6072120" cy="2466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Vous désirez, Mademoiselle?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e: ____________________et __________________________, s’il vous plaî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Pas de problèm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e: _________! L’addition, s’il vous plaî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 Voilà. Ça fait ______________________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e: Voil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Merci,.Au revo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071800" y="214200"/>
            <a:ext cx="2428920" cy="357480"/>
          </a:xfrm>
          <a:prstGeom prst="rect">
            <a:avLst/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u caf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143240" y="4586400"/>
            <a:ext cx="2214720" cy="82404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cinq euros quarante-cin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Monsi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un caf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un croque-monsi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357120" y="2816280"/>
            <a:ext cx="22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Remplissez les blan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357120" y="5745240"/>
            <a:ext cx="22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Remplissez les blan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57120" y="6108840"/>
            <a:ext cx="6072120" cy="28317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Vous désirez, __________________________?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                        ___________________ et                 ____________________              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’il vous plaît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Pas de problèm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Monsieur! _________________________, s’il vous plaî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Voilà. _______  _________________ huit eu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Voil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Merci. Au revo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000080" y="6443640"/>
            <a:ext cx="642960" cy="48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rcRect l="0" t="20001" r="10001" b="0"/>
          <a:stretch/>
        </p:blipFill>
        <p:spPr>
          <a:xfrm>
            <a:off x="3497400" y="6500880"/>
            <a:ext cx="431640" cy="384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3"/>
          <p:cNvSpPr/>
          <p:nvPr/>
        </p:nvSpPr>
        <p:spPr>
          <a:xfrm>
            <a:off x="357120" y="857160"/>
            <a:ext cx="5929560" cy="19191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ous désirez?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The b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’addition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I would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’il vous plaît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There 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rci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.No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voudrai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Waiter/Wai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 revoir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6.That com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s de problème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7.What would you like?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Ça fai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8.Goodb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oilà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9.P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/Serveus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.Thank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404640" y="539640"/>
            <a:ext cx="271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Faites correspondre les phr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357120" y="173160"/>
            <a:ext cx="60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raduisez les phrases pour complétez le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357120" y="436680"/>
            <a:ext cx="6072120" cy="2466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Vous désirez, Monsieur/Mada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I would like an orange juice and some chips, pl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Pas de problèm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The bill, pl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Voilà. Ça fait quatre euros vingt-cin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There you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Merci. Au revo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357120" y="2928960"/>
            <a:ext cx="60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raduisez les phrases pour complétez le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57120" y="3222720"/>
            <a:ext cx="6072120" cy="2466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What would you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Je voudrais un grand crème et un sandwich au jam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No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L’addition, s’il vous plaî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There you are. That comes to five euros thi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Voil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Thankyou. Goodb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57120" y="5715000"/>
            <a:ext cx="60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raduisez ce dialog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57120" y="6008760"/>
            <a:ext cx="6072120" cy="2466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What would you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I would like an ice-cream, pl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How many scoo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Three, pl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What flavou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ent: Vanilla, chocolate and ban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rveur: There you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357120" y="8572680"/>
            <a:ext cx="60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7. Now make up your own dialogue. You can include snacks, drinks and ice-cre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11-08-11T10:55:56Z</dcterms:modified>
  <cp:revision>230</cp:revision>
  <dc:subject/>
  <dc:title>KS2 Yr 5 French – Lesson 1  </dc:title>
</cp:coreProperties>
</file>