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9B7-23F5-48D1-9042-9EADB44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7E1-7F3B-46F6-A971-F73EA297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1CB-0E38-4DB4-9AF0-B47F5258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203-D78E-4098-BE5F-FB435979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F46-81F0-4755-91AC-3E641D6C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45B-A04D-43A0-AD6D-5A806C4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E01-7AD2-4A0D-8314-248AC45E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83E-8C8F-4ACA-AF56-EDFB444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9BB-4D0F-48C0-8DEE-F29664CC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E83-B149-4EFD-A134-1B6A29B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01D-2BDA-4C6F-959F-F6B60C7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98A-2A59-44AE-A0A7-4BFEC9F1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9CB-9F8B-4B85-8401-1C2B8E21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685800"/>
          <a:ext cx="5105160" cy="830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10516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484360" y="6597720"/>
            <a:ext cx="6659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062080" y="539640"/>
          <a:ext cx="4264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539640"/>
                    <a:ext cx="4264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371600" y="380880"/>
          <a:ext cx="563868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563868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0:21:21Z</dcterms:created>
  <dc:creator>alison.steward</dc:creator>
  <dc:description/>
  <dc:language>en-US</dc:language>
  <cp:lastModifiedBy>Clare</cp:lastModifiedBy>
  <dcterms:modified xsi:type="dcterms:W3CDTF">2009-01-21T14:29:00Z</dcterms:modified>
  <cp:revision>3</cp:revision>
  <dc:subject/>
  <dc:title>PowerPoint Presentation</dc:title>
</cp:coreProperties>
</file>