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C41-1566-40B0-BAAD-51971C8F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5D73-621E-4CB1-A8A8-A29596A3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13AB-7CD3-4320-8FC4-BBE14330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C4EE-73CB-4591-A6C7-AA8D5022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56A2-FB9E-44D5-A0CE-ED611586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35B9-4D12-43C5-A51F-E617FAFF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470D-063A-426C-AB75-24C2B7D0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EA5A-806A-466B-8F14-6054F2B3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B605-9287-44D2-8526-A70FA2EA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D0B7-2846-48FD-A640-D9CB340B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8E04-1A87-4F86-A7AE-D962E2F1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36EF-B369-4742-B3B9-23D1BB7E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976F-A3A7-4C20-BF47-208E077B7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hyperlink" Target="http://www.sunderlandschools.org/mfl-sunderland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76520" y="685800"/>
          <a:ext cx="5105160" cy="830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85800"/>
                    <a:ext cx="5105160" cy="83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484360" y="6597720"/>
            <a:ext cx="66596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9 RM </a:t>
            </a:r>
            <a:r>
              <a:rPr b="0" lang="en-GB" sz="800" spc="-1" strike="noStrike" u="sng">
                <a:solidFill>
                  <a:srgbClr val="ccccff"/>
                </a:solidFill>
                <a:uFillTx/>
                <a:latin typeface="Arial Rounded MT Bold"/>
                <a:hlinkClick r:id="rId3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062080" y="539640"/>
          <a:ext cx="4264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080" y="539640"/>
                    <a:ext cx="4264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371600" y="380880"/>
          <a:ext cx="5638680" cy="701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880"/>
                    <a:ext cx="5638680" cy="701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0:21:21Z</dcterms:created>
  <dc:creator>alison.steward</dc:creator>
  <dc:description/>
  <dc:language>en-US</dc:language>
  <cp:lastModifiedBy>Clare</cp:lastModifiedBy>
  <dcterms:modified xsi:type="dcterms:W3CDTF">2009-01-21T14:29:00Z</dcterms:modified>
  <cp:revision>3</cp:revision>
  <dc:subject/>
  <dc:title>PowerPoint Presentation</dc:title>
</cp:coreProperties>
</file>