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695-4F17-4A26-B4CD-619F65F3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E84-E9EA-4C90-9FD0-C86EA27B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722-827B-4AD0-ABE0-EF210C3D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AFC-19C8-4916-B79E-DF3126E6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2F2-2B87-4936-A95B-88603E23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27F-8C05-4CDC-B71B-1341E6B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143-01A9-4FC9-BCB6-2BC19016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463-BCC5-42D9-A4F1-4868E34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7A4-3B4B-4146-B207-C8CDDE75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609-0DF9-467D-BB5A-3C3395F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9BB-255F-451C-8C8C-EFABF580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FDE-C1E8-4D0E-ABB6-95B85C7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F18-6576-42AA-A59A-315903E5E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914400"/>
          <a:ext cx="4495680" cy="74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14400"/>
                    <a:ext cx="4495680" cy="74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851280" y="6524640"/>
            <a:ext cx="5292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81160" y="1143000"/>
          <a:ext cx="88628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143000"/>
                    <a:ext cx="8862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133720" y="380880"/>
          <a:ext cx="457200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4572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en.spea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582948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m’appelle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ittney Spears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6101386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54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m’appelle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ctoria Beckham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eckham" descr=""/>
          <p:cNvPicPr/>
          <p:nvPr/>
        </p:nvPicPr>
        <p:blipFill>
          <a:blip r:embed="rId1"/>
          <a:stretch/>
        </p:blipFill>
        <p:spPr>
          <a:xfrm>
            <a:off x="1143000" y="114480"/>
            <a:ext cx="4648320" cy="4914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m’appelle 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vid Beckh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24080" y="304920"/>
          <a:ext cx="495468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304920"/>
                    <a:ext cx="495468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42:53Z</dcterms:created>
  <dc:creator>alison.steward</dc:creator>
  <dc:description/>
  <dc:language>en-US</dc:language>
  <cp:lastModifiedBy>Clare</cp:lastModifiedBy>
  <dcterms:modified xsi:type="dcterms:W3CDTF">2009-01-21T12:18:21Z</dcterms:modified>
  <cp:revision>4</cp:revision>
  <dc:subject/>
  <dc:title>PowerPoint Presentation</dc:title>
</cp:coreProperties>
</file>