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282-A399-4CBE-A3AE-254D468C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97F-8466-4C99-9D39-25FC584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C0C-3D6B-4D63-B3AD-731BCF9A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41C-C1B3-432D-A21F-E787A441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3D9-C910-4F4F-BF01-84B106D2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B66-CE94-4C1D-89A4-1CB4D23C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2DA-FE8E-4E99-8C1C-5CC9D478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903-9CB0-4C7A-B253-EDB0D831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0EA-54D7-4D3B-90AC-84BF566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BA3-91D9-4BD4-865F-1251A22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6B4-F2C3-4427-8482-D2CB3978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236-3A66-4570-AF4C-18EE0FF9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272-F114-4245-80E5-E5399002B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914400"/>
          <a:ext cx="4495680" cy="74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14400"/>
                    <a:ext cx="4495680" cy="74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851280" y="6524640"/>
            <a:ext cx="5292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81160" y="1143000"/>
          <a:ext cx="88628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143000"/>
                    <a:ext cx="8862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133720" y="380880"/>
          <a:ext cx="457200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4572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en.spea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582948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m’appelle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ittney Spears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6101386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54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m’appelle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ctoria Beckham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eckham" descr=""/>
          <p:cNvPicPr/>
          <p:nvPr/>
        </p:nvPicPr>
        <p:blipFill>
          <a:blip r:embed="rId1"/>
          <a:stretch/>
        </p:blipFill>
        <p:spPr>
          <a:xfrm>
            <a:off x="1143000" y="114480"/>
            <a:ext cx="4648320" cy="4914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m’appelle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vid Beckh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24080" y="304920"/>
          <a:ext cx="495468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304920"/>
                    <a:ext cx="495468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42:53Z</dcterms:created>
  <dc:creator>alison.steward</dc:creator>
  <dc:description/>
  <dc:language>en-US</dc:language>
  <cp:lastModifiedBy>Clare</cp:lastModifiedBy>
  <dcterms:modified xsi:type="dcterms:W3CDTF">2009-01-21T12:18:21Z</dcterms:modified>
  <cp:revision>4</cp:revision>
  <dc:subject/>
  <dc:title>PowerPoint Presentation</dc:title>
</cp:coreProperties>
</file>