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.png" ContentType="image/png"/>
  <Override PartName="/ppt/media/image5.jpeg" ContentType="image/jpeg"/>
  <Override PartName="/ppt/media/image18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BC2-C250-40DF-BD5E-07526F94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B18-30C5-429D-8A17-244AF79A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443-F40B-4202-9563-F061EFA0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1FD-5E8B-476C-AAC6-062AFA4B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8C0-4D14-451E-A780-7E04D119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D67-FECA-49B9-BFFE-4589A7C2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CB7-D197-4EAD-8A9E-C0B16DBB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5E5-7B85-4F17-81C7-26BECBDC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342-5A12-4327-8A03-A29E430E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E88-6082-49D1-B6BB-90420412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744-FC5E-4CEC-BF1C-8502B13A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C3A-68BE-41B0-BD0F-F931065D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D3D3-8284-4D9A-A84E-CF8903C1F3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image" Target="../media/image7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3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1.png"/><Relationship Id="rId15" Type="http://schemas.openxmlformats.org/officeDocument/2006/relationships/image" Target="../media/image9.wmf"/><Relationship Id="rId16" Type="http://schemas.openxmlformats.org/officeDocument/2006/relationships/image" Target="../media/image10.wmf"/><Relationship Id="rId17" Type="http://schemas.openxmlformats.org/officeDocument/2006/relationships/image" Target="../media/image12.wmf"/><Relationship Id="rId18" Type="http://schemas.openxmlformats.org/officeDocument/2006/relationships/image" Target="../media/image11.png"/><Relationship Id="rId19" Type="http://schemas.openxmlformats.org/officeDocument/2006/relationships/image" Target="../media/image9.wmf"/><Relationship Id="rId20" Type="http://schemas.openxmlformats.org/officeDocument/2006/relationships/image" Target="../media/image10.wmf"/><Relationship Id="rId21" Type="http://schemas.openxmlformats.org/officeDocument/2006/relationships/image" Target="../media/image12.wmf"/><Relationship Id="rId22" Type="http://schemas.openxmlformats.org/officeDocument/2006/relationships/image" Target="../media/image18.wmf"/><Relationship Id="rId23" Type="http://schemas.openxmlformats.org/officeDocument/2006/relationships/image" Target="../media/image18.wmf"/><Relationship Id="rId24" Type="http://schemas.openxmlformats.org/officeDocument/2006/relationships/image" Target="../media/image19.wmf"/><Relationship Id="rId25" Type="http://schemas.openxmlformats.org/officeDocument/2006/relationships/image" Target="../media/image19.wmf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66"/>
                </a:solidFill>
                <a:latin typeface="Comic Sans MS"/>
              </a:rPr>
              <a:t>Ma Famille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10634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1628640"/>
            <a:ext cx="1495440" cy="3619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16000" y="1413000"/>
            <a:ext cx="6896160" cy="4495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124000" y="189000"/>
            <a:ext cx="4680000" cy="107928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……….. 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Lis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..  m’………. M…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2924280"/>
            <a:ext cx="2519640" cy="22334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6920" y="5300640"/>
            <a:ext cx="7921800" cy="143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Maggi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924280"/>
            <a:ext cx="2519640" cy="22334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………., J…. m’…………. M…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89000"/>
            <a:ext cx="1726920" cy="49687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Marg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89000"/>
            <a:ext cx="1726920" cy="49687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Lis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2781360"/>
            <a:ext cx="187344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Voici ma mè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908000" y="2349000"/>
            <a:ext cx="2951280" cy="115092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Voici ma soeu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492360" y="3785760"/>
            <a:ext cx="1511280" cy="32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Voici mon frè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355640" y="2781360"/>
            <a:ext cx="647640" cy="100800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Comic Sans MS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Bar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836640"/>
            <a:ext cx="1873440" cy="21607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Voici mon pè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940360" y="2133360"/>
            <a:ext cx="1008000" cy="863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1312920" cy="1729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780000" y="3573360"/>
            <a:ext cx="1571400" cy="165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1979640" y="981000"/>
            <a:ext cx="2232000" cy="2086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26920" y="558972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Voici ma famill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64000" y="328464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477720" cy="503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1187280" y="764640"/>
            <a:ext cx="576360" cy="36036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00000" y="6021000"/>
            <a:ext cx="576360" cy="36036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3499920"/>
            <a:ext cx="576000" cy="36036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187280" y="2204640"/>
            <a:ext cx="576360" cy="36036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480960" cy="865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908000" y="1773360"/>
            <a:ext cx="300240" cy="865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692360" y="3141720"/>
            <a:ext cx="4363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1692360" y="4365720"/>
            <a:ext cx="576000" cy="538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39640" y="189000"/>
            <a:ext cx="2087640" cy="107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700280"/>
            <a:ext cx="2160720" cy="108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3068640"/>
            <a:ext cx="2160720" cy="93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221000"/>
            <a:ext cx="2160720" cy="100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6000" y="5300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Voici mon frè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19162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Voici ma so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29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Voici mon pè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0" y="42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Voici ma mè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755640" y="1916280"/>
            <a:ext cx="477720" cy="502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611280" y="4292640"/>
            <a:ext cx="477720" cy="503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611280" y="3213000"/>
            <a:ext cx="477720" cy="503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9640" y="5445000"/>
            <a:ext cx="2880000" cy="100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684360" y="5516640"/>
            <a:ext cx="477720" cy="503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0"/>
          <a:stretch/>
        </p:blipFill>
        <p:spPr>
          <a:xfrm>
            <a:off x="1403280" y="5516640"/>
            <a:ext cx="576360" cy="538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1"/>
          <a:stretch/>
        </p:blipFill>
        <p:spPr>
          <a:xfrm>
            <a:off x="1908000" y="5805360"/>
            <a:ext cx="436680" cy="576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"/>
          <a:stretch/>
        </p:blipFill>
        <p:spPr>
          <a:xfrm>
            <a:off x="2411280" y="5516640"/>
            <a:ext cx="300240" cy="865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2843280" y="5516640"/>
            <a:ext cx="480960" cy="865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724360" y="765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Voici ma fam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411280" y="380880"/>
            <a:ext cx="648036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Comic Sans MS"/>
              </a:rPr>
              <a:t>Pèr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èr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œu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Frè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’es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 famil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C’est moi                                        C’es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a famil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etit                                C’es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 fami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e te présente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mon pè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Bonjour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Monsieu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etit                                    Je te présent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 mè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Bonjou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da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etit                                      Je te présent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 sœu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éphani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Salu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éphani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Je te présente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mon frè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Luci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Salut </a:t>
            </a:r>
            <a:r>
              <a:rPr b="1" lang="en-US" sz="2800" spc="-1" strike="noStrike">
                <a:solidFill>
                  <a:srgbClr val="3366cc"/>
                </a:solidFill>
                <a:latin typeface="Comic Sans MS"/>
              </a:rPr>
              <a:t>Luci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 rot="5400000">
            <a:off x="-1908000" y="2708280"/>
            <a:ext cx="5759280" cy="144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 flipH="1">
            <a:off x="6842160" y="0"/>
            <a:ext cx="2301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flipH="1">
            <a:off x="4575240" y="549360"/>
            <a:ext cx="712800" cy="7189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013440" y="549360"/>
            <a:ext cx="712800" cy="7174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132000" y="549360"/>
            <a:ext cx="719280" cy="71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451640" y="549360"/>
            <a:ext cx="719280" cy="71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2411280" y="1554120"/>
            <a:ext cx="1440000" cy="727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4290840" y="1557360"/>
            <a:ext cx="479520" cy="72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246" name=""/>
          <p:cNvGrpSpPr/>
          <p:nvPr/>
        </p:nvGrpSpPr>
        <p:grpSpPr>
          <a:xfrm>
            <a:off x="5210280" y="1495440"/>
            <a:ext cx="1800000" cy="1015920"/>
            <a:chOff x="5210280" y="1495440"/>
            <a:chExt cx="1800000" cy="1015920"/>
          </a:xfrm>
        </p:grpSpPr>
        <p:pic>
          <p:nvPicPr>
            <p:cNvPr id="247" name="" descr=""/>
            <p:cNvPicPr/>
            <p:nvPr/>
          </p:nvPicPr>
          <p:blipFill>
            <a:blip r:embed="rId7"/>
            <a:stretch/>
          </p:blipFill>
          <p:spPr>
            <a:xfrm>
              <a:off x="5210280" y="1495440"/>
              <a:ext cx="18000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959080" y="2090880"/>
              <a:ext cx="299880" cy="42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" descr=""/>
          <p:cNvPicPr/>
          <p:nvPr/>
        </p:nvPicPr>
        <p:blipFill>
          <a:blip r:embed="rId9"/>
          <a:stretch/>
        </p:blipFill>
        <p:spPr>
          <a:xfrm>
            <a:off x="7451640" y="1555920"/>
            <a:ext cx="1440000" cy="726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0"/>
          <a:stretch/>
        </p:blipFill>
        <p:spPr>
          <a:xfrm>
            <a:off x="3132000" y="256716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1"/>
          <a:stretch/>
        </p:blipFill>
        <p:spPr>
          <a:xfrm>
            <a:off x="3132000" y="558972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2"/>
          <a:stretch/>
        </p:blipFill>
        <p:spPr>
          <a:xfrm>
            <a:off x="3132000" y="357516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3"/>
          <a:stretch/>
        </p:blipFill>
        <p:spPr>
          <a:xfrm>
            <a:off x="3132000" y="458136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4"/>
          <a:stretch/>
        </p:blipFill>
        <p:spPr>
          <a:xfrm>
            <a:off x="4573440" y="2567160"/>
            <a:ext cx="719280" cy="71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55" name="" descr=""/>
          <p:cNvPicPr/>
          <p:nvPr/>
        </p:nvPicPr>
        <p:blipFill>
          <a:blip r:embed="rId15"/>
          <a:stretch/>
        </p:blipFill>
        <p:spPr>
          <a:xfrm flipH="1">
            <a:off x="4579920" y="3575160"/>
            <a:ext cx="712800" cy="7189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16"/>
          <a:stretch/>
        </p:blipFill>
        <p:spPr>
          <a:xfrm>
            <a:off x="4579920" y="4583160"/>
            <a:ext cx="712800" cy="7174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17"/>
          <a:stretch/>
        </p:blipFill>
        <p:spPr>
          <a:xfrm>
            <a:off x="4573440" y="5589720"/>
            <a:ext cx="719280" cy="71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18"/>
          <a:stretch/>
        </p:blipFill>
        <p:spPr>
          <a:xfrm>
            <a:off x="7453440" y="2570040"/>
            <a:ext cx="718920" cy="719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19"/>
          <a:stretch/>
        </p:blipFill>
        <p:spPr>
          <a:xfrm flipH="1">
            <a:off x="7459560" y="3576600"/>
            <a:ext cx="712800" cy="7192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20"/>
          <a:stretch/>
        </p:blipFill>
        <p:spPr>
          <a:xfrm>
            <a:off x="7459560" y="4583160"/>
            <a:ext cx="712800" cy="7174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21"/>
          <a:stretch/>
        </p:blipFill>
        <p:spPr>
          <a:xfrm>
            <a:off x="7453440" y="5589720"/>
            <a:ext cx="718920" cy="71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2"/>
          <a:stretch/>
        </p:blipFill>
        <p:spPr>
          <a:xfrm>
            <a:off x="6013440" y="2739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3"/>
          <a:stretch/>
        </p:blipFill>
        <p:spPr>
          <a:xfrm>
            <a:off x="6013440" y="3689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4"/>
          <a:stretch/>
        </p:blipFill>
        <p:spPr>
          <a:xfrm flipH="1">
            <a:off x="6013440" y="46386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5"/>
          <a:stretch/>
        </p:blipFill>
        <p:spPr>
          <a:xfrm flipH="1">
            <a:off x="6013440" y="5589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 rot="5400000">
            <a:off x="-1908000" y="2708280"/>
            <a:ext cx="5759280" cy="144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Hom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189000"/>
            <a:ext cx="1873080" cy="446400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Lis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2781360"/>
            <a:ext cx="1873080" cy="21603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5300640"/>
            <a:ext cx="7921800" cy="143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Maggi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2924280"/>
            <a:ext cx="2519640" cy="22334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Marg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89000"/>
            <a:ext cx="1726920" cy="49687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Comic Sans MS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Bar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836640"/>
            <a:ext cx="1873440" cy="21607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…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189000"/>
            <a:ext cx="1873080" cy="446400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a Famil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77080" y="404640"/>
            <a:ext cx="1495440" cy="403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198440" cy="460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157176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050920" y="2997360"/>
            <a:ext cx="2232000" cy="2085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5300640"/>
            <a:ext cx="7921800" cy="76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Comic Sans MS"/>
              </a:rPr>
              <a:t>Bonjour, Je m’appelle Hom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189000"/>
            <a:ext cx="1873080" cy="446400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1:24:59Z</dcterms:created>
  <dc:creator>nick.adcock</dc:creator>
  <dc:description/>
  <dc:language>en-US</dc:language>
  <cp:lastModifiedBy>Clare</cp:lastModifiedBy>
  <dcterms:modified xsi:type="dcterms:W3CDTF">2009-01-28T10:16:49Z</dcterms:modified>
  <cp:revision>6</cp:revision>
  <dc:subject/>
  <dc:title>Ma Famille</dc:title>
</cp:coreProperties>
</file>