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.png" ContentType="image/png"/>
  <Override PartName="/ppt/media/image5.jpeg" ContentType="image/jpeg"/>
  <Override PartName="/ppt/media/image18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2.png" ContentType="image/png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2085-DA9A-42F8-A7F3-F2D31324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D03-11C0-47E5-84E6-7641AA0F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39CC-AA30-4AFD-AFBF-0785FCCF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582-8884-44E9-B58D-51FFC022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F666-3F10-49D4-918C-EFC001E9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86CE-066D-4B51-B9ED-08408B23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0033-94ED-43C2-BD85-64A1E150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9775-F36C-471C-93B4-5BA5ECAA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4447-5C54-4CD5-8A5F-842C15A2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7A57-B6D1-4476-A7B6-C82E931C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FF97-35C0-4FA5-B09E-B73974C1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850-A718-4607-9100-7D670F56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4B42-0B4B-49A6-A64D-763A806093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6.png"/><Relationship Id="rId11" Type="http://schemas.openxmlformats.org/officeDocument/2006/relationships/image" Target="../media/image1.png"/><Relationship Id="rId12" Type="http://schemas.openxmlformats.org/officeDocument/2006/relationships/image" Target="../media/image7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3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1.png"/><Relationship Id="rId15" Type="http://schemas.openxmlformats.org/officeDocument/2006/relationships/image" Target="../media/image9.wmf"/><Relationship Id="rId16" Type="http://schemas.openxmlformats.org/officeDocument/2006/relationships/image" Target="../media/image10.wmf"/><Relationship Id="rId17" Type="http://schemas.openxmlformats.org/officeDocument/2006/relationships/image" Target="../media/image12.wmf"/><Relationship Id="rId18" Type="http://schemas.openxmlformats.org/officeDocument/2006/relationships/image" Target="../media/image11.png"/><Relationship Id="rId19" Type="http://schemas.openxmlformats.org/officeDocument/2006/relationships/image" Target="../media/image9.wmf"/><Relationship Id="rId20" Type="http://schemas.openxmlformats.org/officeDocument/2006/relationships/image" Target="../media/image10.wmf"/><Relationship Id="rId21" Type="http://schemas.openxmlformats.org/officeDocument/2006/relationships/image" Target="../media/image12.wmf"/><Relationship Id="rId22" Type="http://schemas.openxmlformats.org/officeDocument/2006/relationships/image" Target="../media/image18.wmf"/><Relationship Id="rId23" Type="http://schemas.openxmlformats.org/officeDocument/2006/relationships/image" Target="../media/image18.wmf"/><Relationship Id="rId24" Type="http://schemas.openxmlformats.org/officeDocument/2006/relationships/image" Target="../media/image19.wmf"/><Relationship Id="rId25" Type="http://schemas.openxmlformats.org/officeDocument/2006/relationships/image" Target="../media/image19.wmf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66"/>
                </a:solidFill>
                <a:latin typeface="Comic Sans MS"/>
              </a:rPr>
              <a:t>Ma Famille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1063440" cy="1400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27640" y="1628640"/>
            <a:ext cx="1495440" cy="3619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116000" y="1413000"/>
            <a:ext cx="6896160" cy="4495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2124000" y="189000"/>
            <a:ext cx="4680000" cy="1079280"/>
          </a:xfrm>
          <a:prstGeom prst="rect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e m’……….. …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781360"/>
            <a:ext cx="1873080" cy="216036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e m’appelle Lis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32360" y="2781360"/>
            <a:ext cx="1873080" cy="216036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..  m’………. M…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2924280"/>
            <a:ext cx="2519640" cy="223344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26920" y="5300640"/>
            <a:ext cx="7921800" cy="143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e m’appelle Maggi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2924280"/>
            <a:ext cx="2519640" cy="223344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………., J…. m’…………. M…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89000"/>
            <a:ext cx="1726920" cy="496872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e m’appelle Marg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89000"/>
            <a:ext cx="1726920" cy="496872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e m’appelle Lis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59280" y="2781360"/>
            <a:ext cx="1873440" cy="216036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Voici ma mèr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2781360"/>
            <a:ext cx="1873080" cy="216036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1908000" y="2349000"/>
            <a:ext cx="2951280" cy="115092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Voici ma soeu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32360" y="2781360"/>
            <a:ext cx="1873080" cy="216036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3492360" y="3785760"/>
            <a:ext cx="1511280" cy="324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Voici mon frèr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32360" y="2781360"/>
            <a:ext cx="1873080" cy="216036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355640" y="2781360"/>
            <a:ext cx="647640" cy="100800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Comic Sans MS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e m’appelle Bar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5280" y="836640"/>
            <a:ext cx="1873440" cy="216072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Voici mon pèr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2781360"/>
            <a:ext cx="1873080" cy="216036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940360" y="2133360"/>
            <a:ext cx="1008000" cy="86364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003640" y="1125360"/>
            <a:ext cx="1312920" cy="1729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3780000" y="3573360"/>
            <a:ext cx="1571400" cy="1656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1979640" y="981000"/>
            <a:ext cx="2232000" cy="20862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826920" y="558972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Voici ma famill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64000" y="3284640"/>
            <a:ext cx="1873080" cy="216036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477720" cy="503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flipV="1">
            <a:off x="1187280" y="764640"/>
            <a:ext cx="576360" cy="36036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00000" y="6021000"/>
            <a:ext cx="576360" cy="36036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971640" y="3499920"/>
            <a:ext cx="576000" cy="36036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187280" y="2204640"/>
            <a:ext cx="576360" cy="36036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835280" y="333360"/>
            <a:ext cx="480960" cy="865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908000" y="1773360"/>
            <a:ext cx="300240" cy="865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1692360" y="3141720"/>
            <a:ext cx="436320" cy="576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1692360" y="4365720"/>
            <a:ext cx="576000" cy="538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39640" y="189000"/>
            <a:ext cx="2087640" cy="107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1700280"/>
            <a:ext cx="2160720" cy="1081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3068640"/>
            <a:ext cx="2160720" cy="936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221000"/>
            <a:ext cx="2160720" cy="1008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96000" y="5300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Voici mon frè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191628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Voici ma so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24360" y="29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Voici mon pè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6000" y="4221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Voici ma mè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755640" y="1916280"/>
            <a:ext cx="477720" cy="502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611280" y="4292640"/>
            <a:ext cx="477720" cy="503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8"/>
          <a:stretch/>
        </p:blipFill>
        <p:spPr>
          <a:xfrm>
            <a:off x="611280" y="3213000"/>
            <a:ext cx="477720" cy="503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39640" y="5445000"/>
            <a:ext cx="2880000" cy="1008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9"/>
          <a:stretch/>
        </p:blipFill>
        <p:spPr>
          <a:xfrm>
            <a:off x="684360" y="5516640"/>
            <a:ext cx="477720" cy="503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0"/>
          <a:stretch/>
        </p:blipFill>
        <p:spPr>
          <a:xfrm>
            <a:off x="1403280" y="5516640"/>
            <a:ext cx="576360" cy="538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1"/>
          <a:stretch/>
        </p:blipFill>
        <p:spPr>
          <a:xfrm>
            <a:off x="1908000" y="5805360"/>
            <a:ext cx="436680" cy="576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2"/>
          <a:stretch/>
        </p:blipFill>
        <p:spPr>
          <a:xfrm>
            <a:off x="2411280" y="5516640"/>
            <a:ext cx="300240" cy="865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3"/>
          <a:stretch/>
        </p:blipFill>
        <p:spPr>
          <a:xfrm>
            <a:off x="2843280" y="5516640"/>
            <a:ext cx="480960" cy="8650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724360" y="765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Voici ma fami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411280" y="380880"/>
            <a:ext cx="6480360" cy="65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Comic Sans MS"/>
              </a:rPr>
              <a:t>Pèr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Mèr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œu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66cc"/>
                </a:solidFill>
                <a:latin typeface="Comic Sans MS"/>
              </a:rPr>
              <a:t>Frè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’est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a famill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C’est moi                                        C’est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a famill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etit                                C’est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a famil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Je te présente </a:t>
            </a:r>
            <a:r>
              <a:rPr b="1" lang="en-US" sz="2800" spc="-1" strike="noStrike">
                <a:solidFill>
                  <a:srgbClr val="3366cc"/>
                </a:solidFill>
                <a:latin typeface="Comic Sans MS"/>
              </a:rPr>
              <a:t>mon pèr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Bonjour </a:t>
            </a:r>
            <a:r>
              <a:rPr b="1" lang="en-US" sz="2800" spc="-1" strike="noStrike">
                <a:solidFill>
                  <a:srgbClr val="3366cc"/>
                </a:solidFill>
                <a:latin typeface="Comic Sans MS"/>
              </a:rPr>
              <a:t>Monsieu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etit                                    Je te présent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a mèr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      Bonjou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adam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etit                                      Je te présent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a sœu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éphani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         Salut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éphani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Je te présente </a:t>
            </a:r>
            <a:r>
              <a:rPr b="1" lang="en-US" sz="2800" spc="-1" strike="noStrike">
                <a:solidFill>
                  <a:srgbClr val="3366cc"/>
                </a:solidFill>
                <a:latin typeface="Comic Sans MS"/>
              </a:rPr>
              <a:t>mon frèr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3366cc"/>
                </a:solidFill>
                <a:latin typeface="Comic Sans MS"/>
              </a:rPr>
              <a:t>Lucie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        Salut </a:t>
            </a:r>
            <a:r>
              <a:rPr b="1" lang="en-US" sz="2800" spc="-1" strike="noStrike">
                <a:solidFill>
                  <a:srgbClr val="3366cc"/>
                </a:solidFill>
                <a:latin typeface="Comic Sans MS"/>
              </a:rPr>
              <a:t>Luci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 rot="5400000">
            <a:off x="-1908000" y="2708280"/>
            <a:ext cx="5759280" cy="144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FAMI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 flipH="1">
            <a:off x="6842160" y="0"/>
            <a:ext cx="2301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 flipH="1">
            <a:off x="4575240" y="549360"/>
            <a:ext cx="712800" cy="7189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013440" y="549360"/>
            <a:ext cx="712800" cy="7174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3132000" y="549360"/>
            <a:ext cx="719280" cy="7189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7451640" y="549360"/>
            <a:ext cx="719280" cy="7189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2411280" y="1554120"/>
            <a:ext cx="1440000" cy="727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4290840" y="1557360"/>
            <a:ext cx="479520" cy="72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pSp>
        <p:nvGrpSpPr>
          <p:cNvPr id="246" name=""/>
          <p:cNvGrpSpPr/>
          <p:nvPr/>
        </p:nvGrpSpPr>
        <p:grpSpPr>
          <a:xfrm>
            <a:off x="5210280" y="1495440"/>
            <a:ext cx="1800000" cy="1015920"/>
            <a:chOff x="5210280" y="1495440"/>
            <a:chExt cx="1800000" cy="1015920"/>
          </a:xfrm>
        </p:grpSpPr>
        <p:pic>
          <p:nvPicPr>
            <p:cNvPr id="247" name="" descr=""/>
            <p:cNvPicPr/>
            <p:nvPr/>
          </p:nvPicPr>
          <p:blipFill>
            <a:blip r:embed="rId7"/>
            <a:stretch/>
          </p:blipFill>
          <p:spPr>
            <a:xfrm>
              <a:off x="5210280" y="1495440"/>
              <a:ext cx="180000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8"/>
            <a:stretch/>
          </p:blipFill>
          <p:spPr>
            <a:xfrm>
              <a:off x="5959080" y="2090880"/>
              <a:ext cx="299880" cy="420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9" name="" descr=""/>
          <p:cNvPicPr/>
          <p:nvPr/>
        </p:nvPicPr>
        <p:blipFill>
          <a:blip r:embed="rId9"/>
          <a:stretch/>
        </p:blipFill>
        <p:spPr>
          <a:xfrm>
            <a:off x="7451640" y="1555920"/>
            <a:ext cx="1440000" cy="7268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0"/>
          <a:stretch/>
        </p:blipFill>
        <p:spPr>
          <a:xfrm>
            <a:off x="3132000" y="256716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1"/>
          <a:stretch/>
        </p:blipFill>
        <p:spPr>
          <a:xfrm>
            <a:off x="3132000" y="558972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2"/>
          <a:stretch/>
        </p:blipFill>
        <p:spPr>
          <a:xfrm>
            <a:off x="3132000" y="357516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3"/>
          <a:stretch/>
        </p:blipFill>
        <p:spPr>
          <a:xfrm>
            <a:off x="3132000" y="458136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4"/>
          <a:stretch/>
        </p:blipFill>
        <p:spPr>
          <a:xfrm>
            <a:off x="4573440" y="2567160"/>
            <a:ext cx="719280" cy="7189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255" name="" descr=""/>
          <p:cNvPicPr/>
          <p:nvPr/>
        </p:nvPicPr>
        <p:blipFill>
          <a:blip r:embed="rId15"/>
          <a:stretch/>
        </p:blipFill>
        <p:spPr>
          <a:xfrm flipH="1">
            <a:off x="4579920" y="3575160"/>
            <a:ext cx="712800" cy="7189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256" name="" descr=""/>
          <p:cNvPicPr/>
          <p:nvPr/>
        </p:nvPicPr>
        <p:blipFill>
          <a:blip r:embed="rId16"/>
          <a:stretch/>
        </p:blipFill>
        <p:spPr>
          <a:xfrm>
            <a:off x="4579920" y="4583160"/>
            <a:ext cx="712800" cy="7174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257" name="" descr=""/>
          <p:cNvPicPr/>
          <p:nvPr/>
        </p:nvPicPr>
        <p:blipFill>
          <a:blip r:embed="rId17"/>
          <a:stretch/>
        </p:blipFill>
        <p:spPr>
          <a:xfrm>
            <a:off x="4573440" y="5589720"/>
            <a:ext cx="719280" cy="7189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258" name="" descr=""/>
          <p:cNvPicPr/>
          <p:nvPr/>
        </p:nvPicPr>
        <p:blipFill>
          <a:blip r:embed="rId18"/>
          <a:stretch/>
        </p:blipFill>
        <p:spPr>
          <a:xfrm>
            <a:off x="7453440" y="2570040"/>
            <a:ext cx="718920" cy="7192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259" name="" descr=""/>
          <p:cNvPicPr/>
          <p:nvPr/>
        </p:nvPicPr>
        <p:blipFill>
          <a:blip r:embed="rId19"/>
          <a:stretch/>
        </p:blipFill>
        <p:spPr>
          <a:xfrm flipH="1">
            <a:off x="7459560" y="3576600"/>
            <a:ext cx="712800" cy="7192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260" name="" descr=""/>
          <p:cNvPicPr/>
          <p:nvPr/>
        </p:nvPicPr>
        <p:blipFill>
          <a:blip r:embed="rId20"/>
          <a:stretch/>
        </p:blipFill>
        <p:spPr>
          <a:xfrm>
            <a:off x="7459560" y="4583160"/>
            <a:ext cx="712800" cy="7174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261" name="" descr=""/>
          <p:cNvPicPr/>
          <p:nvPr/>
        </p:nvPicPr>
        <p:blipFill>
          <a:blip r:embed="rId21"/>
          <a:stretch/>
        </p:blipFill>
        <p:spPr>
          <a:xfrm>
            <a:off x="7453440" y="5589720"/>
            <a:ext cx="718920" cy="7189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22"/>
          <a:stretch/>
        </p:blipFill>
        <p:spPr>
          <a:xfrm>
            <a:off x="6013440" y="2739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3"/>
          <a:stretch/>
        </p:blipFill>
        <p:spPr>
          <a:xfrm>
            <a:off x="6013440" y="3689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4"/>
          <a:stretch/>
        </p:blipFill>
        <p:spPr>
          <a:xfrm flipH="1">
            <a:off x="6013440" y="46386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5"/>
          <a:stretch/>
        </p:blipFill>
        <p:spPr>
          <a:xfrm flipH="1">
            <a:off x="6013440" y="55897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 rot="5400000">
            <a:off x="-1908000" y="2708280"/>
            <a:ext cx="5759280" cy="144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FAMI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e m’appelle Hom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59640" y="189000"/>
            <a:ext cx="1873080" cy="446400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e m’appelle Lis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2781360"/>
            <a:ext cx="1873080" cy="216036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26920" y="5300640"/>
            <a:ext cx="7921800" cy="143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e m’appelle Maggi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2924280"/>
            <a:ext cx="2519640" cy="223344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e m’appelle Marg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89000"/>
            <a:ext cx="1726920" cy="496872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Comic Sans MS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e m’appelle Bar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5280" y="836640"/>
            <a:ext cx="1873440" cy="216072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e m’appelle …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59640" y="189000"/>
            <a:ext cx="1873080" cy="446400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e m’appelle Hom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59640" y="189000"/>
            <a:ext cx="1873080" cy="446400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11:24:59Z</dcterms:created>
  <dc:creator>nick.adcock</dc:creator>
  <dc:description/>
  <dc:language>en-US</dc:language>
  <cp:lastModifiedBy>Clare</cp:lastModifiedBy>
  <dcterms:modified xsi:type="dcterms:W3CDTF">2009-01-28T10:16:49Z</dcterms:modified>
  <cp:revision>6</cp:revision>
  <dc:subject/>
  <dc:title>Ma Famille</dc:title>
</cp:coreProperties>
</file>