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308-3385-4AA9-905F-77FEDE9D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C69-1282-4A9D-98AB-A085B31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E6F-8DA5-4472-AC19-BFB10584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E7E-7118-449C-B2B9-7D9C69AD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2CC-E00D-4CD9-9210-BE0291D5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A67-103B-4355-9032-F596419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14D-9F0E-4197-B0EB-D2D69BF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9BF-07BE-4CA2-AF9A-38E475B7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DA8-AD50-4E51-9C67-F8CF662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04C-39E8-4CCE-90F8-097ECDD4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251-866D-43BA-86C6-B720B3BE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864-315D-4733-A6C2-0E51787E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4B3-B179-4565-A0C4-F9A086E4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314280" y="795240"/>
            <a:ext cx="6213600" cy="828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868320"/>
            <a:ext cx="618984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3360" y="830160"/>
            <a:ext cx="618192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0440" y="272880"/>
            <a:ext cx="5902200" cy="93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2000160"/>
            <a:ext cx="61912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3360" y="2394000"/>
            <a:ext cx="6191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3360" y="1042920"/>
            <a:ext cx="6200640" cy="77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0280" y="200160"/>
            <a:ext cx="6337440" cy="9505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3360" y="1352520"/>
            <a:ext cx="62038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2:27:14Z</dcterms:created>
  <dc:creator>ben.dalglish</dc:creator>
  <dc:description/>
  <dc:language>en-US</dc:language>
  <cp:lastModifiedBy>ben.dalglish</cp:lastModifiedBy>
  <dcterms:modified xsi:type="dcterms:W3CDTF">2006-11-08T12:08:52Z</dcterms:modified>
  <cp:revision>3</cp:revision>
  <dc:subject/>
  <dc:title>Slide 1</dc:title>
</cp:coreProperties>
</file>