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852F-6393-4716-91C7-EC0F0DF1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F2A8-3CAB-4E37-83D0-F9DBE769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8F1F-B3F3-4225-BC55-DF46D531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364F-2632-47F9-A0CC-ABEC1380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49CF-7FB3-480D-A9BE-9861F76D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647B-3E1E-491A-A9D3-60AB78F3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688B-5FDB-4324-9C62-207B4B9B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2768-95F1-457B-8A7E-FDC60E73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4494-6E9B-4BBC-8068-0A3A206E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3AB1-5D8D-426C-8B65-A68A0D23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39EF-8B4B-4E08-9427-5DC33455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6A30-C21F-4DD5-84B7-25227747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87C7-BB3F-4BA8-8C05-5C3A58282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0280" y="200160"/>
            <a:ext cx="6337440" cy="9505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flipH="1">
            <a:off x="314280" y="795240"/>
            <a:ext cx="6213600" cy="828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60280" y="200160"/>
            <a:ext cx="6337440" cy="950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33360" y="868320"/>
            <a:ext cx="6189840" cy="813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0280" y="200160"/>
            <a:ext cx="6337440" cy="9505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3360" y="830160"/>
            <a:ext cx="6181920" cy="820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0280" y="200160"/>
            <a:ext cx="6337440" cy="950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0440" y="272880"/>
            <a:ext cx="5902200" cy="936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0280" y="200160"/>
            <a:ext cx="6337440" cy="9505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3360" y="2000160"/>
            <a:ext cx="619128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0280" y="200160"/>
            <a:ext cx="6337440" cy="9505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33360" y="2394000"/>
            <a:ext cx="619128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0280" y="200160"/>
            <a:ext cx="6337440" cy="950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33360" y="1042920"/>
            <a:ext cx="6200640" cy="777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0280" y="200160"/>
            <a:ext cx="6337440" cy="9505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33360" y="1352520"/>
            <a:ext cx="62038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2:27:14Z</dcterms:created>
  <dc:creator>ben.dalglish</dc:creator>
  <dc:description/>
  <dc:language>en-US</dc:language>
  <cp:lastModifiedBy>ben.dalglish</cp:lastModifiedBy>
  <dcterms:modified xsi:type="dcterms:W3CDTF">2006-11-08T12:08:52Z</dcterms:modified>
  <cp:revision>3</cp:revision>
  <dc:subject/>
  <dc:title>Slide 1</dc:title>
</cp:coreProperties>
</file>