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C52-59E6-4BE0-8F8F-4AFE9F3E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54E-BD72-463E-9552-256A0C5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6C5-7AAB-4BFB-8511-25C050C9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D66-5F66-41EF-A05D-89F5B7D3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8E1-3536-41D5-8B84-80C2DEEB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DC8-2E80-4AC9-9C92-3762666C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E70-9960-49CB-BA4A-855D7173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601-34D7-4863-8CDA-1D574E49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403-0693-4C2A-AD35-C4732E19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1AE-387B-42DE-B2E3-65597F1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740-30AB-444A-84CA-CF85350D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51D-B60D-4A6C-B6A7-4370B04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77F-98DE-441D-A812-7E024E593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hyperlink" Target="http://www.sunderlandschools.org/mfl-sunderland" TargetMode="External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image" Target="../media/image8.wmf"/><Relationship Id="rId7" Type="http://schemas.openxmlformats.org/officeDocument/2006/relationships/image" Target="../media/image4.wmf"/><Relationship Id="rId8" Type="http://schemas.openxmlformats.org/officeDocument/2006/relationships/image" Target="../media/image8.wmf"/><Relationship Id="rId9" Type="http://schemas.openxmlformats.org/officeDocument/2006/relationships/image" Target="../media/image5.wmf"/><Relationship Id="rId10" Type="http://schemas.openxmlformats.org/officeDocument/2006/relationships/image" Target="../media/image8.wmf"/><Relationship Id="rId11" Type="http://schemas.openxmlformats.org/officeDocument/2006/relationships/image" Target="../media/image3.wmf"/><Relationship Id="rId12" Type="http://schemas.openxmlformats.org/officeDocument/2006/relationships/image" Target="../media/image7.wmf"/><Relationship Id="rId13" Type="http://schemas.openxmlformats.org/officeDocument/2006/relationships/image" Target="../media/image1.wmf"/><Relationship Id="rId14" Type="http://schemas.openxmlformats.org/officeDocument/2006/relationships/image" Target="../media/image7.wmf"/><Relationship Id="rId15" Type="http://schemas.openxmlformats.org/officeDocument/2006/relationships/image" Target="../media/image4.wmf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704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9600" y="333360"/>
            <a:ext cx="2160360" cy="28796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790">
                <a:moveTo>
                  <a:pt x="3600" y="0"/>
                </a:moveTo>
                <a:arcTo wR="3600" hR="3600" stAng="16200000" swAng="-5400000"/>
                <a:lnTo>
                  <a:pt x="0" y="25190"/>
                </a:lnTo>
                <a:arcTo wR="3600" hR="3600" stAng="10800000" swAng="-5400000"/>
                <a:lnTo>
                  <a:pt x="18000" y="28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6200000">
            <a:off x="308160" y="944640"/>
            <a:ext cx="2087280" cy="158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200000">
            <a:off x="2938680" y="836280"/>
            <a:ext cx="1401480" cy="192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6200000">
            <a:off x="5456880" y="908640"/>
            <a:ext cx="1371600" cy="186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rot="16200000">
            <a:off x="7688880" y="837360"/>
            <a:ext cx="1905120" cy="1903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 rot="16200000">
            <a:off x="345240" y="4436280"/>
            <a:ext cx="1866960" cy="147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 rot="16200000">
            <a:off x="2721600" y="4220280"/>
            <a:ext cx="1974960" cy="17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 rot="16200000">
            <a:off x="7558200" y="40636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 rot="16200000">
            <a:off x="5096520" y="4077000"/>
            <a:ext cx="2098440" cy="172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32880" y="404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61240" y="40464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522800">
            <a:off x="300960" y="2491920"/>
            <a:ext cx="332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867040" y="27795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327640" y="27648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7704360" y="2764800"/>
            <a:ext cx="50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45960" y="6019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059000">
            <a:off x="2723040" y="6018840"/>
            <a:ext cx="50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184000" y="600624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690680" y="6019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2160" y="6597720"/>
            <a:ext cx="74739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9 R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9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6840" y="333360"/>
            <a:ext cx="2159280" cy="2879640"/>
          </a:xfrm>
          <a:custGeom>
            <a:avLst/>
            <a:gdLst>
              <a:gd name="textAreaLeft" fmla="*/ 105120 w 2159280"/>
              <a:gd name="textAreaRight" fmla="*/ 2054160 w 215928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05">
                <a:moveTo>
                  <a:pt x="3600" y="0"/>
                </a:moveTo>
                <a:arcTo wR="3600" hR="3600" stAng="16200000" swAng="-5400000"/>
                <a:lnTo>
                  <a:pt x="0" y="25205"/>
                </a:lnTo>
                <a:arcTo wR="3600" hR="3600" stAng="10800000" swAng="-5400000"/>
                <a:lnTo>
                  <a:pt x="18000" y="288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16560" y="177192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468520" y="16610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790160" y="1718280"/>
            <a:ext cx="27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ch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7998840" y="139212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189640" y="1147680"/>
            <a:ext cx="11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-60120" y="4407480"/>
            <a:ext cx="259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jo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u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262320" y="4666320"/>
            <a:ext cx="10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189040" y="477036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7223040" y="475668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0160" y="26028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5240" y="333360"/>
            <a:ext cx="2159280" cy="2879640"/>
          </a:xfrm>
          <a:custGeom>
            <a:avLst/>
            <a:gdLst>
              <a:gd name="textAreaLeft" fmla="*/ 105120 w 2159280"/>
              <a:gd name="textAreaRight" fmla="*/ 2054160 w 215928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05">
                <a:moveTo>
                  <a:pt x="3600" y="0"/>
                </a:moveTo>
                <a:arcTo wR="3600" hR="3600" stAng="16200000" swAng="-5400000"/>
                <a:lnTo>
                  <a:pt x="0" y="25205"/>
                </a:lnTo>
                <a:arcTo wR="3600" hR="3600" stAng="10800000" swAng="-5400000"/>
                <a:lnTo>
                  <a:pt x="18000" y="288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5400000">
            <a:off x="483120" y="552960"/>
            <a:ext cx="129708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775440" y="1915200"/>
            <a:ext cx="987480" cy="1030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3157560" y="255240"/>
            <a:ext cx="1224000" cy="166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5400000">
            <a:off x="3216600" y="1851840"/>
            <a:ext cx="1023840" cy="115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5400000">
            <a:off x="5523120" y="336960"/>
            <a:ext cx="1295640" cy="1862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 rot="5400000">
            <a:off x="5595480" y="1993680"/>
            <a:ext cx="12348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 rot="5400000">
            <a:off x="8049240" y="550080"/>
            <a:ext cx="1366920" cy="13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rot="5400000">
            <a:off x="8115120" y="2060640"/>
            <a:ext cx="1158840" cy="1003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 rot="5400000">
            <a:off x="561600" y="3859200"/>
            <a:ext cx="1362240" cy="1076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 rot="5400000">
            <a:off x="517320" y="5198760"/>
            <a:ext cx="1297080" cy="106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 rot="5400000">
            <a:off x="3037680" y="3471120"/>
            <a:ext cx="1371600" cy="186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 rot="5400000">
            <a:off x="3116520" y="5193360"/>
            <a:ext cx="1201680" cy="113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 rot="5400000">
            <a:off x="5748840" y="3850200"/>
            <a:ext cx="108108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 rot="5400000">
            <a:off x="5714640" y="5114880"/>
            <a:ext cx="1081080" cy="102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 rot="5400000">
            <a:off x="7868520" y="3897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 rot="5400000">
            <a:off x="8089560" y="5189400"/>
            <a:ext cx="1081080" cy="101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1070000">
            <a:off x="1810800" y="451800"/>
            <a:ext cx="33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57240" y="404640"/>
            <a:ext cx="28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579800">
            <a:off x="4231800" y="475920"/>
            <a:ext cx="332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608160" y="474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9067320" y="48888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783800" y="37875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263800">
            <a:off x="4304520" y="3714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6752520" y="37144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9227880" y="3789000"/>
            <a:ext cx="332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704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-231840" y="1771200"/>
            <a:ext cx="33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nage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172960" y="131076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joue bien au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695840" y="127512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danse 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16200" y="134748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chante 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-488880" y="4442400"/>
            <a:ext cx="29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lis très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2893680" y="4781520"/>
            <a:ext cx="22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269680" y="4551840"/>
            <a:ext cx="187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nage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7365240" y="4566960"/>
            <a:ext cx="218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chante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604960" y="4501080"/>
            <a:ext cx="20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danse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016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7040" y="33336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47800" y="33336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95800" y="33336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16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47040" y="3645000"/>
            <a:ext cx="2158920" cy="287964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879640"/>
              <a:gd name="textAreaBottom" fmla="*/ 2774520 h 2879640"/>
            </a:gdLst>
            <a:ahLst/>
            <a:rect l="textAreaLeft" t="textAreaTop" r="textAreaRight" b="textAreaBottom"/>
            <a:pathLst>
              <a:path w="21600" h="28810">
                <a:moveTo>
                  <a:pt x="3600" y="0"/>
                </a:moveTo>
                <a:arcTo wR="3600" hR="3600" stAng="16200000" swAng="-5400000"/>
                <a:lnTo>
                  <a:pt x="0" y="25210"/>
                </a:lnTo>
                <a:arcTo wR="3600" hR="3600" stAng="10800000" swAng="-5400000"/>
                <a:lnTo>
                  <a:pt x="18000" y="28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47800" y="3645000"/>
            <a:ext cx="2160720" cy="287964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95800" y="3645000"/>
            <a:ext cx="2162160" cy="2879640"/>
          </a:xfrm>
          <a:custGeom>
            <a:avLst/>
            <a:gdLst>
              <a:gd name="textAreaLeft" fmla="*/ 105480 w 2162160"/>
              <a:gd name="textAreaRight" fmla="*/ 2056680 w 2162160"/>
              <a:gd name="textAreaTop" fmla="*/ 105480 h 2879640"/>
              <a:gd name="textAreaBottom" fmla="*/ 2774160 h 2879640"/>
            </a:gdLst>
            <a:ahLst/>
            <a:rect l="textAreaLeft" t="textAreaTop" r="textAreaRight" b="textAreaBottom"/>
            <a:pathLst>
              <a:path w="21600" h="28766">
                <a:moveTo>
                  <a:pt x="3600" y="0"/>
                </a:moveTo>
                <a:arcTo wR="3600" hR="3600" stAng="16200000" swAng="-5400000"/>
                <a:lnTo>
                  <a:pt x="0" y="25166"/>
                </a:lnTo>
                <a:arcTo wR="3600" hR="3600" stAng="10800000" swAng="-5400000"/>
                <a:lnTo>
                  <a:pt x="18000" y="2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1:27:55Z</dcterms:created>
  <dc:creator>ben.dalglish</dc:creator>
  <dc:description/>
  <dc:language>en-US</dc:language>
  <cp:lastModifiedBy>Clare</cp:lastModifiedBy>
  <dcterms:modified xsi:type="dcterms:W3CDTF">2009-01-23T11:14:04Z</dcterms:modified>
  <cp:revision>31</cp:revision>
  <dc:subject/>
  <dc:title>Slide 1</dc:title>
</cp:coreProperties>
</file>