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488-C387-46D8-BD1A-3321C82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8A4-8BEA-4BEB-8552-E7502FF5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347-A9D3-4539-9339-D8A9987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1DC-243A-4199-9109-30D72808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F0A-95C2-4A9F-9039-A717229C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A59-1514-4E02-957C-46D8A66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DF5B-1C7A-4581-AFF6-C826F72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F73-E59F-4D49-A005-13C76198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FA7E-3EF2-4968-9EF7-9D846903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84C-19B9-4D95-A341-044D726D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7BB-0945-4BF0-AFA1-7107A3E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FAF-AF77-4A31-B533-9DBBDA5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1F69-E82D-428A-AB9B-D8AE0C9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3CA-1360-4D7B-BCF4-6C15621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988-4010-4215-B366-1C017EF7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6D99-2292-4385-9A9B-23189CFD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ACEA-CADE-4A33-B94F-3C597A76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F9C3-A8B5-45E2-B245-05D9F07D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D98B-24D1-4C9F-87F4-3773EFE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AA71-47D5-4754-86DA-0B56E54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3AC2-9626-45FA-A3BE-88AE58E6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2336-7BE6-4E36-A1CC-A5820A9F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A30-FF9A-416F-AE90-A04EEA4B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3281-9707-4490-B00C-8E9CA8B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EA4D-B366-483C-A34B-1337A81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E83F-DB9B-4CA0-A7D6-8656703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7F8D-50B3-45DE-99F9-EDE1E02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C75D-D91E-42AC-B386-8C6E9CB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6B25-C899-42CB-B6AA-2109CE2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3896-5BC3-47A1-B695-2289D757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6D5-BF38-4603-A3BF-7323DCF8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795-26CD-4109-8A81-F60CBD7D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3F9-4253-483A-95A0-F84EB94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C80-B395-407D-B7B5-8B48482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3D5-5317-461D-B8D3-EFFB3DC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C52-E6BE-4A4B-9534-0D04D05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9F53-3AA7-4E97-A306-9360DEA5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7B9C-616B-4321-8ED0-C846AE4E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606-7FBF-495C-8971-5BDA132F7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hyperlink" Target="http://www.sunderlandschools.org/mfl-sunderland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2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2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9.wmf"/><Relationship Id="rId20" Type="http://schemas.openxmlformats.org/officeDocument/2006/relationships/image" Target="../media/image12.png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12.png"/><Relationship Id="rId26" Type="http://schemas.openxmlformats.org/officeDocument/2006/relationships/image" Target="../media/image10.wmf"/><Relationship Id="rId2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3 French – Lesson 11</a:t>
            </a:r>
            <a:br>
              <a:rPr sz="4000"/>
            </a:br>
            <a:br>
              <a:rPr sz="4800"/>
            </a:br>
            <a:endParaRPr b="0" i="1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Month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Aidan's badge no background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6" name="language collegelogo" descr="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175280" y="6643800"/>
            <a:ext cx="4968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BD </a:t>
            </a:r>
            <a:r>
              <a:rPr b="0" lang="en-US" sz="800" spc="-1" strike="noStrike" u="sng">
                <a:solidFill>
                  <a:srgbClr val="3366cc"/>
                </a:solidFill>
                <a:uFillTx/>
                <a:latin typeface="Arial Rounded MT Bold"/>
                <a:hlinkClick r:id="rId7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63720" y="196704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6840" y="1995480"/>
            <a:ext cx="7129440" cy="4326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23760" y="1962000"/>
            <a:ext cx="7274160" cy="4341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58680" y="1967040"/>
            <a:ext cx="7201080" cy="4349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58680" y="198108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58680" y="1967040"/>
            <a:ext cx="7201080" cy="434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6048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048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60480" y="3313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6048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6048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5950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4012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4012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40120" y="3313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4012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4012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4920" y="595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1261800" cy="757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25440" y="24354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24000" y="3314880"/>
            <a:ext cx="1261800" cy="750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2544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24000" y="5950080"/>
            <a:ext cx="1260360" cy="76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325440" y="50706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7524720" y="1557360"/>
            <a:ext cx="1260360" cy="752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526160" y="2430360"/>
            <a:ext cx="1260720" cy="757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7526160" y="3308400"/>
            <a:ext cx="1260720" cy="757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752472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7524720" y="5068800"/>
            <a:ext cx="1260360" cy="758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7524720" y="5950080"/>
            <a:ext cx="1260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63640" y="20019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say and understand the months of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557360"/>
            <a:ext cx="86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anvier février mars avril mai juin juillet a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ptembre octobre novembre déc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vril mai juin ju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anvier février mars avril mai juin juillet a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LES M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1557360"/>
            <a:ext cx="86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LES M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625760"/>
            <a:ext cx="720720" cy="431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382760" y="162576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514600" y="1627200"/>
            <a:ext cx="720720" cy="428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646440" y="1623960"/>
            <a:ext cx="719280" cy="434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908680" y="162396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778280" y="162576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7040520" y="1627200"/>
            <a:ext cx="719280" cy="428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8172360" y="162576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2513160" y="32097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3645000" y="3209760"/>
            <a:ext cx="720720" cy="435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4776840" y="32097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5908680" y="3209760"/>
            <a:ext cx="720720" cy="435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250920" y="5446800"/>
            <a:ext cx="720720" cy="431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1382760" y="544680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2514600" y="5448240"/>
            <a:ext cx="720720" cy="428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646440" y="5445000"/>
            <a:ext cx="719280" cy="435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"/>
          <a:stretch/>
        </p:blipFill>
        <p:spPr>
          <a:xfrm>
            <a:off x="5908680" y="54450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"/>
          <a:stretch/>
        </p:blipFill>
        <p:spPr>
          <a:xfrm>
            <a:off x="4778280" y="544680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1"/>
          <a:stretch/>
        </p:blipFill>
        <p:spPr>
          <a:xfrm>
            <a:off x="7040520" y="5448240"/>
            <a:ext cx="719280" cy="428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2"/>
          <a:stretch/>
        </p:blipFill>
        <p:spPr>
          <a:xfrm>
            <a:off x="8172360" y="544680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3"/>
          <a:stretch/>
        </p:blipFill>
        <p:spPr>
          <a:xfrm>
            <a:off x="2513160" y="3857760"/>
            <a:ext cx="718920" cy="434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4"/>
          <a:stretch/>
        </p:blipFill>
        <p:spPr>
          <a:xfrm>
            <a:off x="4776840" y="3855960"/>
            <a:ext cx="718920" cy="436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5"/>
          <a:stretch/>
        </p:blipFill>
        <p:spPr>
          <a:xfrm>
            <a:off x="3645000" y="385920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6"/>
          <a:stretch/>
        </p:blipFill>
        <p:spPr>
          <a:xfrm>
            <a:off x="5908680" y="3860640"/>
            <a:ext cx="719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428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631280" y="7920"/>
            <a:ext cx="1512720" cy="1411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92360" y="119160"/>
            <a:ext cx="57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Impact"/>
              </a:rPr>
              <a:t>MEXICAN W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532240" y="16984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4811760" y="1703520"/>
            <a:ext cx="1801800" cy="1071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7093080" y="169704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2530440" y="360216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4811760" y="3611520"/>
            <a:ext cx="1800000" cy="1074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709308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25092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250920" y="551664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2530440" y="551340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4811760" y="5514840"/>
            <a:ext cx="1800000" cy="1082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7093080" y="5513400"/>
            <a:ext cx="1800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46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UN DEUX TR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6360" cy="1282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476360" cy="12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79280" y="1397160"/>
          <a:ext cx="8785440" cy="527184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17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93840" y="176832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2556000" y="1766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4788000" y="1771560"/>
            <a:ext cx="1801800" cy="1071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6948360" y="1765440"/>
            <a:ext cx="1800360" cy="108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2554200" y="350028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4788000" y="3510000"/>
            <a:ext cx="1800000" cy="1074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6948360" y="350676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393840" y="350676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393840" y="529740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554200" y="529416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4788000" y="5295960"/>
            <a:ext cx="1800000" cy="1082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6948360" y="5294160"/>
            <a:ext cx="1800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3640" y="20019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say and understand the months of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5120" y="549360"/>
            <a:ext cx="3600360" cy="216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6560" y="4167360"/>
            <a:ext cx="360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75280" y="4149720"/>
            <a:ext cx="3600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73480" y="550800"/>
            <a:ext cx="3600720" cy="21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6560" y="4156200"/>
            <a:ext cx="3600720" cy="214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75280" y="414972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65120" y="56196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5120" y="557280"/>
            <a:ext cx="360036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600360" cy="217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66560" y="4154400"/>
            <a:ext cx="360072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75280" y="4149720"/>
            <a:ext cx="3600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32240" y="16984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11760" y="1703520"/>
            <a:ext cx="1801800" cy="107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093080" y="169704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530440" y="360216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811760" y="3611520"/>
            <a:ext cx="1800000" cy="107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709308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5092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250920" y="551664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2530440" y="551340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4811760" y="5514840"/>
            <a:ext cx="1800000" cy="108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7093080" y="551340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58680" y="1989000"/>
            <a:ext cx="7201080" cy="432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63720" y="1986120"/>
            <a:ext cx="7200720" cy="4324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9080" y="1974960"/>
            <a:ext cx="7274160" cy="4325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09-01-23T11:19:17Z</dcterms:modified>
  <cp:revision>198</cp:revision>
  <dc:subject/>
  <dc:title>KS2 Yr 5 French – Lesson 1  </dc:title>
</cp:coreProperties>
</file>