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B3A-CF43-4736-887F-AC9690B1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7EA-8406-4C66-B305-34E249E2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8A2-225D-44A9-A5A4-A5162CE1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190-B47A-4227-B725-D390BAE1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4F76-1C12-4F6F-AFA7-7F4C0D89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C3DE-0840-4159-9B6E-BC7F645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9336-45B1-4AFB-B601-A36A1CAB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689D-1EF6-4987-99DB-7B8D44C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CA37-D48E-4A4D-B88F-D41F5306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4E7A-A211-4BAE-BB54-E755602E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AA14-A45B-474C-B90E-4158D16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A80-074F-4F9D-837F-42A58A3E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E5AF-403C-4DE9-B4C2-D598550A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A1CD-83C8-47EC-B634-8EE1598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9E6D-2845-443F-A26B-93C83405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C67A-72A6-4C69-BF00-FD338912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3A5D-5240-4039-8187-FBF9F0E3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32E2-C4C8-475D-98E0-1290D7A0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3069-EB5E-4953-A7DF-61F2326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910D-DFDD-4B7B-AD0B-6DFBBD68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4656-2C73-4E0B-976C-7640B557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F5FF6-27D9-4D44-9665-6E178981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B47-6C7A-4593-9712-0BF2E3EC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D520-DCF6-4E96-8084-3B289997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7748-2AD7-45A2-8A34-AB19D3BF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FDF1-FF41-4575-8E57-132E0894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277E-4486-4B5B-BAAC-A12DF7B1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C8F8-6AF9-4234-A195-092AF0F0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24CF-2B02-45A9-A9B9-0C5B714E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619C-7FFE-42BC-BEA1-1E7BBFEC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07B-BBF8-431B-9897-92A43578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488-395A-449B-BF54-2325AF7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65D-41C0-4092-BF3C-C4AD908B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101-19FC-4214-AFBE-B39B252A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ED6-92BA-4DD5-99BF-6E0FB0C9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8BF-7804-49A1-9986-8C10525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6AD-7BE1-49EF-8296-27BD59598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909-41F3-4A8D-819A-EF44DC433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516A-5355-4829-ABDA-763E0D142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hyperlink" Target="http://www.sunderlandschools.org/mfl-sunderland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2.png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2.png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9.wmf"/><Relationship Id="rId20" Type="http://schemas.openxmlformats.org/officeDocument/2006/relationships/image" Target="../media/image12.png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8.wmf"/><Relationship Id="rId24" Type="http://schemas.openxmlformats.org/officeDocument/2006/relationships/image" Target="../media/image9.wmf"/><Relationship Id="rId25" Type="http://schemas.openxmlformats.org/officeDocument/2006/relationships/image" Target="../media/image12.png"/><Relationship Id="rId26" Type="http://schemas.openxmlformats.org/officeDocument/2006/relationships/image" Target="../media/image10.wmf"/><Relationship Id="rId2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3 French – Lesson 11</a:t>
            </a:r>
            <a:br>
              <a:rPr sz="4000"/>
            </a:br>
            <a:br>
              <a:rPr sz="4800"/>
            </a:br>
            <a:endParaRPr b="0" i="1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ahoma"/>
              </a:rPr>
              <a:t>Month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Aidan's badge no background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6" name="language collegelogo" descr="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175280" y="6643800"/>
            <a:ext cx="4968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BD </a:t>
            </a:r>
            <a:r>
              <a:rPr b="0" lang="en-US" sz="800" spc="-1" strike="noStrike" u="sng">
                <a:solidFill>
                  <a:srgbClr val="3366cc"/>
                </a:solidFill>
                <a:uFillTx/>
                <a:latin typeface="Arial Rounded MT Bold"/>
                <a:hlinkClick r:id="rId7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63720" y="1967040"/>
            <a:ext cx="7200720" cy="43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58680" y="1986120"/>
            <a:ext cx="7201080" cy="4324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6840" y="1995480"/>
            <a:ext cx="7129440" cy="4326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23760" y="1962000"/>
            <a:ext cx="7274160" cy="4341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58680" y="1986120"/>
            <a:ext cx="7201080" cy="4324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58680" y="1986120"/>
            <a:ext cx="7201080" cy="4324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58680" y="1967040"/>
            <a:ext cx="7201080" cy="4349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58680" y="198108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58680" y="1967040"/>
            <a:ext cx="7201080" cy="434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6048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60480" y="2435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60480" y="3313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60480" y="41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v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60480" y="50706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5950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40120" y="155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i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40120" y="24354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oû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40120" y="331308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ept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40120" y="41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cto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40120" y="50706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v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4920" y="5950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éce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446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46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0920" y="2649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MONTHS OF THE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1261800" cy="757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25440" y="2435400"/>
            <a:ext cx="1260360" cy="757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24000" y="3314880"/>
            <a:ext cx="1261800" cy="750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325440" y="4186080"/>
            <a:ext cx="1260360" cy="762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324000" y="5950080"/>
            <a:ext cx="1260360" cy="765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325440" y="5070600"/>
            <a:ext cx="1260360" cy="757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7524720" y="1557360"/>
            <a:ext cx="1260360" cy="752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7526160" y="2430360"/>
            <a:ext cx="1260720" cy="757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7526160" y="3308400"/>
            <a:ext cx="1260720" cy="757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2"/>
          <a:stretch/>
        </p:blipFill>
        <p:spPr>
          <a:xfrm>
            <a:off x="7524720" y="4186080"/>
            <a:ext cx="1260360" cy="762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3"/>
          <a:stretch/>
        </p:blipFill>
        <p:spPr>
          <a:xfrm>
            <a:off x="7524720" y="5068800"/>
            <a:ext cx="1260360" cy="758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7524720" y="5950080"/>
            <a:ext cx="1260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63640" y="20019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say and understand the months of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1557360"/>
            <a:ext cx="8642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janvier février mars avril mai juin juillet aoû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ptembre octobre novembre déc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vril mai juin jui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janvier février mars avril mai juin juillet aoû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01720" cy="1268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 flipH="1">
            <a:off x="8100720" y="0"/>
            <a:ext cx="801720" cy="1268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50920" y="396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u="sng">
                <a:solidFill>
                  <a:srgbClr val="000000"/>
                </a:solidFill>
                <a:uFillTx/>
                <a:latin typeface="Impact"/>
              </a:rPr>
              <a:t>LES MO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1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0920" y="1557360"/>
            <a:ext cx="8642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x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01720" cy="1268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 flipH="1">
            <a:off x="8100720" y="0"/>
            <a:ext cx="801720" cy="1268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396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u="sng">
                <a:solidFill>
                  <a:srgbClr val="000000"/>
                </a:solidFill>
                <a:uFillTx/>
                <a:latin typeface="Impact"/>
              </a:rPr>
              <a:t>LES MO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625760"/>
            <a:ext cx="720720" cy="431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382760" y="1625760"/>
            <a:ext cx="718920" cy="431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514600" y="1627200"/>
            <a:ext cx="720720" cy="428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646440" y="1623960"/>
            <a:ext cx="719280" cy="434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908680" y="1623960"/>
            <a:ext cx="719280" cy="436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778280" y="1625760"/>
            <a:ext cx="719280" cy="431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7040520" y="1627200"/>
            <a:ext cx="719280" cy="428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8172360" y="1625760"/>
            <a:ext cx="7192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2513160" y="320976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3645000" y="3209760"/>
            <a:ext cx="720720" cy="435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4776840" y="320976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5908680" y="3209760"/>
            <a:ext cx="720720" cy="435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250920" y="5446800"/>
            <a:ext cx="720720" cy="431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6"/>
          <a:stretch/>
        </p:blipFill>
        <p:spPr>
          <a:xfrm>
            <a:off x="1382760" y="5446800"/>
            <a:ext cx="718920" cy="431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7"/>
          <a:stretch/>
        </p:blipFill>
        <p:spPr>
          <a:xfrm>
            <a:off x="2514600" y="5448240"/>
            <a:ext cx="720720" cy="428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8"/>
          <a:stretch/>
        </p:blipFill>
        <p:spPr>
          <a:xfrm>
            <a:off x="3646440" y="5445000"/>
            <a:ext cx="719280" cy="435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9"/>
          <a:stretch/>
        </p:blipFill>
        <p:spPr>
          <a:xfrm>
            <a:off x="5908680" y="5445000"/>
            <a:ext cx="719280" cy="436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0"/>
          <a:stretch/>
        </p:blipFill>
        <p:spPr>
          <a:xfrm>
            <a:off x="4778280" y="5446800"/>
            <a:ext cx="719280" cy="431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1"/>
          <a:stretch/>
        </p:blipFill>
        <p:spPr>
          <a:xfrm>
            <a:off x="7040520" y="5448240"/>
            <a:ext cx="719280" cy="428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2"/>
          <a:stretch/>
        </p:blipFill>
        <p:spPr>
          <a:xfrm>
            <a:off x="8172360" y="5446800"/>
            <a:ext cx="719280" cy="431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3"/>
          <a:stretch/>
        </p:blipFill>
        <p:spPr>
          <a:xfrm>
            <a:off x="2513160" y="3857760"/>
            <a:ext cx="718920" cy="434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4"/>
          <a:stretch/>
        </p:blipFill>
        <p:spPr>
          <a:xfrm>
            <a:off x="4776840" y="3855960"/>
            <a:ext cx="718920" cy="436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5"/>
          <a:stretch/>
        </p:blipFill>
        <p:spPr>
          <a:xfrm>
            <a:off x="3645000" y="3859200"/>
            <a:ext cx="718920" cy="431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6"/>
          <a:stretch/>
        </p:blipFill>
        <p:spPr>
          <a:xfrm>
            <a:off x="5908680" y="3860640"/>
            <a:ext cx="7192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428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631280" y="7920"/>
            <a:ext cx="1512720" cy="1411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692360" y="119160"/>
            <a:ext cx="57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Impact"/>
              </a:rPr>
              <a:t>MEXICAN WA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180180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532240" y="16984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4811760" y="1703520"/>
            <a:ext cx="1801800" cy="1071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7093080" y="1697040"/>
            <a:ext cx="1800000" cy="1087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2530440" y="3602160"/>
            <a:ext cx="180036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4811760" y="3611520"/>
            <a:ext cx="1800000" cy="1074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7093080" y="36082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250920" y="36082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250920" y="551664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2530440" y="5513400"/>
            <a:ext cx="1800360" cy="1087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4811760" y="5514840"/>
            <a:ext cx="1800000" cy="1082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7093080" y="5513400"/>
            <a:ext cx="1800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46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u="sng">
                <a:solidFill>
                  <a:srgbClr val="000000"/>
                </a:solidFill>
                <a:uFillTx/>
                <a:latin typeface="Impact"/>
              </a:rPr>
              <a:t>UN DEUX TRO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6360" cy="1282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476360" cy="12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79280" y="1397160"/>
          <a:ext cx="8785440" cy="527184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17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7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93840" y="1768320"/>
            <a:ext cx="1801800" cy="1081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2556000" y="17668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4788000" y="1771560"/>
            <a:ext cx="1801800" cy="1071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6948360" y="1765440"/>
            <a:ext cx="1800360" cy="1087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2554200" y="3500280"/>
            <a:ext cx="1800360" cy="1092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>
            <a:off x="4788000" y="3510000"/>
            <a:ext cx="1800000" cy="1074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6948360" y="3506760"/>
            <a:ext cx="1800360" cy="1081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393840" y="350676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393840" y="529740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2554200" y="5294160"/>
            <a:ext cx="1800360" cy="108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3"/>
          <a:stretch/>
        </p:blipFill>
        <p:spPr>
          <a:xfrm>
            <a:off x="4788000" y="5295960"/>
            <a:ext cx="1800000" cy="1082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6948360" y="5294160"/>
            <a:ext cx="1800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63640" y="20019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say and understand the months of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5120" y="549360"/>
            <a:ext cx="3600360" cy="216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5280" y="549360"/>
            <a:ext cx="3600360" cy="216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6560" y="4167360"/>
            <a:ext cx="3600720" cy="2141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075280" y="4149720"/>
            <a:ext cx="36003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73480" y="550800"/>
            <a:ext cx="3600720" cy="218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6560" y="4156200"/>
            <a:ext cx="3600720" cy="2146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075280" y="414972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65120" y="56196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5120" y="557280"/>
            <a:ext cx="3600360" cy="216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75280" y="549360"/>
            <a:ext cx="3600360" cy="217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66560" y="4154400"/>
            <a:ext cx="360072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75280" y="4149720"/>
            <a:ext cx="3600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1801800" cy="108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32240" y="16984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811760" y="1703520"/>
            <a:ext cx="1801800" cy="107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093080" y="1697040"/>
            <a:ext cx="1800000" cy="1087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530440" y="3602160"/>
            <a:ext cx="1800360" cy="1092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811760" y="3611520"/>
            <a:ext cx="1800000" cy="107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7093080" y="36082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50920" y="360828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250920" y="5516640"/>
            <a:ext cx="1800000" cy="108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2530440" y="5513400"/>
            <a:ext cx="1800360" cy="1087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4811760" y="5514840"/>
            <a:ext cx="1800000" cy="108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7093080" y="5513400"/>
            <a:ext cx="1800000" cy="1087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1728720" cy="1446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7415280" y="0"/>
            <a:ext cx="1728720" cy="1446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2649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Impact"/>
              </a:rPr>
              <a:t>MONTHS OF THE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58680" y="1989000"/>
            <a:ext cx="7201080" cy="432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janvi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63720" y="1986120"/>
            <a:ext cx="7200720" cy="4324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févri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9080" y="1974960"/>
            <a:ext cx="7274160" cy="4325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50920" y="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a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09-01-23T11:19:17Z</dcterms:modified>
  <cp:revision>198</cp:revision>
  <dc:subject/>
  <dc:title>KS2 Yr 5 French – Lesson 1  </dc:title>
</cp:coreProperties>
</file>