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F5E-F119-47A8-B739-A18016FE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FAD1-B67F-4B6F-A4DC-4ED0DEDF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9BA5-C834-4734-94B9-B3FAD46C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F524-11E9-4855-BE40-1991AAAD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6F60-AD35-49A1-B59C-502D3451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A234-C60C-4BAD-9B17-DADA5CAD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1106-5004-4949-B73F-4F1AA248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00B8-B3DC-4F64-A2D3-4D953EEA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D29A-06F1-4F49-AC40-7C2C971C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B2A0-04B9-4CA3-A157-133D8C29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F91-AE7D-423B-9FAD-E01BCA93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EE7-F803-4673-B3E6-B5043D02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E757-06B3-42B9-BF78-8834E74DE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sunderlandschools.org/mfl-sunderland" TargetMode="External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549360"/>
            <a:ext cx="70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66"/>
                </a:solidFill>
                <a:latin typeface="Comic Sans MS"/>
              </a:rPr>
              <a:t>Joyeux Anniversair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2766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ffff"/>
                </a:solidFill>
                <a:latin typeface="Crazy Loot BTN Inline"/>
              </a:rPr>
              <a:t>J’ai 8 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3645000"/>
            <a:ext cx="4391280" cy="22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andy Square BTN Striped"/>
              </a:rPr>
              <a:t>Viens </a:t>
            </a:r>
            <a:r>
              <a:rPr b="0" lang="en-US" sz="4400" spc="-1" strike="noStrike">
                <a:solidFill>
                  <a:srgbClr val="00ff00"/>
                </a:solidFill>
                <a:latin typeface="Candy Square BTN Striped"/>
              </a:rPr>
              <a:t>à ma fê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andy Square BTN Striped"/>
              </a:rPr>
              <a:t>Nom:</a:t>
            </a:r>
            <a:r>
              <a:rPr b="0" lang="en-US" sz="3200" spc="-1" strike="noStrike">
                <a:solidFill>
                  <a:srgbClr val="000000"/>
                </a:solidFill>
                <a:latin typeface="Candy Square BTN Striped"/>
              </a:rPr>
              <a:t> </a:t>
            </a:r>
            <a:r>
              <a:rPr b="0" lang="en-US" sz="3200" spc="-1" strike="noStrike">
                <a:solidFill>
                  <a:srgbClr val="ff33cc"/>
                </a:solidFill>
                <a:latin typeface="Candy Square BTN Striped"/>
              </a:rPr>
              <a:t>Sar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andy Square BTN Striped"/>
              </a:rPr>
              <a:t>Date: le 21 janv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04000" y="3645000"/>
            <a:ext cx="1725480" cy="2490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3716280"/>
            <a:ext cx="1725840" cy="2490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812000" y="189000"/>
            <a:ext cx="1073160" cy="1073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48000" y="6597720"/>
            <a:ext cx="5796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9 RM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5"/>
              </a:rPr>
              <a:t>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9:32:03Z</dcterms:created>
  <dc:creator>nick.adcock</dc:creator>
  <dc:description/>
  <dc:language>en-US</dc:language>
  <cp:lastModifiedBy>Clare</cp:lastModifiedBy>
  <dcterms:modified xsi:type="dcterms:W3CDTF">2009-01-23T11:22:21Z</dcterms:modified>
  <cp:revision>3</cp:revision>
  <dc:subject/>
  <dc:title>Slide 1</dc:title>
</cp:coreProperties>
</file>