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D8D-A608-437E-B869-ABFB78D2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E31-546B-425C-891D-7C949E63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755-E831-43AF-9BD6-07EE2E30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D46-CCAE-4AA9-A706-975CE593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C3F-D028-4C8D-88D3-A18EE531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B4DB-2BBE-4791-9BE6-4D3509B2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E9E-4EED-49A9-9538-7E9862E5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14A-8A60-439F-9BF7-18F5A7A0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F03-E89A-4873-A463-026E3F46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26F-2D90-471B-ABA7-D0AE4A50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349-2674-4CE7-8F73-C6A56455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229-0843-48E5-A3FF-CACA9B4E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D893-D636-4810-8307-FFB3CEB12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sunderlandschools.org/mfl-sunderland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54936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66"/>
                </a:solidFill>
                <a:latin typeface="Comic Sans MS"/>
              </a:rPr>
              <a:t>Joyeux Anniversai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2766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ffff"/>
                </a:solidFill>
                <a:latin typeface="Crazy Loot BTN Inline"/>
              </a:rPr>
              <a:t>J’ai 8 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3645000"/>
            <a:ext cx="439128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andy Square BTN Striped"/>
              </a:rPr>
              <a:t>Viens </a:t>
            </a:r>
            <a:r>
              <a:rPr b="0" lang="en-US" sz="4400" spc="-1" strike="noStrike">
                <a:solidFill>
                  <a:srgbClr val="00ff00"/>
                </a:solidFill>
                <a:latin typeface="Candy Square BTN Striped"/>
              </a:rPr>
              <a:t>à ma fê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andy Square BTN Striped"/>
              </a:rPr>
              <a:t>Nom:</a:t>
            </a:r>
            <a:r>
              <a:rPr b="0" lang="en-US" sz="3200" spc="-1" strike="noStrike">
                <a:solidFill>
                  <a:srgbClr val="000000"/>
                </a:solidFill>
                <a:latin typeface="Candy Square BTN Striped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Candy Square BTN Striped"/>
              </a:rPr>
              <a:t>Sar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andy Square BTN Striped"/>
              </a:rPr>
              <a:t>Date: le 21 janv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04000" y="3645000"/>
            <a:ext cx="1725480" cy="249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1725840" cy="2490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812000" y="189000"/>
            <a:ext cx="1073160" cy="1073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48000" y="6597720"/>
            <a:ext cx="5796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9 RM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5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9:32:03Z</dcterms:created>
  <dc:creator>nick.adcock</dc:creator>
  <dc:description/>
  <dc:language>en-US</dc:language>
  <cp:lastModifiedBy>Clare</cp:lastModifiedBy>
  <dcterms:modified xsi:type="dcterms:W3CDTF">2009-01-23T11:22:21Z</dcterms:modified>
  <cp:revision>3</cp:revision>
  <dc:subject/>
  <dc:title>Slide 1</dc:title>
</cp:coreProperties>
</file>