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7552-3868-4366-B9D6-283511EF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146-A15E-4115-92DD-6AFBB6BE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BF1-5F41-4884-9BBF-3DAE1841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7D7C-4568-456A-86A9-2A1B7F14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ABA4-57FE-4E6C-B87E-CDB973C8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CFB-5E2A-43C6-8121-1129CED6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15D-964F-4E96-BF71-0EF8D625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0A97-DE71-4A21-87A6-4F189759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3E1-DC8F-4AA1-9818-0E35EB94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DA7-B17F-4526-B919-B415187B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4253-F2DF-4694-95A5-35677D99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D43A-162B-4F6B-9DCF-741B01D9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62BD-2DC0-4975-909C-DE9D43062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775280" cy="5627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95640" y="6524640"/>
            <a:ext cx="5148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9 RM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98800" y="836640"/>
            <a:ext cx="46940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633744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1633680"/>
            <a:ext cx="604836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1893960"/>
            <a:ext cx="734400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1645200">
            <a:off x="2096640" y="1844280"/>
            <a:ext cx="494820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048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82560" y="873000"/>
            <a:ext cx="5977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1353960"/>
            <a:ext cx="6264360" cy="41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27280" y="800280"/>
            <a:ext cx="35528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30560" y="1413000"/>
            <a:ext cx="4681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3:47:25Z</dcterms:created>
  <dc:creator>wendy.longstaff</dc:creator>
  <dc:description/>
  <dc:language>en-US</dc:language>
  <cp:lastModifiedBy>Clare</cp:lastModifiedBy>
  <dcterms:modified xsi:type="dcterms:W3CDTF">2009-01-23T11:25:31Z</dcterms:modified>
  <cp:revision>3</cp:revision>
  <dc:subject/>
  <dc:title>Slide 1</dc:title>
</cp:coreProperties>
</file>