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C71-A3F3-4264-8A33-8E1CBB87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230-1AEC-4DC7-B3FB-F563509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D45-174A-405A-955F-394456B0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7C4-F774-4629-8BCC-5F8A8FBC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55C-8662-424F-9CA6-DA897F4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E54-3B63-48D8-8F9C-F965C46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955-94CF-4AC2-88D3-EEDC6E0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1E2-2807-4D1A-84C1-69F47E8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88E-4262-4803-8AA5-16068A2A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C81-23D1-4B01-960D-25E13D4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451-0D96-4268-91B3-0260C78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04B-D66B-4223-8A4F-3DC26EE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83C-80F6-405B-AA60-EE4C13AA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627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95640" y="6524640"/>
            <a:ext cx="51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98800" y="836640"/>
            <a:ext cx="4694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3374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633680"/>
            <a:ext cx="6048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93960"/>
            <a:ext cx="7344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645200">
            <a:off x="2096640" y="1844280"/>
            <a:ext cx="49482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48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82560" y="873000"/>
            <a:ext cx="5977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353960"/>
            <a:ext cx="6264360" cy="41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800280"/>
            <a:ext cx="3552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30560" y="1413000"/>
            <a:ext cx="4681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47:25Z</dcterms:created>
  <dc:creator>wendy.longstaff</dc:creator>
  <dc:description/>
  <dc:language>en-US</dc:language>
  <cp:lastModifiedBy>Clare</cp:lastModifiedBy>
  <dcterms:modified xsi:type="dcterms:W3CDTF">2009-01-23T11:25:31Z</dcterms:modified>
  <cp:revision>3</cp:revision>
  <dc:subject/>
  <dc:title>Slide 1</dc:title>
</cp:coreProperties>
</file>