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F47-3882-4444-8AB7-5274AEA8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143-C108-4386-B463-5320C82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510-A8CD-4D2A-9919-1203BEF6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3B0-6939-436E-A205-30451496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2FC-F876-409D-91F0-A8018973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17F-9B55-438B-9427-54B1B786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830-49AB-4CCF-BB85-11D469EF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0D1-9E0D-4F81-8D94-DAC03DF8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C13-E671-4F37-AB29-C7C6A072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8F1-197C-4877-99E3-731B7B2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52F-48B4-48D5-951E-82650EE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7CE-AAAC-42B4-A314-0210DD52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4718-5CDA-4FA3-8935-052B3E857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hyperlink" Target="http://www.sunderlandschools.org/mfl-sunderland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6408720" cy="4601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853400" y="0"/>
            <a:ext cx="1290600" cy="144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58680" y="633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FR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Impact"/>
              </a:rPr>
              <a:t>ÈRE JACQU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5432400"/>
            <a:ext cx="1512720" cy="142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flipH="1">
            <a:off x="7631280" y="5432400"/>
            <a:ext cx="1512720" cy="1425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5400000">
            <a:off x="-118872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 rot="5400000">
            <a:off x="673236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6643800"/>
            <a:ext cx="6372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6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53400" y="0"/>
            <a:ext cx="1290600" cy="144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58680" y="633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000000"/>
                </a:solidFill>
                <a:uFillTx/>
                <a:latin typeface="Impact"/>
              </a:rPr>
              <a:t>FR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Impact"/>
              </a:rPr>
              <a:t>ÈRE JACQU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5400000">
            <a:off x="-118872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6732360" y="30747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L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87280" y="1773360"/>
            <a:ext cx="6840720" cy="4152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95640" y="2781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ou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2781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292428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l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2428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flipH="1">
            <a:off x="7631280" y="5432400"/>
            <a:ext cx="1512720" cy="142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5432400"/>
            <a:ext cx="1512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0:05:15Z</dcterms:created>
  <dc:creator>ben.dalglish</dc:creator>
  <dc:description/>
  <dc:language>en-US</dc:language>
  <cp:lastModifiedBy>Clare</cp:lastModifiedBy>
  <dcterms:modified xsi:type="dcterms:W3CDTF">2009-01-23T11:29:23Z</dcterms:modified>
  <cp:revision>5</cp:revision>
  <dc:subject/>
  <dc:title>Slide 1</dc:title>
</cp:coreProperties>
</file>