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8FE-D920-4504-8378-43AFBED6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D2C-0469-4204-9DDA-7AF59BEC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E24-05B8-4EB9-B198-B2328D5D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4BB-7E53-4D0A-87E1-D67B7B6B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DE8-E9C2-4887-AA2F-B8E31F09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876-8AFB-498F-B81C-20B840DC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276-EA2B-49AB-BE7C-13342BA1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D6C5-7214-414D-BCB9-EC82FFF0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1D2-71A5-487A-8283-8684F75E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F2F-287B-4EF0-8B0C-39A26CDB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DC3-FA28-4F94-BA6C-0B944E31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398-5EAF-4C24-A680-72F96E0A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5D5F-2CC3-485B-84BE-7CE01F5DA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hyperlink" Target="http://www.sunderlandschools.org/mfl-sunderland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0600" cy="1440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6408720" cy="4601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853400" y="0"/>
            <a:ext cx="1290600" cy="144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58680" y="63360"/>
            <a:ext cx="72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000000"/>
                </a:solidFill>
                <a:uFillTx/>
                <a:latin typeface="Impact"/>
              </a:rPr>
              <a:t>FR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Impact"/>
              </a:rPr>
              <a:t>ÈRE JACQU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5432400"/>
            <a:ext cx="1512720" cy="142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flipH="1">
            <a:off x="7631280" y="5432400"/>
            <a:ext cx="1512720" cy="1425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 rot="5400000">
            <a:off x="-1188720" y="307476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ULEU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 rot="5400000">
            <a:off x="6732360" y="307476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ULEU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6643800"/>
            <a:ext cx="6372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9 RM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6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060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53400" y="0"/>
            <a:ext cx="1290600" cy="144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58680" y="63360"/>
            <a:ext cx="72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000000"/>
                </a:solidFill>
                <a:uFillTx/>
                <a:latin typeface="Impact"/>
              </a:rPr>
              <a:t>FR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Impact"/>
              </a:rPr>
              <a:t>ÈRE JACQU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5400000">
            <a:off x="-1188720" y="307476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ULEU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6732360" y="307476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ULEU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87280" y="1773360"/>
            <a:ext cx="6840720" cy="4152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95640" y="27813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ou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3280" y="27813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292428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l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2428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u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 flipH="1">
            <a:off x="7631280" y="5432400"/>
            <a:ext cx="1512720" cy="1425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0" y="5432400"/>
            <a:ext cx="15127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0:05:15Z</dcterms:created>
  <dc:creator>ben.dalglish</dc:creator>
  <dc:description/>
  <dc:language>en-US</dc:language>
  <cp:lastModifiedBy>Clare</cp:lastModifiedBy>
  <dcterms:modified xsi:type="dcterms:W3CDTF">2009-01-23T11:29:23Z</dcterms:modified>
  <cp:revision>5</cp:revision>
  <dc:subject/>
  <dc:title>Slide 1</dc:title>
</cp:coreProperties>
</file>