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060-AB5D-40F5-873B-8B980BF3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807-A19E-4404-8FFA-D3862311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466-9C56-4863-B0B6-5D615DE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B48-139A-41F8-8CC2-2C3B0D92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7CA-EA20-4B4A-BDE6-00F4A1D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C67-7F5F-45EC-B5E8-3F8903A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C23-E398-4F91-A73A-0FB2D7E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AAE-89D1-45F1-87DA-0DAF129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34E-1377-49D6-A43B-C5DB45F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CA2-572F-4C3B-84EB-CEEE1F6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2D4-C94C-40D8-836C-BD86F5F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DA7-36C0-47F8-9082-ADD1409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895-3A9E-4C07-839F-5BB8C765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2880" y="836640"/>
            <a:ext cx="2016360" cy="168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65600" y="1268280"/>
            <a:ext cx="1800000" cy="118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414200">
            <a:off x="5528880" y="105264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905600" y="907920"/>
            <a:ext cx="142884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119160" y="4654080"/>
            <a:ext cx="22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2819"/>
                </a:solidFill>
                <a:latin typeface="Comic Sans MS"/>
              </a:rPr>
              <a:t>la</a:t>
            </a:r>
            <a:r>
              <a:rPr b="0" lang="en-US" sz="4800" spc="-1" strike="noStrike">
                <a:solidFill>
                  <a:srgbClr val="0000fe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e52819"/>
                </a:solidFill>
                <a:latin typeface="Comic Sans MS"/>
              </a:rPr>
              <a:t>m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440800" y="4701960"/>
            <a:ext cx="24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pi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760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287320" y="4588920"/>
            <a:ext cx="18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la t</a:t>
            </a:r>
            <a:r>
              <a:rPr b="0" lang="en-US" sz="4400" spc="-1" strike="noStrike">
                <a:solidFill>
                  <a:srgbClr val="e52819"/>
                </a:solidFill>
                <a:latin typeface="Comic Sans MS"/>
              </a:rPr>
              <a:t>ê</a:t>
            </a: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198920" y="4734360"/>
            <a:ext cx="28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les </a:t>
            </a:r>
            <a:r>
              <a:rPr b="0" lang="en-US" sz="4000" spc="-1" strike="noStrike">
                <a:solidFill>
                  <a:srgbClr val="e52819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pa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4880" y="6597720"/>
            <a:ext cx="77612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52819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9760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8880" y="1125360"/>
            <a:ext cx="1657440" cy="15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92520" y="1268280"/>
            <a:ext cx="1655640" cy="12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29240" y="836640"/>
            <a:ext cx="1324080" cy="195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905600" y="981000"/>
            <a:ext cx="1513080" cy="14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5400000">
            <a:off x="-325800" y="4730400"/>
            <a:ext cx="29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les jam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2528640" y="4700880"/>
            <a:ext cx="22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750920" y="4724640"/>
            <a:ext cx="289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les</a:t>
            </a: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 ore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718040" y="469296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 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1905120" cy="198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152880" y="765000"/>
            <a:ext cx="1501560" cy="18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49320" y="4670640"/>
            <a:ext cx="22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e"/>
                </a:solidFill>
                <a:latin typeface="Comic Sans MS"/>
              </a:rPr>
              <a:t>les</a:t>
            </a:r>
            <a:r>
              <a:rPr b="0" lang="en-US" sz="4400" spc="-1" strike="noStrike">
                <a:solidFill>
                  <a:srgbClr val="e52819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e"/>
                </a:solidFill>
                <a:latin typeface="Comic Sans MS"/>
              </a:rPr>
              <a:t>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246040" y="475452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e"/>
                </a:solidFill>
                <a:latin typeface="Comic Sans MS"/>
              </a:rPr>
              <a:t>les chev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68880" y="1268280"/>
            <a:ext cx="2017800" cy="1360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5400000">
            <a:off x="4676040" y="4708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geno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</cp:lastModifiedBy>
  <dcterms:modified xsi:type="dcterms:W3CDTF">2009-01-23T11:34:00Z</dcterms:modified>
  <cp:revision>31</cp:revision>
  <dc:subject/>
  <dc:title>Slide 1</dc:title>
</cp:coreProperties>
</file>