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704-EBCA-47DC-AC7A-97BBCC38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F59-B108-4658-9ABE-DDFC5B6D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D3B-F24D-4BC6-9158-4BA8F657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BB3-73B0-4600-912F-DCB3D0FC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1E5-5A00-4BF8-A03D-7C5970E7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9B6-B2F5-4B8B-968D-EB737BCB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E4E-583B-4DD4-AEA2-04F83A82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E5F-6940-470A-B242-C6649A8B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E8E-4431-4F0E-A3E2-94C136DF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6E3-BAC5-47AA-87BE-A95220E4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457-CA00-4D51-9908-7C89C88C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8B2-8387-4727-B2AE-A6AED7B4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5C87-7C2F-4AF9-A058-A95861CC6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sunderlandschools.org/mfl-sunderland" TargetMode="External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160" y="33336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2880" y="836640"/>
            <a:ext cx="2016360" cy="168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865600" y="1268280"/>
            <a:ext cx="1800000" cy="118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1414200">
            <a:off x="5528880" y="1052640"/>
            <a:ext cx="1428840" cy="1514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905600" y="907920"/>
            <a:ext cx="142884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5400000">
            <a:off x="119160" y="4654080"/>
            <a:ext cx="22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2819"/>
                </a:solidFill>
                <a:latin typeface="Comic Sans MS"/>
              </a:rPr>
              <a:t>la</a:t>
            </a:r>
            <a:r>
              <a:rPr b="0" lang="en-US" sz="4800" spc="-1" strike="noStrike">
                <a:solidFill>
                  <a:srgbClr val="0000fe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e52819"/>
                </a:solidFill>
                <a:latin typeface="Comic Sans MS"/>
              </a:rPr>
              <a:t>m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440800" y="4701960"/>
            <a:ext cx="24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e"/>
                </a:solidFill>
                <a:latin typeface="Comic Sans MS"/>
              </a:rPr>
              <a:t>les pi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9760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287320" y="4588920"/>
            <a:ext cx="181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2819"/>
                </a:solidFill>
                <a:latin typeface="Comic Sans MS"/>
              </a:rPr>
              <a:t>la t</a:t>
            </a:r>
            <a:r>
              <a:rPr b="0" lang="en-US" sz="4400" spc="-1" strike="noStrike">
                <a:solidFill>
                  <a:srgbClr val="e52819"/>
                </a:solidFill>
                <a:latin typeface="Comic Sans MS"/>
              </a:rPr>
              <a:t>ê</a:t>
            </a:r>
            <a:r>
              <a:rPr b="0" lang="en-GB" sz="4400" spc="-1" strike="noStrike">
                <a:solidFill>
                  <a:srgbClr val="e52819"/>
                </a:solidFill>
                <a:latin typeface="Comic Sans MS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7198920" y="4734360"/>
            <a:ext cx="283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2819"/>
                </a:solidFill>
                <a:latin typeface="Comic Sans MS"/>
              </a:rPr>
              <a:t>les </a:t>
            </a:r>
            <a:r>
              <a:rPr b="0" lang="en-US" sz="4000" spc="-1" strike="noStrike">
                <a:solidFill>
                  <a:srgbClr val="e52819"/>
                </a:solidFill>
                <a:latin typeface="Comic Sans MS"/>
              </a:rPr>
              <a:t>é</a:t>
            </a:r>
            <a:r>
              <a:rPr b="0" lang="en-GB" sz="4000" spc="-1" strike="noStrike">
                <a:solidFill>
                  <a:srgbClr val="e52819"/>
                </a:solidFill>
                <a:latin typeface="Comic Sans MS"/>
              </a:rPr>
              <a:t>pa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4880" y="6597720"/>
            <a:ext cx="77612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52819"/>
                </a:solidFill>
                <a:latin typeface="Arial Rounded MT Bold"/>
              </a:rPr>
              <a:t>©MFL Sunderland 2009 RM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5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0160" y="33336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9760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8880" y="1125360"/>
            <a:ext cx="1657440" cy="151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92520" y="1268280"/>
            <a:ext cx="1655640" cy="1270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529240" y="836640"/>
            <a:ext cx="1324080" cy="1959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905600" y="981000"/>
            <a:ext cx="1513080" cy="1463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rot="5400000">
            <a:off x="-325800" y="4730400"/>
            <a:ext cx="296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2819"/>
                </a:solidFill>
                <a:latin typeface="Comic Sans MS"/>
              </a:rPr>
              <a:t>les jam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2528640" y="4700880"/>
            <a:ext cx="22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e"/>
                </a:solidFill>
                <a:latin typeface="Comic Sans MS"/>
              </a:rPr>
              <a:t>les y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750920" y="4724640"/>
            <a:ext cx="289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2819"/>
                </a:solidFill>
                <a:latin typeface="Comic Sans MS"/>
              </a:rPr>
              <a:t>les</a:t>
            </a:r>
            <a:r>
              <a:rPr b="0" lang="en-GB" sz="4400" spc="-1" strike="noStrike">
                <a:solidFill>
                  <a:srgbClr val="e52819"/>
                </a:solidFill>
                <a:latin typeface="Comic Sans MS"/>
              </a:rPr>
              <a:t> ore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7718040" y="4692960"/>
            <a:ext cx="17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e"/>
                </a:solidFill>
                <a:latin typeface="Comic Sans MS"/>
              </a:rPr>
              <a:t>le n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0160" y="33336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2880" y="692280"/>
            <a:ext cx="1905120" cy="1987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152880" y="765000"/>
            <a:ext cx="1501560" cy="1872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5400000">
            <a:off x="49320" y="4670640"/>
            <a:ext cx="221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e"/>
                </a:solidFill>
                <a:latin typeface="Comic Sans MS"/>
              </a:rPr>
              <a:t>les</a:t>
            </a:r>
            <a:r>
              <a:rPr b="0" lang="en-US" sz="4400" spc="-1" strike="noStrike">
                <a:solidFill>
                  <a:srgbClr val="e52819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fe"/>
                </a:solidFill>
                <a:latin typeface="Comic Sans MS"/>
              </a:rPr>
              <a:t>b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246040" y="4754520"/>
            <a:ext cx="29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e"/>
                </a:solidFill>
                <a:latin typeface="Comic Sans MS"/>
              </a:rPr>
              <a:t>les cheve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168880" y="1268280"/>
            <a:ext cx="2017800" cy="1360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5400000">
            <a:off x="4676040" y="4708080"/>
            <a:ext cx="303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e"/>
                </a:solidFill>
                <a:latin typeface="Comic Sans MS"/>
              </a:rPr>
              <a:t>les geno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0160" y="33336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00160" y="33336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1:27:55Z</dcterms:created>
  <dc:creator>ben.dalglish</dc:creator>
  <dc:description/>
  <dc:language>en-US</dc:language>
  <cp:lastModifiedBy>Clare</cp:lastModifiedBy>
  <dcterms:modified xsi:type="dcterms:W3CDTF">2009-01-23T11:34:00Z</dcterms:modified>
  <cp:revision>31</cp:revision>
  <dc:subject/>
  <dc:title>Slide 1</dc:title>
</cp:coreProperties>
</file>