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A6D-164E-4FC6-ACD8-3D387088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E6C-BC1D-4828-87CF-D9700674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FCB-19AA-4005-9971-DB83F331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E43-ABA5-4C30-BF17-E48733F3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0056-3F04-49D7-BF19-3AE52C32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9600-EFBA-4402-B47A-8C76A46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7EE1-9CEC-41F7-9D62-0FDD0A2C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851-A0AB-4A9B-BD6F-6F7D1F9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DEB-8B93-4EA4-A14C-C9EA84E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FD8E-7AD4-40D1-A615-C7919A7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5380-DBA4-4599-8DE3-E189BB1C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A40-55D6-47D5-96F4-23132DAB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74F4-51F2-46CC-B825-2B793EB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55F6-64AE-40D5-8C6B-E00FF6C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BCEC-1864-4D2E-BC62-BBEF0505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A73-00F8-4EC8-A19B-BFA33210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564-CB55-452C-AFB9-E740D7F3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4DF9-643A-4775-8BBA-DA1D42B0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4EF2-1014-45D9-8C29-10D42DF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A018-16EE-4015-B5BB-C5B0F88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99B1-C679-4BBF-A61D-603D013C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A5F1-52DB-45B7-9325-E2D4EE0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79F-CAC0-446A-85B7-B5B9935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E70A-CFFB-4408-92C1-0E031D7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AF97-7A6B-4882-B472-42D2F0D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2AC6-364C-4531-B55A-B08A8D7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D426-9939-41D7-B947-B1255B7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28B6-E9BA-428D-9A4D-63E1824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3215-A556-492A-BBCC-63E32827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6E29-789F-47EE-99C7-7AF80AE2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F134-568C-42D9-8B59-65E262D6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2388-8F12-40FA-9EC2-71DD678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0163-C281-44D9-8825-1F5C404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14D-B00D-4962-B32B-EF5C8FA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C3B5-A331-49C6-8AB6-2CAC2B5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84B6-87F0-4161-9A18-9EAEEC6B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EECC-4651-4EAB-A194-7221690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2BFB-76C5-4339-BC1E-CFCE3EF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6A54-AA04-465E-9C06-F96F7D3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C76C-AF42-4098-9C54-40DE0B0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1F2A-F937-4F45-923C-52D8E30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B0F0-1E40-4D6F-95E0-1439FC6B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CF1B-5AE2-4F5A-9C0D-EF8041C7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985-DE49-4F25-8396-67E6D1B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DEE-A9CC-426E-ABF0-49FB57C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8F-FFA0-434E-94DA-C4FD4D9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F1C-8CB9-42C6-8F9B-5DB1800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CE1-3B8C-4B98-9E57-8625991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4E71-7F02-4531-BF78-3B361D5C91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15A7-B45A-4C74-8CCE-EEA2D34E8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60EC-524B-48B0-8BB3-BFAF639F04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753B-08CC-42F6-B02C-1976AE3798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333360"/>
            <a:ext cx="86421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0   1   2   3   4   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6   7   8   9   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1   12   13   14   1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6   17   18   19   2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112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7    18    1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3336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1   22   23   24   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6   27   28   2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40000" y="0"/>
            <a:ext cx="439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et-un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40000" y="0"/>
            <a:ext cx="4392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et-un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69228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148428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227664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92428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645000"/>
            <a:ext cx="43344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4437000"/>
            <a:ext cx="43308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515772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5877000"/>
            <a:ext cx="433080" cy="765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765000"/>
            <a:ext cx="43308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24360" y="1484280"/>
            <a:ext cx="433440" cy="765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1   22   23   24   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6   27   28   2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30   3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2-01-15T00:04:40Z</dcterms:modified>
  <cp:revision>19</cp:revision>
  <dc:subject/>
  <dc:title>Slide 1</dc:title>
</cp:coreProperties>
</file>