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76C-0D63-4D30-B249-C670954B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43E3-5D34-40D6-A697-AE1B95D8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E19C-F6CB-4D8E-9A0F-DDB8C036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1B52-8769-4FD6-ACE8-5EDB7D03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C011-07EA-48E2-AFF6-C17CBA22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3437-1A62-45C7-9F6E-9C2228B4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A512-A356-4D83-ADC4-074FCE1B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81C7-AE71-4922-BA46-BFE30724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5715-5A44-443F-9F86-BA115C09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8F5C-B90A-47F1-8C0F-3371783C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7DC5-E158-403A-ACA7-673400A9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D200-B7A1-4779-919E-9B292327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16A2-EE38-46BB-83A3-F2A6B685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F39B-65CD-4242-B07C-27EC52F9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8F35-360F-4A3F-8E92-CA471792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55E2-38EB-4DD2-A629-0E402917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5F4B-EB2D-42CF-9DF7-B50FA9D7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2FBE6-C278-42E1-88B6-E3055A5D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88F59-D320-42E0-B781-D6932CB0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15B9E-AE90-44A4-9C65-23D78B17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C6295-D1D8-464B-AB42-CDE9C2AC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6BFD1-0F9B-439F-B3D5-D9F85B25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515-FA52-4411-9FEC-A5D638DF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01BC6-9F7E-4EDC-B15B-32FC3067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BFF40-77C4-4E59-BBE7-2DB75735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9DF17-920F-407A-BD2E-6FBE59B6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FDCBE-5A8F-4F0B-9E1B-15E68C1E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B703E-92E3-4646-AD5D-E0F754E7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F9E1E-02AF-4DD7-81BD-B106FFAB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E31E3-3450-445C-B1EC-EDD1D6D9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14BE7-2102-48F3-B2D7-60CF2AE0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AB469-7CC7-41B0-9C92-69A9AA0B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D5A68-11D6-45DC-9106-B7398743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C5E-9CF0-433C-92C3-DB5B80DB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6BBD8-EA40-46AA-8724-6BB3863E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718F7-918B-4B6A-BDFA-987AAF9C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C4A5B-CD4F-48B3-86BF-B9C265C3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B5B85-40F7-463F-986B-F0F9192F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6F910-2BB8-4FF0-A3FC-9365D739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D8DE0-C3CF-429B-914B-653BD5A2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57ECE-5905-4076-921E-BE345703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FA32C-13BF-4C26-BE99-8AA40D3F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72FCB-665C-4EE2-A478-45DF8C07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B26-A1A0-45B0-9F4A-8F95FBED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D1A1-9861-4C93-865C-3E1A584D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F259-5B5D-4D76-A9B2-44D60394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8E32-B6DB-4C88-9F21-5675160C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5509-CFB3-449D-8CBE-75E74A47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70B1-5743-47FB-ACFA-662316001C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2498-5267-4157-8CC1-F4D38B226F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A275-CFB0-423B-B3E0-C7F9E1164A6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AC89-7C74-4578-BEC6-6CDC24A0487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333360"/>
            <a:ext cx="864216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0   1   2   3   4   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6   7   8   9   1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1   12   13   14   1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6   17   18   19   2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4000" y="112536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7    18    19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33336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21   22   23   24   2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26   27   28   29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340000" y="0"/>
            <a:ext cx="4392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et-un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deux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trois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quatre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cinq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six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sept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huit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neu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340000" y="0"/>
            <a:ext cx="4392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et-un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deux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trois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quatre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cinq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six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sept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huit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neu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59280" y="0"/>
            <a:ext cx="433440" cy="765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67280" y="692280"/>
            <a:ext cx="433440" cy="765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67280" y="1484280"/>
            <a:ext cx="433440" cy="7653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51280" y="2276640"/>
            <a:ext cx="433440" cy="765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2924280"/>
            <a:ext cx="433440" cy="765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3645000"/>
            <a:ext cx="433440" cy="765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0360" y="4437000"/>
            <a:ext cx="433080" cy="7653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11640" y="5157720"/>
            <a:ext cx="433440" cy="7653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40360" y="5877000"/>
            <a:ext cx="433080" cy="765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51640" y="765000"/>
            <a:ext cx="433080" cy="7653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24360" y="1484280"/>
            <a:ext cx="433440" cy="7653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21   22   23   24   2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26   27   28   29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30   3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5T00:04:40Z</dcterms:modified>
  <cp:revision>19</cp:revision>
  <dc:subject/>
  <dc:title>Slide 1</dc:title>
</cp:coreProperties>
</file>