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2733-EA10-4407-9940-659ED3D920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zul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j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nc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r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aril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ranja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oleta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s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rón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FFF-9EE7-4D66-9BF5-6CE13F5E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4D3-F0FA-4CF1-8457-921D0FE4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DBD-391A-4639-80D8-D2373BE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892-AAD8-4169-91FE-816B4D43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AFB6-6F4F-4E10-B34D-EB673E87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113-BDBF-400E-8ED2-E0778B44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2263-E76F-4B10-9AF3-7F6C978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A673-AEE6-4DB2-AD7C-02A648E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E6A7-56A3-42F5-A657-477DC74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924A-F3F3-4425-AFAC-28E2BBD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C2D1-44D3-4AB2-947D-A0855E2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066-B175-49E1-AF57-A4F65E84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D0DC-D3BB-44BA-AF33-2AD3BD89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F61-A22F-42F9-8140-7887E30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9946-013F-4E12-8AA3-CFC7BAE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589-8458-4AD2-82BF-FCE0FE67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BC26-1423-4976-8C55-891FAA17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DBE8-8E3D-4AFE-8FB1-D872C278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8F29-D436-4288-B3B0-FA274AE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45AA-81C3-41BC-A403-787788C0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4DB8-A9E9-4BCD-AC65-4849322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13ED-8F5B-48DA-85FE-5219E04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CC2-CA4C-49BC-A8F0-68141C02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9277-0ADD-4A8E-B5DF-6B5172B2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E27B-646F-49E4-87EB-815043B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BB58-5A0F-4AB7-830F-A656BD5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701B-DEA2-4B6E-A56A-C15339A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C88C-32E7-45AC-B0CD-537D449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A235-8512-4D79-A874-FEE4F0E1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99CB-2931-4CB6-A377-81DCD1A4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B994-7DA8-4FB5-844D-E987BD68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0C0C-F90B-4954-BDEE-C7D78BC9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26F1-6B81-401C-A6E9-9CCF06B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043-3221-48FE-85C7-57B815F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F886-7E94-4B41-B838-147D2AAC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3085-6501-42FC-83B4-3145314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9E93-048B-442F-94E5-60FA985A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85CE-F47B-4FB6-9CFC-6B2C967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4DA9-C141-49A9-8AD2-6EAC98B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5D1A-339F-4D85-A722-2EA3605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59FC-0451-406F-A117-0AB25164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47E5-7EA5-4B1E-931B-CFD1FD56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79F0-4455-46E3-8563-72EEB09C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E8F-3528-412C-B2DF-DEBFAAF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C5B-4378-417E-A87C-74C50768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D2C-0C68-45D1-BE0D-B8E9E69D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1D1-4110-42D6-8B6B-7ABBA4A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06E-9974-471A-8F24-7913B18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7B32-ACD7-40F7-836A-A4D98F213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4FB9-7D92-4AFD-B718-80ECA9C79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254D-BA77-4103-B6F2-A5D3E1B2EB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4FD-95E2-48EA-BA47-950A651834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0920" y="3789360"/>
            <a:ext cx="792360" cy="792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1557360"/>
            <a:ext cx="1152360" cy="1079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1268280"/>
            <a:ext cx="792000" cy="792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76280"/>
            <a:ext cx="1368360" cy="12970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5516640"/>
            <a:ext cx="792000" cy="792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3429000"/>
            <a:ext cx="503280" cy="50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5157720"/>
            <a:ext cx="936720" cy="935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5229360"/>
            <a:ext cx="576360" cy="57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4076640"/>
            <a:ext cx="1150920" cy="10810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1844640"/>
            <a:ext cx="792000" cy="79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333360"/>
            <a:ext cx="576000" cy="57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2276640"/>
            <a:ext cx="1295280" cy="129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5805360"/>
            <a:ext cx="792000" cy="79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205000"/>
            <a:ext cx="57600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2997360"/>
            <a:ext cx="936720" cy="93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260280"/>
            <a:ext cx="792360" cy="7923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404640"/>
            <a:ext cx="1224000" cy="1224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3573360"/>
            <a:ext cx="792360" cy="7923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333360"/>
            <a:ext cx="792000" cy="79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4221000"/>
            <a:ext cx="1008000" cy="9352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068640"/>
            <a:ext cx="792000" cy="79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4149720"/>
            <a:ext cx="1079280" cy="1008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2997360"/>
            <a:ext cx="792000" cy="79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6021360"/>
            <a:ext cx="431640" cy="43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1916280"/>
            <a:ext cx="1079640" cy="10094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1080" y="4437000"/>
            <a:ext cx="792000" cy="7923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2276640"/>
            <a:ext cx="432000" cy="4316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9640" y="3141720"/>
            <a:ext cx="1224000" cy="1150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16360" y="2205000"/>
            <a:ext cx="1368360" cy="1295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052640"/>
            <a:ext cx="503280" cy="504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5084640"/>
            <a:ext cx="1081080" cy="1008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981000"/>
            <a:ext cx="792360" cy="792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3933720"/>
            <a:ext cx="1081080" cy="1008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404640"/>
            <a:ext cx="1081080" cy="1008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5157720"/>
            <a:ext cx="1081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5589720"/>
            <a:ext cx="7938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50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1989000"/>
            <a:ext cx="1081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3500280"/>
            <a:ext cx="1081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692280"/>
            <a:ext cx="108108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2205000"/>
            <a:ext cx="86328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413000"/>
            <a:ext cx="50472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797360"/>
            <a:ext cx="79056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3213000"/>
            <a:ext cx="1511280" cy="158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773360"/>
            <a:ext cx="108108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6021360"/>
            <a:ext cx="4334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96360" y="189000"/>
            <a:ext cx="1223640" cy="11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03280" y="62064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2565360"/>
            <a:ext cx="1584000" cy="1441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3933720"/>
            <a:ext cx="2519280" cy="2378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63700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1044360" cy="7491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26028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189000"/>
            <a:ext cx="936720" cy="7920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4797360"/>
            <a:ext cx="2160720" cy="1873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1989000"/>
            <a:ext cx="647640" cy="433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227664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877000"/>
            <a:ext cx="1008000" cy="7221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5516640"/>
            <a:ext cx="863640" cy="7221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836640"/>
            <a:ext cx="1008000" cy="8650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2205000"/>
            <a:ext cx="1440000" cy="136692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1700280"/>
            <a:ext cx="1440000" cy="136692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4360" y="333360"/>
            <a:ext cx="1079640" cy="103356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860640"/>
            <a:ext cx="1800000" cy="172908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765000"/>
            <a:ext cx="1584360" cy="1656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1557360"/>
            <a:ext cx="1152360" cy="115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0000" y="3716280"/>
            <a:ext cx="1152360" cy="1152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08720" y="1413000"/>
            <a:ext cx="936720" cy="865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5013360"/>
            <a:ext cx="1152720" cy="115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404640"/>
            <a:ext cx="647640" cy="649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349360"/>
            <a:ext cx="1152720" cy="1152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3645000"/>
            <a:ext cx="1728720" cy="1655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3500280"/>
            <a:ext cx="1152360" cy="1152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5589720"/>
            <a:ext cx="792000" cy="792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836640"/>
            <a:ext cx="1152360" cy="115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2565360"/>
            <a:ext cx="792000" cy="8636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77080" y="333360"/>
            <a:ext cx="863640" cy="936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4941720"/>
            <a:ext cx="647640" cy="719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11280" y="260280"/>
            <a:ext cx="792360" cy="79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341360"/>
            <a:ext cx="865080" cy="8636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5734080"/>
            <a:ext cx="792360" cy="792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3789360"/>
            <a:ext cx="115272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5445000"/>
            <a:ext cx="1152360" cy="1152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2133720"/>
            <a:ext cx="115236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35280" y="3933720"/>
            <a:ext cx="1152360" cy="1152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2565360"/>
            <a:ext cx="684000" cy="720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2421000"/>
            <a:ext cx="115236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549360"/>
            <a:ext cx="649080" cy="6490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516640"/>
            <a:ext cx="115236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1640" y="2708280"/>
            <a:ext cx="1296720" cy="129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5373720"/>
            <a:ext cx="1008000" cy="1006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620640"/>
            <a:ext cx="1296720" cy="1295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51280" y="2060640"/>
            <a:ext cx="129708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6000" y="765000"/>
            <a:ext cx="936360" cy="93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16640"/>
            <a:ext cx="863640" cy="8636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162864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85080" y="558972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530064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184464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3357720"/>
            <a:ext cx="1081080" cy="108108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5229360"/>
            <a:ext cx="1440000" cy="143964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333360"/>
            <a:ext cx="1224000" cy="1224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805360"/>
            <a:ext cx="790560" cy="79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2133720"/>
            <a:ext cx="1008000" cy="93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89000"/>
            <a:ext cx="1223640" cy="12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765000"/>
            <a:ext cx="863640" cy="8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47640" y="4653000"/>
            <a:ext cx="72072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7280" y="350028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26028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328464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393372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85080" y="443700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72360" y="189000"/>
            <a:ext cx="757440" cy="60300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916280"/>
            <a:ext cx="720720" cy="72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88000" y="2781360"/>
            <a:ext cx="107964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4581360"/>
            <a:ext cx="792000" cy="792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4365720"/>
            <a:ext cx="792000" cy="792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4T23:59:45Z</dcterms:modified>
  <cp:revision>23</cp:revision>
  <dc:subject/>
  <dc:title>Slide 1</dc:title>
</cp:coreProperties>
</file>