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3B5F-3F61-45E5-95CC-319F17A3B0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zul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j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d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nc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r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aril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ranja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oleta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s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rón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EAA-B2A3-4073-8583-AE2D6D56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F31-EA85-418D-91D2-7ADA4160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DA3-A943-4264-82D0-A579238F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F15-5B65-40D3-922D-D256137A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59B2-91DC-4B8E-9248-0EA08D93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3ACF-815D-4C48-8399-760ED7A8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F8EB-160D-43C8-BBE5-DADE5AB2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9410-457A-47D8-A41E-12AF8C21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1E6A-77FC-40BB-819F-00C087D5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A529-3C60-4646-83BA-EBFBBD95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D0FC-BCB9-46F3-A59D-F3A439B8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B9A-81F8-469E-BBE7-99B6F8C4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BEEF-AA18-46BD-A9F1-E19070BA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D9FA-4F87-4F01-9235-D933EE7C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59BD-3964-4A8A-BC34-F324367E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B521-3F9C-4525-9057-9AAFEADC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82CF-A85F-4BBD-A486-9CED7637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6199-9B0E-4BE2-9F24-DD8560BF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3B70-F5C5-497D-BDCB-2AB62453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7E7C-CE9E-48DE-8A84-24D0D791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E0BCB-2959-4282-AEB7-8D6CC99F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3687-74CB-4FF3-BC6E-0860DA53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AAA-B564-47FA-A4A6-BA7CA871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5A26-377C-447E-B38D-A44B16A7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4458-FCD8-4F09-A82B-1BA2C68B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6A5B-8041-4016-9A63-72E58807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7F6B-D72C-465E-88E4-D6E34D1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32F5-00BE-49C0-809A-9FB17036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65A0-1750-45B8-9B34-71056AA9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0C4E-09FD-4ED7-A388-0E6C18BF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E7B9A-10B6-43CF-9986-A378724B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95E9-7AD7-4B80-9E8E-6E49271F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50C9-E175-4490-A71B-1EF917C4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8C5-48C0-417D-AEDB-F687DFA3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AB1EB-1B8D-41DD-8919-E84C5C22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ED82B-CE51-4D7D-8376-110933F1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8773-375F-428D-8BE9-46A6D8DE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B922-A23E-40BA-915D-8DE84885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0304-09CF-4601-9A50-8C1C6A1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3808-64D3-4170-A4AC-79666CCE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F20A-9B7D-4407-AB7E-0B925851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075C7-AADC-445C-8F4D-0B1A5AEF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C226-15EC-4094-94EB-89CB3725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8B1-80C1-41A0-801B-6978A557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915-C5FF-451E-9DC8-1AB336E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C71-93E0-4A68-9DFC-0C1ED908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88B-6848-4208-B903-D1B2150B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9E7-79FA-41EC-8685-CAB83E94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17B4-6586-4483-BEE5-E0DCEC249D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D96C-8654-4842-94AE-51490A16B3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6D4A-C17C-4EA3-A482-EC50F643BBD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79C3-F6CF-4CC4-B96D-2E1B14DA666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0920" y="3789360"/>
            <a:ext cx="792360" cy="792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1557360"/>
            <a:ext cx="1152360" cy="1079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5640" y="1268280"/>
            <a:ext cx="792000" cy="792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76280"/>
            <a:ext cx="1368360" cy="12970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6000" y="5516640"/>
            <a:ext cx="792000" cy="792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85080" y="3429000"/>
            <a:ext cx="503280" cy="504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5157720"/>
            <a:ext cx="936720" cy="935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5229360"/>
            <a:ext cx="576360" cy="57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4076640"/>
            <a:ext cx="1150920" cy="10810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1844640"/>
            <a:ext cx="792000" cy="79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333360"/>
            <a:ext cx="576000" cy="574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2276640"/>
            <a:ext cx="1295280" cy="129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5805360"/>
            <a:ext cx="792000" cy="79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2205000"/>
            <a:ext cx="57600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2997360"/>
            <a:ext cx="936720" cy="93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4720" y="260280"/>
            <a:ext cx="792360" cy="7923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404640"/>
            <a:ext cx="1224000" cy="1224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3573360"/>
            <a:ext cx="792360" cy="7923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333360"/>
            <a:ext cx="792000" cy="792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8000" y="4221000"/>
            <a:ext cx="1008000" cy="9352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3068640"/>
            <a:ext cx="792000" cy="792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80000" y="4149720"/>
            <a:ext cx="1079280" cy="1008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2997360"/>
            <a:ext cx="792000" cy="792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6021360"/>
            <a:ext cx="431640" cy="4320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1916280"/>
            <a:ext cx="1079640" cy="10094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1080" y="4437000"/>
            <a:ext cx="792000" cy="7923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2276640"/>
            <a:ext cx="432000" cy="4316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9640" y="3141720"/>
            <a:ext cx="1224000" cy="1150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16360" y="2205000"/>
            <a:ext cx="1368360" cy="1295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052640"/>
            <a:ext cx="503280" cy="504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5084640"/>
            <a:ext cx="1081080" cy="10083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981000"/>
            <a:ext cx="792360" cy="7923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3933720"/>
            <a:ext cx="1081080" cy="1008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51280" y="404640"/>
            <a:ext cx="1081080" cy="10083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48360" y="5157720"/>
            <a:ext cx="10810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5589720"/>
            <a:ext cx="7938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421000"/>
            <a:ext cx="50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1989000"/>
            <a:ext cx="1081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59280" y="3500280"/>
            <a:ext cx="1081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692280"/>
            <a:ext cx="108108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2205000"/>
            <a:ext cx="86328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1413000"/>
            <a:ext cx="504720" cy="50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797360"/>
            <a:ext cx="79056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3213000"/>
            <a:ext cx="1511280" cy="158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773360"/>
            <a:ext cx="108108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92360" y="6021360"/>
            <a:ext cx="4334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96360" y="189000"/>
            <a:ext cx="1223640" cy="11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403280" y="620640"/>
            <a:ext cx="1584360" cy="14414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6000" y="2565360"/>
            <a:ext cx="1584000" cy="14414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3933720"/>
            <a:ext cx="2519280" cy="2378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2637000"/>
            <a:ext cx="1584360" cy="1441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33360"/>
            <a:ext cx="1044360" cy="7491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48000" y="260280"/>
            <a:ext cx="1584360" cy="1441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189000"/>
            <a:ext cx="936720" cy="7920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4797360"/>
            <a:ext cx="2160720" cy="1873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17080" y="1989000"/>
            <a:ext cx="647640" cy="433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2276640"/>
            <a:ext cx="1584360" cy="14414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5877000"/>
            <a:ext cx="1008000" cy="7221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5516640"/>
            <a:ext cx="863640" cy="7221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836640"/>
            <a:ext cx="1008000" cy="86508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2205000"/>
            <a:ext cx="1440000" cy="136692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1700280"/>
            <a:ext cx="1440000" cy="136692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4360" y="333360"/>
            <a:ext cx="1079640" cy="103356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4360" y="3860640"/>
            <a:ext cx="1800000" cy="172908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765000"/>
            <a:ext cx="1584360" cy="1656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1557360"/>
            <a:ext cx="1152360" cy="1152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20000" y="3716280"/>
            <a:ext cx="1152360" cy="1152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08720" y="1413000"/>
            <a:ext cx="936720" cy="865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0720" y="5013360"/>
            <a:ext cx="1152720" cy="1152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404640"/>
            <a:ext cx="647640" cy="649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2349360"/>
            <a:ext cx="1152720" cy="1152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3645000"/>
            <a:ext cx="1728720" cy="1655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3500280"/>
            <a:ext cx="1152360" cy="1152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640" y="5589720"/>
            <a:ext cx="792000" cy="792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11640" y="836640"/>
            <a:ext cx="1152360" cy="1152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2565360"/>
            <a:ext cx="792000" cy="8636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77080" y="333360"/>
            <a:ext cx="863640" cy="936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4941720"/>
            <a:ext cx="647640" cy="719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11280" y="260280"/>
            <a:ext cx="792360" cy="792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341360"/>
            <a:ext cx="865080" cy="8636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85080" y="5734080"/>
            <a:ext cx="792360" cy="792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19640" y="3789360"/>
            <a:ext cx="1152720" cy="1152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40000" y="5445000"/>
            <a:ext cx="1152360" cy="1152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2133720"/>
            <a:ext cx="1152360" cy="1152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35280" y="3933720"/>
            <a:ext cx="1152360" cy="1152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2565360"/>
            <a:ext cx="684000" cy="720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720" y="2421000"/>
            <a:ext cx="1152360" cy="1152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549360"/>
            <a:ext cx="649080" cy="6490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516640"/>
            <a:ext cx="1152360" cy="1152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1640" y="2708280"/>
            <a:ext cx="1296720" cy="1295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43640" y="5373720"/>
            <a:ext cx="1008000" cy="1006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620640"/>
            <a:ext cx="1296720" cy="1295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51280" y="2060640"/>
            <a:ext cx="129708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36000" y="765000"/>
            <a:ext cx="936360" cy="93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16640"/>
            <a:ext cx="863640" cy="8636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1628640"/>
            <a:ext cx="1081080" cy="1081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85080" y="5589720"/>
            <a:ext cx="1081080" cy="1081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5300640"/>
            <a:ext cx="1081080" cy="1081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1844640"/>
            <a:ext cx="1081080" cy="1081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3357720"/>
            <a:ext cx="1081080" cy="1081080"/>
          </a:xfrm>
          <a:prstGeom prst="ellipse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5229360"/>
            <a:ext cx="1440000" cy="1439640"/>
          </a:xfrm>
          <a:prstGeom prst="ellipse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333360"/>
            <a:ext cx="1224000" cy="1224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5805360"/>
            <a:ext cx="790560" cy="792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27280" y="2133720"/>
            <a:ext cx="1008000" cy="934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189000"/>
            <a:ext cx="1223640" cy="122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48000" y="765000"/>
            <a:ext cx="863640" cy="86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47640" y="4653000"/>
            <a:ext cx="72072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7280" y="3500280"/>
            <a:ext cx="1008000" cy="936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260280"/>
            <a:ext cx="1008000" cy="936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5640" y="3284640"/>
            <a:ext cx="1008000" cy="93636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3933720"/>
            <a:ext cx="1008000" cy="93672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85080" y="4437000"/>
            <a:ext cx="1008000" cy="93672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72360" y="189000"/>
            <a:ext cx="757440" cy="60300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916280"/>
            <a:ext cx="720720" cy="720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88000" y="2781360"/>
            <a:ext cx="107964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4581360"/>
            <a:ext cx="792000" cy="792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16720" y="4365720"/>
            <a:ext cx="792000" cy="792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4T23:59:45Z</dcterms:modified>
  <cp:revision>23</cp:revision>
  <dc:subject/>
  <dc:title>Slide 1</dc:title>
</cp:coreProperties>
</file>