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DE3-218D-4C48-BCDC-59E44B4C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124-358A-429A-93FE-2C6361B8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6D9-0766-408D-AA1B-74E89391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99E-2080-4AF2-957F-8E42E895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AC4D-CB90-481E-94A0-D0834475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EB37-8F80-412C-B175-58EEA9FC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D126-D3E4-4CC1-A782-6A99C8BB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839F-D8AB-4225-8DBB-C7452A9F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33E3-35C9-4E49-9A85-E1AEFC5C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A1E0-0136-4F97-853F-92CC6E73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6B95-9148-4F08-A196-7645700A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189-311D-4EA4-834F-AAD196CE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0941-2744-4968-A6FF-3C31DA93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4760-15C0-45E4-85E8-496D82E1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CA65-53A5-478C-BA49-5126D87A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C210-0F85-4D27-BFCA-AE867BA1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37FA-064D-4F2B-B9DB-E0BA33F3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BF54-567E-4FF7-A982-D142C37D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0071-AF08-4E08-9C9C-0C88B687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3C2B-925A-4418-9547-B2071405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34EB-1B89-4204-84C3-54EB4321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3F75-0BB9-4928-8713-21EDA01D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6D0-EA84-47BF-814E-F5ADB1E2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C20E0-0B85-4B20-B8E9-29C6E287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538E-0D83-4EE8-9F2A-FD3D74C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3AB9A-AAA1-43A3-8617-64D79301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759C-9F16-4BF7-AB68-191BDB16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CA93D-F59D-43F7-AB82-9CA61DBC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E0E18-332C-45D5-828D-262B1499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AE7FA-1D7D-420E-8277-22840421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5ACB0-C81E-4137-AB5E-B542EE70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D1B78-5DB3-43EE-A8F4-72DEB025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8F21-43BA-4F70-B217-1848C757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11B-9B14-4167-B1A9-4790EAC3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76B6-A7D6-45C3-BF80-7C4164E2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6A24-A18F-446F-A797-16F7B17C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35CC6-DF76-4804-970E-FC62EE44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0473F-33B3-4EF0-80BA-8F878CC4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A015F-88EB-45D0-915D-CCA9FAB5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BCC07-9DD7-4890-A91E-6C0C6512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F83B8-0C91-48A8-8E92-C4C439E5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07973-4BD5-4B0F-B323-BADFD722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054AE-FE1C-4245-A769-B8A15E02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426-76D3-44E2-87F1-B61B2624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E67-DF28-4EE8-81F2-5ABEDD60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DAD-AE84-4EAD-B6F6-D498E3BF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655-545E-41D7-8C36-18C2E941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10F-F03A-4A7D-94D5-4923752D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2D88-746D-4291-8D58-173D194BDE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7B88-A364-4B80-A52D-345AD583FB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6835-BAC0-481F-9799-0402DDD8F1D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1903-5917-4AC0-86D3-8C86F19B59B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0  1   2   3   4   5   6  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8   9   10   11   12  13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14   15   16   17  18   1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20  21  22  23  24  2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26  27  28  29  30  3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2:56Z</dcterms:modified>
  <cp:revision>25</cp:revision>
  <dc:subject/>
  <dc:title>Slide 1</dc:title>
</cp:coreProperties>
</file>