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2A57-F7F1-46DF-98C4-9CA109EE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D532-06B7-4175-A503-5CD9D3AC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605B-44BD-477E-84A3-43035766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99F2-D990-4D8E-9C68-E8FC527C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FB3B-0C04-489E-A098-03EE4F40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31F4-FC70-4701-987F-5E2188F2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A2D8-66D6-4E18-968E-4C8C738A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5737-ED51-4800-8E7B-174E41D2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FB97-534C-4EE5-B189-8A1F67E2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50C6-D66F-4FBF-A1DF-8F21299C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F86E-9893-4394-9054-B6D492E6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EF0D-3BD0-4A0B-8B05-61A484BE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1B93-819D-43CF-83A1-763BB9D2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D6F5-B1DC-4776-BE58-ED81E71A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090A-AAF4-4D1C-945E-D892E026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C352-B404-4FEE-ACDD-0623870F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7A86-EFE3-48B4-AA5F-5996D298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00E32-9444-453D-867D-2A802DC9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01155-3295-41B3-88B3-288F8147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105F6-78A5-4A85-8242-F893A1D8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C60DC-6EC2-46E8-9855-AF122BFD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2FEA0-801D-4A79-8C0E-7221600E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6D11-E160-49FE-B149-B425C61D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45843-A8C3-4FFD-8D25-704D9B45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69754-94B4-4D9B-B657-9531E3B3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EBAB4-A908-492F-923B-9F2B6FAB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511ED-440E-42C1-B42B-99F02AB0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284C4-5EBA-4E96-8956-2993799A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6DFF7-88BB-4FAC-A07D-6E5DE99F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DABE7-7AF9-49EE-9DB2-BD117319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AE08F-253B-40FC-8A68-C5F674FB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6BE7E-BB8B-481C-9B65-33F68B8F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94368-161B-4BDD-A1F7-30FF7EBC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AC9C-6CF6-4B93-A817-ED51B779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C9BAD-3767-40EE-81CC-0C610001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A3DA4-62DC-4EB0-B9DC-3991984A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2B154-F380-42D9-8957-EF2BF344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E3B03-0058-42CA-8CFA-A2671A35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19569-BDA4-4CCB-990C-A4EFB66C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891CF-619E-44C0-B919-B9339B19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1DD6D-1551-4687-B457-726FAB10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C552D-9608-469C-B976-36F3A8A7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15797-47C8-4DEB-A558-D724BFAF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26E-741A-4007-96AE-C07300A1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E5C0-A608-4D42-9BD3-143C0038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01A4-B308-4DF7-ADF6-379D8019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A022-82BF-4753-ABA8-3E154121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BAEC-38C5-4E2C-A6D5-B93E1825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3821-31ED-49CA-86C9-B1520F946C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F8FD-DCED-401E-98F1-321F9CF029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E5F8-37CC-4579-BF67-F7B3F631FC5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76DB-4744-4442-8FCF-7053083FEAC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64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0  1   2   3   4   5   6  7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8   9   10   11   12  13 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14   15   16   17  18   1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20  21  22  23  24  2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26  27  28  29  30  31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1-15T00:02:56Z</dcterms:modified>
  <cp:revision>25</cp:revision>
  <dc:subject/>
  <dc:title>Slide 1</dc:title>
</cp:coreProperties>
</file>