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779-0A91-4E77-8B44-625BC134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43C-CE4C-4543-A3AB-7F3A3685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367-609E-42EB-BC39-B2286575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FC0-D7F2-4EE8-BF52-B9E7042B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2F6-DC14-4729-B22A-288AEB32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EF-8205-4634-A2B0-E178EC21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E66-11EA-4CF2-BC25-CF42E23B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BBC-944E-4E88-9F01-3369991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92B-535B-40A5-A529-3B012BB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F10-04A0-4650-8144-17411D2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AF2-5A36-45F8-91AA-703BD53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EBF-7AB7-4BF2-A3A2-2106D8F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28C1-E269-4BEB-856C-D545AF9C6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900439294[1]"/>
          <p:cNvPicPr/>
          <p:nvPr/>
        </p:nvPicPr>
        <p:blipFill>
          <a:blip r:embed="rId1"/>
          <a:stretch/>
        </p:blipFill>
        <p:spPr>
          <a:xfrm>
            <a:off x="0" y="1700280"/>
            <a:ext cx="3454560" cy="515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067280" y="115920"/>
            <a:ext cx="4951440" cy="2290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David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x États-Unis et je parle angl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Isabel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 Mexique et je parle espagn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P900443898[1]"/>
          <p:cNvPicPr/>
          <p:nvPr/>
        </p:nvPicPr>
        <p:blipFill>
          <a:blip r:embed="rId1"/>
          <a:stretch/>
        </p:blipFill>
        <p:spPr>
          <a:xfrm>
            <a:off x="0" y="2276640"/>
            <a:ext cx="3057480" cy="458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Els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en Suisse et je parle allem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P900448555[1]"/>
          <p:cNvPicPr/>
          <p:nvPr/>
        </p:nvPicPr>
        <p:blipFill>
          <a:blip r:embed="rId1"/>
          <a:srcRect l="12606" t="13485" r="25973" b="7599"/>
          <a:stretch/>
        </p:blipFill>
        <p:spPr>
          <a:xfrm>
            <a:off x="0" y="1341360"/>
            <a:ext cx="2862360" cy="551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Robert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 Canada et je parle franç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P900439330[1]"/>
          <p:cNvPicPr/>
          <p:nvPr/>
        </p:nvPicPr>
        <p:blipFill>
          <a:blip r:embed="rId1"/>
          <a:srcRect l="19280" t="0" r="23926" b="0"/>
          <a:stretch/>
        </p:blipFill>
        <p:spPr>
          <a:xfrm>
            <a:off x="0" y="549360"/>
            <a:ext cx="240048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16360" y="285264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Sonj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en Afrique du Sud et je parle afrika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P900184976"/>
          <p:cNvPicPr/>
          <p:nvPr/>
        </p:nvPicPr>
        <p:blipFill>
          <a:blip r:embed="rId2"/>
          <a:stretch/>
        </p:blipFill>
        <p:spPr>
          <a:xfrm>
            <a:off x="5532480" y="0"/>
            <a:ext cx="361152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84360" y="907920"/>
            <a:ext cx="42483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t to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mment t’appell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ù habit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Quelle langue parl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0:37:03Z</dcterms:created>
  <dc:creator>Clare Seccombe</dc:creator>
  <dc:description/>
  <dc:language>en-US</dc:language>
  <cp:lastModifiedBy>Clare</cp:lastModifiedBy>
  <dcterms:modified xsi:type="dcterms:W3CDTF">2015-02-06T09:31:07Z</dcterms:modified>
  <cp:revision>6</cp:revision>
  <dc:subject/>
  <dc:title>Slide 1</dc:title>
</cp:coreProperties>
</file>