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93FF-F9AA-4E79-AF9C-C67081365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6D79-4EF9-4077-BE32-C4F13770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CD5C-533D-47B5-80C6-C2C4E87BE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EAD1-5B5C-43E8-9A6A-46F6A14C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0A5C-214A-4D3E-889B-A3C8643A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4CF6-596B-432D-98A9-8B366940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77C4-19A5-4364-8B56-0C8B00D2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3F7D-2092-48FB-B263-F0D5FF2C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735D-F7FC-435C-9487-E9FE66E8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4261-666A-4BEB-A345-930F2855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029F-BC5D-4F60-B242-A98FAA1A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61AD-1F44-4E32-8DB7-1EACBC22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8098-7512-4E10-A931-88AC74E786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MP900439294[1]"/>
          <p:cNvPicPr/>
          <p:nvPr/>
        </p:nvPicPr>
        <p:blipFill>
          <a:blip r:embed="rId1"/>
          <a:stretch/>
        </p:blipFill>
        <p:spPr>
          <a:xfrm>
            <a:off x="0" y="1700280"/>
            <a:ext cx="3454560" cy="5157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4067280" y="115920"/>
            <a:ext cx="4951440" cy="22906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2916360" y="2852640"/>
            <a:ext cx="604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m’appelle David.  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’habite aux États-Unis et je parle angla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916360" y="2852640"/>
            <a:ext cx="604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m’appelle Isabel.  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’habite au Mexique et je parle espagno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MP900443898[1]"/>
          <p:cNvPicPr/>
          <p:nvPr/>
        </p:nvPicPr>
        <p:blipFill>
          <a:blip r:embed="rId1"/>
          <a:stretch/>
        </p:blipFill>
        <p:spPr>
          <a:xfrm>
            <a:off x="0" y="2276640"/>
            <a:ext cx="3057480" cy="4581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4140360" y="115920"/>
            <a:ext cx="48783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2916360" y="2852640"/>
            <a:ext cx="604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m’appelle Elsa.  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’habite en Suisse et je parle allema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P900448555[1]"/>
          <p:cNvPicPr/>
          <p:nvPr/>
        </p:nvPicPr>
        <p:blipFill>
          <a:blip r:embed="rId1"/>
          <a:srcRect l="12606" t="13485" r="25973" b="7599"/>
          <a:stretch/>
        </p:blipFill>
        <p:spPr>
          <a:xfrm>
            <a:off x="0" y="1341360"/>
            <a:ext cx="2862360" cy="5516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2"/>
          <a:stretch/>
        </p:blipFill>
        <p:spPr>
          <a:xfrm>
            <a:off x="4211640" y="115920"/>
            <a:ext cx="480708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916360" y="2852640"/>
            <a:ext cx="604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m’appelle Robert.  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’habite au Canada et je parle frança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MP900439330[1]"/>
          <p:cNvPicPr/>
          <p:nvPr/>
        </p:nvPicPr>
        <p:blipFill>
          <a:blip r:embed="rId1"/>
          <a:srcRect l="19280" t="0" r="23926" b="0"/>
          <a:stretch/>
        </p:blipFill>
        <p:spPr>
          <a:xfrm>
            <a:off x="0" y="549360"/>
            <a:ext cx="2400480" cy="6308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4140360" y="115920"/>
            <a:ext cx="48783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916360" y="2852640"/>
            <a:ext cx="622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m’appelle Sonja.  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’habite en Afrique du Sud et je parle afrikaa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MP900439331[1]"/>
          <p:cNvPicPr/>
          <p:nvPr/>
        </p:nvPicPr>
        <p:blipFill>
          <a:blip r:embed="rId1"/>
          <a:srcRect l="14274" t="0" r="24809" b="0"/>
          <a:stretch/>
        </p:blipFill>
        <p:spPr>
          <a:xfrm>
            <a:off x="0" y="620640"/>
            <a:ext cx="2608200" cy="6237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"/>
          <p:cNvPicPr/>
          <p:nvPr/>
        </p:nvPicPr>
        <p:blipFill>
          <a:blip r:embed="rId2"/>
          <a:stretch/>
        </p:blipFill>
        <p:spPr>
          <a:xfrm>
            <a:off x="4211640" y="115920"/>
            <a:ext cx="480708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MP900439331[1]"/>
          <p:cNvPicPr/>
          <p:nvPr/>
        </p:nvPicPr>
        <p:blipFill>
          <a:blip r:embed="rId1"/>
          <a:srcRect l="14274" t="0" r="24809" b="0"/>
          <a:stretch/>
        </p:blipFill>
        <p:spPr>
          <a:xfrm>
            <a:off x="0" y="620640"/>
            <a:ext cx="2608200" cy="623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MP900184976"/>
          <p:cNvPicPr/>
          <p:nvPr/>
        </p:nvPicPr>
        <p:blipFill>
          <a:blip r:embed="rId2"/>
          <a:stretch/>
        </p:blipFill>
        <p:spPr>
          <a:xfrm>
            <a:off x="5532480" y="0"/>
            <a:ext cx="3611520" cy="5445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"/>
          <p:cNvSpPr/>
          <p:nvPr/>
        </p:nvSpPr>
        <p:spPr>
          <a:xfrm>
            <a:off x="2484360" y="907920"/>
            <a:ext cx="424836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t toi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omment t’appelles-tu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ù habites-tu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Quelle langue parles-tu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0:37:03Z</dcterms:created>
  <dc:creator>Clare Seccombe</dc:creator>
  <dc:description/>
  <dc:language>en-US</dc:language>
  <cp:lastModifiedBy>Clare</cp:lastModifiedBy>
  <dcterms:modified xsi:type="dcterms:W3CDTF">2015-02-06T09:31:07Z</dcterms:modified>
  <cp:revision>6</cp:revision>
  <dc:subject/>
  <dc:title>Slide 1</dc:title>
</cp:coreProperties>
</file>