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8D4B-4EB0-4F5A-9BC7-294D8D7B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183-0F89-4FBB-A2C1-F65CFC33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EAA-4FCF-404A-BE16-02EB1D37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AAE-D10D-4E80-9CED-24E79E1B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DDE2-9A91-4BF2-BE97-F597781E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915E-CD6D-4980-B097-95A7FD72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1431-38F5-4C6B-862A-1E3E32E4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D931-2A24-4E77-946A-0179D857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9829-26B2-47C4-AE5F-D027760B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4BD0-A608-4282-B741-078C8BF1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C528-E64B-4007-ACB2-B1ED9374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204D-FEB4-41D6-863B-E136CD31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35F6-CEF6-448A-945A-918F8A95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4FFD-F58E-4BAE-91EF-4AE38275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DE42-11A6-4C9E-92EF-99DFA8D4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8E0E-667C-43AC-9286-395CA962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0E30-45F9-4E3A-A868-46F1AA9B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5FA1A-4494-4EC3-802F-893F07DB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8B09B-80CC-431E-B488-137A5214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4DCA0-8734-459B-837E-34E81D77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C0A85-DEA8-470B-8CFA-76F25B94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36CC1-20DA-4F76-9474-EDDC4052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380E-782F-419C-946B-4C39EE96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DFCD8-3AEE-4150-9EEA-A67F18D7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12620-C13C-4336-8E5B-DB5AC9AC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5049D-2122-4012-9E47-008A4AAA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A8C92-5138-4CAA-974F-9D7B4ADE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812A3-6809-4DD5-9593-E59545F6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96250-1432-43BF-83C3-6C515FFD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BF880-CFC9-4A1E-921E-2CCFCBAB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ABF4B-5275-4EB4-A1DB-30E39971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709DA-7325-413D-A533-698DBF1F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92437-6143-43E5-B6A7-D7BECED4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F9B4-6B76-42E4-B6D0-98475A8A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F30A3-D8A9-4BDD-BCE7-E15BD6E1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E8513-752E-4EB8-A940-ED3330B0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1A980-27DC-47D8-A016-51CA6A8A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88A17-6E02-4539-9F37-EACEE7F2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D59BA-A0F2-4BA9-BFB1-152D4F9D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2544D-BE39-4DE5-A280-8D0290A2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736E6-7189-49A2-B57A-8BC4B207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6560E-5F05-49B9-9FF5-E05BF0FC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3CCD3-5951-4508-BD43-9FAD1D93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43A-B637-49B7-9AC9-A3DA254D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1DE-96FE-41E7-8721-C30A77CA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9B92-40D0-453E-A91A-687CC2C5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928-9AA5-421E-B09B-B0E0076A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743E-29E4-45A1-9CFC-17AF9B7B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6BB5-C4B6-437E-8943-A4571961D8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80B3-28FE-42D5-B031-EE95CCE6C6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4825-3341-460B-A946-AAA85A16C3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6F7E-8F0E-44C8-A5F5-F458B59AB1E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1" descr="http://geology.com/world/world-map.gif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ttp://cocardes.monde.online.fr/v2html/fr/cartes/monde.jpg"/>
          <p:cNvPicPr/>
          <p:nvPr/>
        </p:nvPicPr>
        <p:blipFill>
          <a:blip r:embed="rId2"/>
          <a:stretch/>
        </p:blipFill>
        <p:spPr>
          <a:xfrm>
            <a:off x="0" y="260280"/>
            <a:ext cx="9082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French language Master "/>
          <p:cNvPicPr/>
          <p:nvPr/>
        </p:nvPicPr>
        <p:blipFill>
          <a:blip r:embed="rId2"/>
          <a:stretch/>
        </p:blipFill>
        <p:spPr>
          <a:xfrm>
            <a:off x="12600" y="189000"/>
            <a:ext cx="913140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7-02T14:07:16Z</dcterms:modified>
  <cp:revision>26</cp:revision>
  <dc:subject/>
  <dc:title>Slide 1</dc:title>
</cp:coreProperties>
</file>