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E50-8BEF-41FD-A2FC-568E6891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578-0B94-49C0-BEF5-1C07389A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C91-9400-414D-A3E5-69F2C7E4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BDF-003B-494A-85BB-44764434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BA14-4EA9-4C58-9799-1A0B7FD9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5ED6-621E-4594-932D-FDC2BCC8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A393-E7F8-4EB2-A388-E1B4166F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6960-DAE0-4411-87ED-39AA8FC1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C39B-6544-414A-AC09-15E5FA4D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5DD7-F101-48B5-BAC8-D24CAC93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9143-CFF7-4F73-8A99-446BC4E3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FB7-A063-4F3A-B81B-36FDBB9E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97FB-A1C2-4445-8A2C-8FF98721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12BB-4B61-4C90-BFE0-D275DD0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0657-8987-4F33-B293-EE654EF3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4027-DDEC-420B-AAF1-25051910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9B71-3105-4C86-994A-8732644A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0A1E-7604-490C-8C48-EFC15E5B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164C-6FDA-4FBB-A821-96B9F39E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CD8E-A90B-49A9-B481-20DC5749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5C8D-E62C-4084-A3B7-4383A571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B72C-A1E8-487F-BB06-0C8CF5AE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B30-CE72-44EF-A1EE-178F8AFB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AD50-069A-42B2-BF2F-4C70D8EF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73139-AD19-46E8-BCC7-ECA55999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5112-098D-4184-BBEB-20A6433F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1193-EE1C-40B9-B8C5-6C0A4B22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5EC9-5098-4515-9FF1-DD54BDE3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7A9E-585E-4639-A636-9BA1D40D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2CF1-4541-4E27-AE6C-9576830A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D5FC-32CD-48F6-9860-EF2D2E88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B1DA6-5C33-4660-8BE8-A51BC0F2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BEDB-7137-4F2C-B79C-101D6A86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BFE-3C3E-4C4A-A8D2-9A0B4D4A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4986B-5BA4-4094-A845-110CBB3A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E4B8D-526E-4E58-99B6-65B42CBC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7A9A5-FA0F-45EB-ADE2-85E7647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77544-7374-4F03-AB68-E49C438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0922-C048-4DD4-98C8-80A2473A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858F-C9E0-4CC9-8355-E84AA5BA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1C7A8-AD06-4F9E-B2CE-57170C78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AADB8-6395-4C19-89F3-907B8675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2B300-4F65-426A-9940-1E11B828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4B8-1240-4E27-87C0-A012EEE0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DCD-984C-468B-9336-98A3441D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EC9-3D67-4EE8-8D66-706B5599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A65-6626-4B89-826E-E2E0989B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D16-BCCE-4B3C-ABEA-512B33C6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6566-A9DB-4C91-B1F9-C01C57471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CCAC-D88E-4B40-B8FE-CBDFDBE7DC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6390-422C-4E9C-921F-669DC935D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5CD7-7B5D-41E6-A331-EBB5BE2204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http://geology.com/world/world-map.gif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cocardes.monde.online.fr/v2html/fr/cartes/monde.jpg"/>
          <p:cNvPicPr/>
          <p:nvPr/>
        </p:nvPicPr>
        <p:blipFill>
          <a:blip r:embed="rId2"/>
          <a:stretch/>
        </p:blipFill>
        <p:spPr>
          <a:xfrm>
            <a:off x="0" y="260280"/>
            <a:ext cx="9082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rench language Master "/>
          <p:cNvPicPr/>
          <p:nvPr/>
        </p:nvPicPr>
        <p:blipFill>
          <a:blip r:embed="rId2"/>
          <a:stretch/>
        </p:blipFill>
        <p:spPr>
          <a:xfrm>
            <a:off x="12600" y="189000"/>
            <a:ext cx="91314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7-02T14:07:16Z</dcterms:modified>
  <cp:revision>26</cp:revision>
  <dc:subject/>
  <dc:title>Slide 1</dc:title>
</cp:coreProperties>
</file>