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51C-4C84-4565-A851-0ED5097A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0D0-9418-401B-9083-B5C0DEC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674-3816-47C2-9FF3-894DEEAC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50A-96CC-499A-8CC6-E2B53D6F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BB7-0B2F-417F-9579-6EB92BCA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93DD-2393-4761-9A28-BA5067DD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51C0-84A3-49F5-A7F4-92B0018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0011-C6B1-4DA2-B3E5-9F36CE0E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274E-B848-410D-846E-5A4774F9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EBF5-D92D-408B-A5C0-57E305F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94F-3634-4281-8577-F7442EB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BE7-C7AE-4B61-B91B-DE80D8C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AC90-8946-4815-AA06-5623F8E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806-A996-4AAF-913D-1E9294C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A4B-5CD3-4C13-A83E-5BECD6B6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4F48-EA29-4EBD-AC38-FC0F3E36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55D-960A-4C45-9D4C-FA6734FE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D17B-50EF-4A90-9EAD-E7FC32B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573B-BE09-49F5-A42C-6CCCC9E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A0DB-6B8C-4089-A22C-23D3328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2A1F-F167-44A1-AA45-EF0D7A7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5FE4-B3EF-4726-A1F6-3342881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93E-0A8B-444D-8E09-122069D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80AF-F615-4A3C-AFF8-466C1ED1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8151-15F6-466B-B05E-14586FF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E58F-5811-481C-9D58-379BDC0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10B6-0045-405B-A5B6-3D8293A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535F-7F1C-4367-9FE7-3256B72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A997-0F00-4101-8C69-C3DB028A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68F5-EB41-452B-BF4F-8DE56058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825D-E656-4B30-9DC4-325E5877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F67E-A997-4F95-8128-E8BEF26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3C01-FAE1-4784-AADD-0C7D7EA1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928-23B0-4264-9767-B43C841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388F-9006-4734-8081-3B881583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9045-F3F0-43DB-8E1F-D3BF203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73AE-7C3A-4281-948B-2E8D4D9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3903-3410-45E8-B256-4FFBB26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BA4B-4077-4520-865C-1AC9F71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4435-B475-4C2A-906F-4F9AE68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1143-5FD9-4955-BC69-03E3A7E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7C37-9211-400D-81A6-AA1F050A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491C-3353-4D5A-B699-C7731561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88C-EEDD-4D08-A4B5-825CE338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63F-140F-4DEB-BB53-39F74BCF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9E1-EF58-418A-B31F-0CB1497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2A8-A6C8-4616-B9A4-A8DD493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AE0-A35A-488C-BDF7-C6B8B16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D62-E89D-47D8-83C0-BE27BF2E21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961-3998-43B5-96C7-2B99C9FD49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E6B-06B2-4E67-82AB-E7D805A7CB2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3486-DD55-4CF4-B765-27BA991F02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219640" y="242100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40338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313440" cy="22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961080" cy="215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003640" y="260280"/>
            <a:ext cx="3600720" cy="9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55640" y="26028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3313080" cy="2244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932360" y="76500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3960720" cy="21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360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3960720" cy="2157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6007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39607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313440" cy="22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961080" cy="2157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003640" y="260280"/>
            <a:ext cx="3600720" cy="928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55640" y="26028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313080" cy="2244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3600360" cy="9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313080" cy="2244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219640" y="47628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13080" cy="22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60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4033800" cy="127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932360" y="33336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376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35280" y="2421000"/>
            <a:ext cx="2376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219640" y="242100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900000" y="83664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87640" y="620640"/>
            <a:ext cx="1376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1376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02T08:24:42Z</dcterms:modified>
  <cp:revision>34</cp:revision>
  <dc:subject/>
  <dc:title>Slide 1</dc:title>
</cp:coreProperties>
</file>