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354-8186-4CF3-BDDC-FCE3610F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314-1AA8-49EE-B5DD-217C86A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9E8-527D-4374-B332-EF852903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9EB-8BDD-40D3-ABE1-FB544DE0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7885-8BDF-4B75-B156-D8E45BD9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E50-619F-4A7E-A668-C373F2A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4634-40A3-4DB7-80CB-236C4A7B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6A61-DA88-4D2B-AB31-365A505C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3D6-3C52-4E97-AD62-993A64B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61C-4E5C-46AD-BF2F-B2816759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92EA-FCA1-4BD8-BFD4-776A900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DD0-C3AD-4174-B923-DDAB56FA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97DF-2EDD-4317-ADB8-3A062D86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A04F-E176-44D0-BBC9-B8DE18F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47E0-23FD-4068-8836-7BDA4BFE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26A9-01A9-410B-9751-EDD7ACFF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70C5-6686-496D-B4D6-F89B0D2C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97F9-68EC-4F88-853F-0F4165EF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1DEB-1FAB-4144-B87B-CF3AF161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7185-08AE-42AF-A0EA-87D7050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F52F-91BA-48FB-8458-607AB0C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6717-2B78-495A-BADB-3A56D62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A53-D43C-473A-A906-27A1774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0E33-B66B-4974-B952-C33D746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EAC2-3CB3-461E-8D54-A8D3B17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818B-3192-4853-A79A-333CC87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E05B-FD5A-4CAC-8B3C-F6D124F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F6FA-360C-4877-9765-EC66BD4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215C-26A5-480B-941A-F825E26C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E521-DE4D-4909-808E-4644ECC0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0246C-2ABF-46CA-9337-984A43F6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3CAF-E202-4F55-AA1F-7DB0F64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DB69-97A1-42B6-90DE-6FB031BF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7FB-EF6C-4EBC-A36D-08A2220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29C3-A6E4-4A2C-8ADF-1A06393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02D1-B4B6-4685-9232-54AAFB42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3535-A2E2-4CD0-8256-93F4849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847A-ECAC-4163-A741-3B0EAC5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D818-6FD9-47C4-83CE-1019E3B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C56A-D521-4A12-987A-FAD9995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ABB6-E517-4CE7-8BFF-D0D3C18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5CB2-B16E-4C2D-A1C8-7BFB83F2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777A-C1E3-4595-A414-496DD895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867-FDB0-4653-B23A-D51E058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DB8-A66E-4626-B77F-4F62854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5EF-F523-4E70-9BA8-488B71A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C7D-667B-4C53-A192-9AB561A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424-34E4-424D-BBD7-24E1FBE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E85C-EA93-40A4-A94E-D381C88CB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7486-5970-4F36-849E-BD9B67AE04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51B2-2D66-461F-BAE8-0BF5C07697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99D-75FA-4462-95D7-E1199720E40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219640" y="242100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40338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313440" cy="22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961080" cy="215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003640" y="260280"/>
            <a:ext cx="3600720" cy="9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55640" y="26028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3313080" cy="2244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932360" y="76500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3960720" cy="217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360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3960720" cy="2157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6007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39607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313440" cy="22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961080" cy="2157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960720" cy="2179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003640" y="260280"/>
            <a:ext cx="3600720" cy="928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55640" y="26028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313080" cy="2244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3600360" cy="9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36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313080" cy="2244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960720" cy="2157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219640" y="47628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13080" cy="22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60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87640" y="4508640"/>
            <a:ext cx="4033800" cy="127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932360" y="33336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3600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376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35280" y="2421000"/>
            <a:ext cx="2376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2376360" cy="141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219640" y="242100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03640" y="414972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168720" cy="194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1376280" cy="1339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900000" y="836640"/>
            <a:ext cx="38894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87640" y="620640"/>
            <a:ext cx="1376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033800" cy="127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1376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02T08:24:42Z</dcterms:modified>
  <cp:revision>34</cp:revision>
  <dc:subject/>
  <dc:title>Slide 1</dc:title>
</cp:coreProperties>
</file>