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399-782C-42AE-8E6E-571C66A2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F08-916D-4EB1-B740-6BD1A9B0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3E7-0593-40D8-B9C4-1A95E9C9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7FC-C7C5-49E2-AC84-07259B12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D7F3-D851-4E2E-B8DE-77A7AD5E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4856-DE74-437D-BEC0-18680512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3C27-96CF-4D77-AC9F-676550FF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7ED9-4C95-4FCD-B85D-6AC93C9C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EDD2-DB32-4739-BC37-47DEF861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81D6-43EA-4423-9CE7-6769EC41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C097-0AB0-45B8-A312-B8E9AF55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50A-D861-4786-B969-1D07915E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B54B-57BD-4A25-9394-08E61231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8F86-7ABA-45BB-AC9B-4BD95251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2705-E32F-483A-9C39-02598620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4649-D4B0-46CD-90CB-F47C979E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7973-5E12-4940-9A23-E31759B5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D62D8-288D-4370-AF52-CCCCF283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290D-CFD8-4F75-8BE7-59495E6B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27F4-7E31-45B1-9CD6-62369813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0057-02E4-4185-8C41-6E887CEB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A240-0580-40D6-9754-951B5FF2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DDD-0D13-4087-A6B2-41C924A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137A0-6A20-4B82-BF95-5E2F1B7F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38D65-C30F-4279-B8CA-DB0D4F4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F680-217E-4A86-B6C0-CAB9E1B1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B287D-29FC-40FD-BA4C-81902265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EA63-AAAA-4BF6-A287-6791A4EB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EB03-EB73-4163-A816-520A8FDE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8B03-D6FA-4BF9-9B16-437664AB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15AE4-97D5-43DC-BA7A-815DBAE2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131D-EAEF-4794-9140-EBA6F5F6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5B6B9-990F-4B27-BF0C-42A37F58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F01-E59A-48DC-8553-C876C92B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E6CB-08DA-4F8D-B6F4-2E55D401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C9BBC-A6A6-4FCC-8DD3-C956C49A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9C03-0ECC-437E-88A9-9353D246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2E225-36DD-4771-89D0-7F39B67D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68FC6-455A-4DB4-9DA5-1005693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493F-EEE7-4537-8B3C-2908D80A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4376F-2CB0-40B1-B949-350EAC84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BE493-F69A-40D9-802C-D87B01D0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79305-EEC7-4802-9AF6-4CCE43B1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005-D9A2-428F-AF57-544FA2E6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4BE-9B45-471F-AF3B-F50C449F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595-C1D5-4E35-B4EE-FD1F79F9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C17-925A-4580-B6A9-922B2AB1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13D-6987-4A08-83AD-1F07BB7C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CDDC-BED8-47A4-BB2F-EB08519465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3FC0-1F7E-4757-A75D-0FF52EDAA9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4247-26B5-4F54-9FDE-45E12F9827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2150-9092-4444-A738-7B4ECB00220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lrg_jupiter"/>
          <p:cNvPicPr/>
          <p:nvPr/>
        </p:nvPicPr>
        <p:blipFill>
          <a:blip r:embed="rId1"/>
          <a:srcRect l="8026" t="7937" r="3973" b="8026"/>
          <a:stretch/>
        </p:blipFill>
        <p:spPr>
          <a:xfrm>
            <a:off x="3419640" y="2637000"/>
            <a:ext cx="1441440" cy="1376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saturn_false"/>
          <p:cNvPicPr/>
          <p:nvPr/>
        </p:nvPicPr>
        <p:blipFill>
          <a:blip r:embed="rId2"/>
          <a:srcRect l="3271" t="8251" r="0" b="9162"/>
          <a:stretch/>
        </p:blipFill>
        <p:spPr>
          <a:xfrm>
            <a:off x="4500720" y="3933720"/>
            <a:ext cx="1152360" cy="779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MC900434736[1]"/>
          <p:cNvPicPr/>
          <p:nvPr/>
        </p:nvPicPr>
        <p:blipFill>
          <a:blip r:embed="rId3"/>
          <a:stretch/>
        </p:blipFill>
        <p:spPr>
          <a:xfrm>
            <a:off x="-2232000" y="-1900080"/>
            <a:ext cx="4464000" cy="4464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 rot="17938200">
            <a:off x="-393840" y="4021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Solei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6" descr="MC900037211[1]"/>
          <p:cNvPicPr/>
          <p:nvPr/>
        </p:nvPicPr>
        <p:blipFill>
          <a:blip r:embed="rId4"/>
          <a:stretch/>
        </p:blipFill>
        <p:spPr>
          <a:xfrm>
            <a:off x="1908000" y="909720"/>
            <a:ext cx="247680" cy="245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2124000" y="76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erc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8" descr="Venus-Transit-First-images-and-video-1-640x640"/>
          <p:cNvPicPr/>
          <p:nvPr/>
        </p:nvPicPr>
        <p:blipFill>
          <a:blip r:embed="rId5"/>
          <a:srcRect l="2368" t="7813" r="3154" b="5935"/>
          <a:stretch/>
        </p:blipFill>
        <p:spPr>
          <a:xfrm>
            <a:off x="2413080" y="1341360"/>
            <a:ext cx="287280" cy="2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2700360" y="1197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én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10" descr="MC900432569[1]"/>
          <p:cNvPicPr/>
          <p:nvPr/>
        </p:nvPicPr>
        <p:blipFill>
          <a:blip r:embed="rId6"/>
          <a:stretch/>
        </p:blipFill>
        <p:spPr>
          <a:xfrm>
            <a:off x="2627280" y="1771560"/>
            <a:ext cx="338040" cy="338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1"/>
          <p:cNvSpPr/>
          <p:nvPr/>
        </p:nvSpPr>
        <p:spPr>
          <a:xfrm>
            <a:off x="2987640" y="1700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 Ter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6" name="Picture 12" descr="vote-mars-landings-10-02"/>
          <p:cNvPicPr/>
          <p:nvPr/>
        </p:nvPicPr>
        <p:blipFill>
          <a:blip r:embed="rId7"/>
          <a:stretch/>
        </p:blipFill>
        <p:spPr>
          <a:xfrm>
            <a:off x="3059280" y="2274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3419640" y="220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4716360" y="2997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upit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58000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atur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16" descr="planet%20uranus"/>
          <p:cNvPicPr/>
          <p:nvPr/>
        </p:nvPicPr>
        <p:blipFill>
          <a:blip r:embed="rId8"/>
          <a:stretch/>
        </p:blipFill>
        <p:spPr>
          <a:xfrm>
            <a:off x="5508720" y="4797360"/>
            <a:ext cx="755640" cy="566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7"/>
          <p:cNvSpPr/>
          <p:nvPr/>
        </p:nvSpPr>
        <p:spPr>
          <a:xfrm>
            <a:off x="6264360" y="479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ranu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Picture 18" descr="opo9834b"/>
          <p:cNvPicPr/>
          <p:nvPr/>
        </p:nvPicPr>
        <p:blipFill>
          <a:blip r:embed="rId9"/>
          <a:srcRect l="15517" t="14716" r="14631" b="13320"/>
          <a:stretch/>
        </p:blipFill>
        <p:spPr>
          <a:xfrm>
            <a:off x="6300720" y="5516640"/>
            <a:ext cx="419040" cy="431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9"/>
          <p:cNvSpPr/>
          <p:nvPr/>
        </p:nvSpPr>
        <p:spPr>
          <a:xfrm>
            <a:off x="6732720" y="544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ptu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4" name="Picture 20" descr="Pluto-The-Planet"/>
          <p:cNvPicPr/>
          <p:nvPr/>
        </p:nvPicPr>
        <p:blipFill>
          <a:blip r:embed="rId10"/>
          <a:stretch/>
        </p:blipFill>
        <p:spPr>
          <a:xfrm>
            <a:off x="7093080" y="6165720"/>
            <a:ext cx="309600" cy="231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1"/>
          <p:cNvSpPr/>
          <p:nvPr/>
        </p:nvSpPr>
        <p:spPr>
          <a:xfrm>
            <a:off x="7451640" y="6021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lut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2771640" y="18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près du Solei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3276720" y="6093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loin du Solei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6156360" y="1268280"/>
            <a:ext cx="298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très (ver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Comic Sans MS"/>
              </a:rPr>
              <a:t>assez (quit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5-28T11:26:25Z</dcterms:modified>
  <cp:revision>80</cp:revision>
  <dc:subject/>
  <dc:title>Slide 1</dc:title>
</cp:coreProperties>
</file>