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846-F2DC-4206-B125-322F4894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0C8-0A15-44D3-A28A-7566572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94C-DD5D-4377-A5A5-801DDF99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0A9-4E3E-4A6E-A661-F579627C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E175-A9D5-455E-83BE-19E53DB9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55F0-0C69-4C06-A15F-2BA3FF0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8C4-D093-42B7-99C6-717AA5BD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2721-1AD4-441F-84EA-378B02D2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521A-0C4B-4A1D-ACD0-E8590919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8A75-42A5-4CDA-B73F-CCD35610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4751-5770-46D3-ADD1-33F550F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249-8DD7-4469-B07B-E76F72D6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A5D9-8CF2-4FF4-A797-03BACA2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88CF-EF2E-4053-918B-158B3D98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FD31-8AC4-4590-93D8-7C650D3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4761-23F7-48EE-9BF1-08CE2DE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E3F0-200A-4B3F-94AA-E1EEBAB0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A716-A41C-4FED-880E-D987F375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D4EF-B25E-4C0D-BDD7-FDC26CBD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0F18-A613-452F-83C9-B125F35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4731-6514-4A8E-A872-1181B06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4E2C-0C43-4EF9-B0D6-4FB5730D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821-C4A5-4FBB-9447-1ECF975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3DF7-4C0C-4F7B-83CA-71419D4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DC92-3289-4F43-94A1-0DB3871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C212-FDF9-443C-B004-9DEDB53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361E-68BF-4FEA-8ABB-9806777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6DB8-6627-44F2-B0D2-E3D375A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3622-5BA3-4038-A569-D7CC7D61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AF9D-FA62-4AC0-9C82-25CCF517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9AC65-4AC7-48FB-B439-C8413C3E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25D5-71EE-4D4D-8038-EAD98458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4AD5-8457-4713-831A-B7CC237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4E1-0DEA-42A3-BDD1-A4D4590C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9BAC-A917-4C6F-8E1A-DF452DE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93EE-41F3-4463-8D13-493299A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CAA4-EB1A-4D4A-AEBA-35C63176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512E-A3A5-4E8E-9840-A1D4F57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F278-B639-4915-9543-38209AA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6D92-3DBE-4BE6-A5AE-A169E55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700A-41A7-4DA9-85A4-9E35649D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53EB-2D04-4447-B52A-734BCC96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90C7-C53A-46B4-8FBC-B2217FDD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1BA-F991-4B81-9557-CA5BED8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534-846E-4A4D-8CD9-4AD06280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098-5074-4FAD-8D51-B366EEF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A1D-F4AF-4B71-B55C-ED08641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87D-DF1F-42CC-B6E1-F864A08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B90-DFEB-4E25-8A77-4FE225D25A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39D4-3AF6-4BFB-BBB3-313712D695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F9C-A288-41B8-ACD8-9ACE0032AF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8ECA-50F1-459E-8E31-5F7FC747DC0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lrg_jupiter"/>
          <p:cNvPicPr/>
          <p:nvPr/>
        </p:nvPicPr>
        <p:blipFill>
          <a:blip r:embed="rId1"/>
          <a:srcRect l="8026" t="7937" r="3973" b="8026"/>
          <a:stretch/>
        </p:blipFill>
        <p:spPr>
          <a:xfrm>
            <a:off x="3419640" y="2637000"/>
            <a:ext cx="1441440" cy="1376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saturn_false"/>
          <p:cNvPicPr/>
          <p:nvPr/>
        </p:nvPicPr>
        <p:blipFill>
          <a:blip r:embed="rId2"/>
          <a:srcRect l="3271" t="8251" r="0" b="9162"/>
          <a:stretch/>
        </p:blipFill>
        <p:spPr>
          <a:xfrm>
            <a:off x="4500720" y="393372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MC900434736[1]"/>
          <p:cNvPicPr/>
          <p:nvPr/>
        </p:nvPicPr>
        <p:blipFill>
          <a:blip r:embed="rId3"/>
          <a:stretch/>
        </p:blipFill>
        <p:spPr>
          <a:xfrm>
            <a:off x="-2232000" y="-19000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 rot="17938200">
            <a:off x="-393840" y="402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Sole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6" descr="MC900037211[1]"/>
          <p:cNvPicPr/>
          <p:nvPr/>
        </p:nvPicPr>
        <p:blipFill>
          <a:blip r:embed="rId4"/>
          <a:stretch/>
        </p:blipFill>
        <p:spPr>
          <a:xfrm>
            <a:off x="1908000" y="909720"/>
            <a:ext cx="247680" cy="245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2124000" y="76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rc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8" descr="Venus-Transit-First-images-and-video-1-640x640"/>
          <p:cNvPicPr/>
          <p:nvPr/>
        </p:nvPicPr>
        <p:blipFill>
          <a:blip r:embed="rId5"/>
          <a:srcRect l="2368" t="7813" r="3154" b="5935"/>
          <a:stretch/>
        </p:blipFill>
        <p:spPr>
          <a:xfrm>
            <a:off x="2413080" y="1341360"/>
            <a:ext cx="287280" cy="2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2700360" y="119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én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10" descr="MC900432569[1]"/>
          <p:cNvPicPr/>
          <p:nvPr/>
        </p:nvPicPr>
        <p:blipFill>
          <a:blip r:embed="rId6"/>
          <a:stretch/>
        </p:blipFill>
        <p:spPr>
          <a:xfrm>
            <a:off x="2627280" y="177156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1"/>
          <p:cNvSpPr/>
          <p:nvPr/>
        </p:nvSpPr>
        <p:spPr>
          <a:xfrm>
            <a:off x="2987640" y="17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Ter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Picture 12" descr="vote-mars-landings-10-02"/>
          <p:cNvPicPr/>
          <p:nvPr/>
        </p:nvPicPr>
        <p:blipFill>
          <a:blip r:embed="rId7"/>
          <a:stretch/>
        </p:blipFill>
        <p:spPr>
          <a:xfrm>
            <a:off x="3059280" y="2274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3419640" y="220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716360" y="2997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pi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58000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atur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16" descr="planet%20uranus"/>
          <p:cNvPicPr/>
          <p:nvPr/>
        </p:nvPicPr>
        <p:blipFill>
          <a:blip r:embed="rId8"/>
          <a:stretch/>
        </p:blipFill>
        <p:spPr>
          <a:xfrm>
            <a:off x="5508720" y="4797360"/>
            <a:ext cx="755640" cy="566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6264360" y="479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ran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18" descr="opo9834b"/>
          <p:cNvPicPr/>
          <p:nvPr/>
        </p:nvPicPr>
        <p:blipFill>
          <a:blip r:embed="rId9"/>
          <a:srcRect l="15517" t="14716" r="14631" b="13320"/>
          <a:stretch/>
        </p:blipFill>
        <p:spPr>
          <a:xfrm>
            <a:off x="6300720" y="5516640"/>
            <a:ext cx="419040" cy="431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9"/>
          <p:cNvSpPr/>
          <p:nvPr/>
        </p:nvSpPr>
        <p:spPr>
          <a:xfrm>
            <a:off x="673272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ptu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20" descr="Pluto-The-Planet"/>
          <p:cNvPicPr/>
          <p:nvPr/>
        </p:nvPicPr>
        <p:blipFill>
          <a:blip r:embed="rId10"/>
          <a:stretch/>
        </p:blipFill>
        <p:spPr>
          <a:xfrm>
            <a:off x="7093080" y="6165720"/>
            <a:ext cx="309600" cy="231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1"/>
          <p:cNvSpPr/>
          <p:nvPr/>
        </p:nvSpPr>
        <p:spPr>
          <a:xfrm>
            <a:off x="7451640" y="6021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ut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277164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près du Sole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3276720" y="609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loin du Sole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6156360" y="1268280"/>
            <a:ext cx="29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très (ver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assez (quit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6:25Z</dcterms:modified>
  <cp:revision>80</cp:revision>
  <dc:subject/>
  <dc:title>Slide 1</dc:title>
</cp:coreProperties>
</file>