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4BF-A2DC-4FCF-80FE-EA3FF9C5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E52-F46A-4229-AA8A-F441BD6F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AAF-A556-4746-8DE8-82A29FD6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56B-CE21-4EC3-BC6C-AAF96957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F15D-648E-48D0-A03A-607CF122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BAF3-5860-4FCF-96D3-228C474C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1481-E598-4D81-B668-30950B32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8A38-9938-439C-9DB0-CDA16F4A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8309-8116-4F81-A394-993A7F00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3501-1F5B-4399-A86E-56734141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FAC5-57F2-429A-8F31-32E15A98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05B-1B4D-49BF-9A15-A9657B0A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9BD1-CA36-4D09-A4B2-B43DA91D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245B-A454-456A-9080-4316CC81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61C0-3CDA-4F2A-B984-52CD6C3C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8D67-5DFD-4FEA-B131-83D6EB91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F99E-AC4B-483D-BBBA-B649E4B6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C928C-2A2A-4C61-A4C1-8575F36A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A3A3-3806-4DAB-B92F-C36E6BFD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A4B0-95C7-4803-B5A6-AB8F988A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EA9AA-9CD4-45DC-BCB2-DAD8B700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8D041-8851-4CAB-9550-5EFA0EC3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AA0-1A4C-474D-A3C9-4B574D63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9784E-E4A5-4BE6-BD9F-4B9EF78E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C333A-A0A3-45D3-8AEC-D51B3EA7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277E-3448-4D5B-9798-165C08FF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1E940-D4C1-42A5-9639-2360313C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371C-7CD1-4510-93DB-5E4ED7E9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BEC7-690C-4FB2-BC9A-0EAF76D0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B86D-5B28-4DD4-818C-CD3D774E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6B355-35C9-4E88-A2FF-FF866E09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2EF43-9AB3-49BC-9526-8F798AD1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8E7F-0A32-4FDD-800D-525857A4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AE2-2EDD-4AFB-B59B-280528C1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649D1-B364-45A7-A13B-C6410359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8D333-F805-448D-9ECD-E7B5AB11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4C667-2A64-4FF6-BFA6-5EDDE8C6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6A057-89AA-462A-9A0D-43ABC164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863F4-C896-40CB-8C19-9D7214E6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DDB4D-7380-4752-A9F3-22D853F6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41875-ACDA-4E40-8927-983CA535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313E3-4A6A-4C16-B21B-53F09BC0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8DF52-5B0D-469B-8257-DBB55603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9EF-B668-4607-B1A7-4A20DDDF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A2A-D7B6-4C3B-ABB0-9C716822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4EE-47C5-4951-8214-B5991F0F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F5B-F6BA-4186-839F-ADF90CE6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9B0-0A63-4895-A499-AB6B8D4A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717A-FAF4-4C0D-8E2A-1EA61EA2DD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F930-7056-4B71-9F83-4326C29261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438F-D88E-4044-9B49-03FC2C5FEA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8B81-659E-4A20-B652-096B8504B95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Mercure est une petite planète rapi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Jupiter est une grande planète bleu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Pluton est une petite planète chau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Vénus est une petite planète chau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Neptune est une grande planète bleu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La Terre est une petite planète froi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Uranus est une grande planète lent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Mars est une petite planète roug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Saturne est une grande planète vert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5-28T11:24:00Z</dcterms:modified>
  <cp:revision>79</cp:revision>
  <dc:subject/>
  <dc:title>Slide 1</dc:title>
</cp:coreProperties>
</file>