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0388-5B3D-4228-9C20-F57F1163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AA01-CEA3-4CEE-90AB-E6BD55E3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D1E8-B4B7-474B-83F1-84C5D44B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7AF5-163C-41DA-B81D-967120B4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C57A-73FF-4B21-AC54-99404584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0969-E753-402B-B1EB-941BE65B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5BB7-FF48-4C09-AF68-C9E14503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C7DA-5D1E-4E6E-BCC3-84794122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AE85-2DCC-4C8C-99DB-8FF98569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BC34-2E77-4CA0-B306-1527D832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376F-0ECA-42FA-8AE0-FBC5DC10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F3CE-F69D-4994-B619-C49051D2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07F1-DFAD-447B-907D-B494312D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B09A-81C7-4A5A-828D-A90BA9E0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D4A4-EEEC-4CF1-AD4C-2BECEC82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C7AA-BAF2-4397-9DF0-8963312F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1839-AA15-4F25-8AEF-B8DFDA1F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9E12A-AFBA-440F-9DD9-BDCB4CCF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F70DA-0F2C-4129-B3F6-2429ED37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C6EF4-0E6E-4540-B455-7A93160D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9B42C-7E0F-44CF-AA44-E1D2B351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A05C2-EBE0-4163-8C8B-80F4D8C3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7F4D-4797-4D66-8DA6-53E50270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54406-C561-49DE-8BD3-EB7558D2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73CDE-10B6-4B2A-A535-3DDF5F2D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6375D-81BF-406A-B8A3-3BF1AEA6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24C06-37D7-4570-8A03-C8379943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D09EE-45F3-4A6C-95F6-A6283B54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089F9-C27F-437D-B1C3-D9EDF1F5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616A9-808C-4A23-BB24-5058EB38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F3E93-730A-4EF5-8016-161CD4D4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8D3FE-A8A8-4468-94CC-AC1D7CF4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6B76D-86D0-46BF-B346-CD487836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25D-23D9-437C-B395-1378CC87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38026-C40B-417F-8BAF-C2459743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FED2E-50A8-450A-9A3D-0B985B42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FADE1-2EFA-4282-90DC-C2517BC7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4A90A-A8F3-4082-A351-25F1258A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5A71A-E7FE-4E0A-873D-3F979C2C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9A2AA-260D-4D62-8A27-BDC17342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7CA18-3766-42D3-B337-40AB1A4D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26C52-E859-4CA1-AC98-8E9849E6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2AE8E-5CBF-4979-B0CF-F01F6E33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3E11-5B1A-4BC2-8240-1DE957B3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121B-B262-4E67-8E6C-EE78D43D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CEC-7F47-4802-81A6-0BF6F18A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4AB-E54D-4BA5-80B1-2496F832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B0BB-D11C-4F4D-B763-E4509DB7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4CED-81B4-4086-AD10-1B4679B6E1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5B02-1197-46A9-B6A2-E68A1EF25A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FC5A-8EF2-423A-A59D-75B3AC33EB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5843-0F0F-4F6F-BEE0-C152EAC874D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5329080" cy="49752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0" y="476280"/>
            <a:ext cx="9144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Mercure est une petite planète rapid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79280" y="1700280"/>
            <a:ext cx="2232000" cy="1922400"/>
          </a:xfrm>
          <a:prstGeom prst="rect">
            <a:avLst/>
          </a:prstGeom>
          <a:solidFill>
            <a:srgbClr val="fff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rai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u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aux 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179280" y="3933720"/>
            <a:ext cx="2952720" cy="2232000"/>
          </a:xfrm>
          <a:prstGeom prst="irregularSeal1">
            <a:avLst/>
          </a:prstGeom>
          <a:solidFill>
            <a:srgbClr val="f8f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rai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61657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5329080" cy="49752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0" y="476280"/>
            <a:ext cx="9144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Jupiter est une grande planète bleu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79280" y="1700280"/>
            <a:ext cx="2232000" cy="1922400"/>
          </a:xfrm>
          <a:prstGeom prst="rect">
            <a:avLst/>
          </a:prstGeom>
          <a:solidFill>
            <a:srgbClr val="fff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rai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u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aux 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179280" y="3933720"/>
            <a:ext cx="2952720" cy="2232000"/>
          </a:xfrm>
          <a:prstGeom prst="irregularSeal1">
            <a:avLst/>
          </a:prstGeom>
          <a:solidFill>
            <a:srgbClr val="f8f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u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0" y="61657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5329080" cy="49752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0" y="476280"/>
            <a:ext cx="9144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Pluton est une petite planète chaud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79280" y="1700280"/>
            <a:ext cx="2232000" cy="1922400"/>
          </a:xfrm>
          <a:prstGeom prst="rect">
            <a:avLst/>
          </a:prstGeom>
          <a:solidFill>
            <a:srgbClr val="fff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rai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u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aux 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179280" y="3933720"/>
            <a:ext cx="2952720" cy="2232000"/>
          </a:xfrm>
          <a:prstGeom prst="irregularSeal1">
            <a:avLst/>
          </a:prstGeom>
          <a:solidFill>
            <a:srgbClr val="f8f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u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0" y="61657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5329080" cy="49752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0" y="476280"/>
            <a:ext cx="9144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Vénus est une petite planète chaud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79280" y="1700280"/>
            <a:ext cx="2232000" cy="1922400"/>
          </a:xfrm>
          <a:prstGeom prst="rect">
            <a:avLst/>
          </a:prstGeom>
          <a:solidFill>
            <a:srgbClr val="fff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rai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u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aux 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179280" y="3933720"/>
            <a:ext cx="2952720" cy="2232000"/>
          </a:xfrm>
          <a:prstGeom prst="irregularSeal1">
            <a:avLst/>
          </a:prstGeom>
          <a:solidFill>
            <a:srgbClr val="f8f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rai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0" y="61657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5329080" cy="49752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0" y="476280"/>
            <a:ext cx="9144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Neptune est une grande planète bleu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79280" y="1700280"/>
            <a:ext cx="2232000" cy="1922400"/>
          </a:xfrm>
          <a:prstGeom prst="rect">
            <a:avLst/>
          </a:prstGeom>
          <a:solidFill>
            <a:srgbClr val="fff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rai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u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aux 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79280" y="3933720"/>
            <a:ext cx="2952720" cy="2232000"/>
          </a:xfrm>
          <a:prstGeom prst="irregularSeal1">
            <a:avLst/>
          </a:prstGeom>
          <a:solidFill>
            <a:srgbClr val="f8f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rai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0" y="61657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5329080" cy="49752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0" y="476280"/>
            <a:ext cx="9144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La Terre est une petite planète froid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79280" y="1700280"/>
            <a:ext cx="2232000" cy="1922400"/>
          </a:xfrm>
          <a:prstGeom prst="rect">
            <a:avLst/>
          </a:prstGeom>
          <a:solidFill>
            <a:srgbClr val="fff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rai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u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aux 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179280" y="3933720"/>
            <a:ext cx="2952720" cy="2232000"/>
          </a:xfrm>
          <a:prstGeom prst="irregularSeal1">
            <a:avLst/>
          </a:prstGeom>
          <a:solidFill>
            <a:srgbClr val="f8f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u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0" y="61657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5329080" cy="49752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0" y="476280"/>
            <a:ext cx="9144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Uranus est une grande planète lent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79280" y="1700280"/>
            <a:ext cx="2232000" cy="1922400"/>
          </a:xfrm>
          <a:prstGeom prst="rect">
            <a:avLst/>
          </a:prstGeom>
          <a:solidFill>
            <a:srgbClr val="fff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rai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u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aux 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179280" y="3933720"/>
            <a:ext cx="2952720" cy="2232000"/>
          </a:xfrm>
          <a:prstGeom prst="irregularSeal1">
            <a:avLst/>
          </a:prstGeom>
          <a:solidFill>
            <a:srgbClr val="f8f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rai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0" y="61657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5329080" cy="49752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0" y="476280"/>
            <a:ext cx="9144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Mars est une petite planète roug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79280" y="1700280"/>
            <a:ext cx="2232000" cy="1922400"/>
          </a:xfrm>
          <a:prstGeom prst="rect">
            <a:avLst/>
          </a:prstGeom>
          <a:solidFill>
            <a:srgbClr val="fff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rai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u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aux 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179280" y="3933720"/>
            <a:ext cx="2952720" cy="2232000"/>
          </a:xfrm>
          <a:prstGeom prst="irregularSeal1">
            <a:avLst/>
          </a:prstGeom>
          <a:solidFill>
            <a:srgbClr val="f8f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rai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0" y="61657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5329080" cy="49752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0" y="476280"/>
            <a:ext cx="9144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Saturne est une grande planète vert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79280" y="1700280"/>
            <a:ext cx="2232000" cy="1922400"/>
          </a:xfrm>
          <a:prstGeom prst="rect">
            <a:avLst/>
          </a:prstGeom>
          <a:solidFill>
            <a:srgbClr val="fff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rai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u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aux 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179280" y="3933720"/>
            <a:ext cx="2952720" cy="2232000"/>
          </a:xfrm>
          <a:prstGeom prst="irregularSeal1">
            <a:avLst/>
          </a:prstGeom>
          <a:solidFill>
            <a:srgbClr val="f8f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u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0" y="61657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3-05-28T11:24:00Z</dcterms:modified>
  <cp:revision>79</cp:revision>
  <dc:subject/>
  <dc:title>Slide 1</dc:title>
</cp:coreProperties>
</file>