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D75-48C5-45CE-98D6-378BF6D8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BEE-2326-4FB6-B35F-92FF73B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4DD-A540-4AB5-9D11-AF0036A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0D8-80AF-4D13-A33C-18AB59A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252-E7FC-404F-A293-2FBBFF58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3A3-C49F-4CD5-9B27-3381054B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B399-3955-4DD2-93D5-B925862C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1C6-5E08-40FB-88B1-2E50606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12CF-78CC-4C89-B3A9-3962230B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FC4F-003F-46A4-B290-3DDFA16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537D-9328-4ED4-BE97-DD20B6B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CAF-2687-41B6-8A88-9828F8FB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83A-AA62-4B1D-945D-F3017EB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AC7C-C692-4ACE-9EDE-9157DDA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0ECB-BBA7-4386-A726-27A80AF3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B96-99AF-41A3-B5B1-A8CD4E7C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CC91-279C-4723-9054-1F9CE782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7267-A2D3-4D85-A145-3516FAE3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3B6A-165C-496E-820E-290BF9C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7967-D649-4A58-B5F2-26021F2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FE4C-5537-448A-93E9-A9F9AEC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BF2C-DF2A-4D70-A9D1-160E768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889-B58D-4219-9BB2-36092E2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7209-4ABD-48F2-84C7-0F916F6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756D-895E-4A75-AD71-0472DA9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EB35-F8A7-4290-B7D4-3E0D5A4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425B-657F-4878-B0E8-27345EB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B2DD-B156-4744-A668-C001DEB8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21FE-7F80-45CC-A8E9-6E15FC0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BEDD-93E0-4CF5-9B13-C9F01EB6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12D8-8F59-40B9-9C2A-EA7D6A95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0A69-0A72-4B5E-B2F9-54462E8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DD33-DC0D-42BC-BF28-8986D5D6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CD3-87F3-46E8-9121-E6168B4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2BC7-10F9-4BB1-891D-8958087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8763-B22A-4AE0-B831-A8B3152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890A-187A-46F6-8FBB-303249D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06B4-7546-44BD-98E4-CF01728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E1AF-A637-456D-B570-C9D4CE9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C941-C9D9-468C-BC50-468CC8E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CF81-019D-46F1-B887-42113B44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6DEA-3900-445D-8DFD-7F7A79F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D895-F7B8-4652-A825-5D920F59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FAA-31A6-4359-B82F-9FDFB29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C08-C0D8-4487-A6ED-772B03D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453-7EA2-4451-A32A-E265461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BC7-82AB-45D4-B0D0-4B4E2D7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8A-114D-4A1E-B4E0-CDDB92F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7A4-9D58-4051-ABD4-3F32DD38C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633-7974-4078-9B00-E9802EA6D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A3E-ECC3-4816-A808-178C22510A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F927-73AF-4B76-92EA-EF18725D4A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333360"/>
          <a:ext cx="9144000" cy="633564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u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nor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uscu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api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0:13Z</dcterms:modified>
  <cp:revision>65</cp:revision>
  <dc:subject/>
  <dc:title>Slide 1</dc:title>
</cp:coreProperties>
</file>