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7CC7-0358-44B0-B7D0-64950AD0B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D24A-8E09-4DDB-9690-D4B5FAF3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CA02-E1C0-4E36-A93B-E97492BC6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18DE-7F18-495A-9D43-500DF68B8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CDDD-F187-401E-A4A4-FC378A2D1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82B5-C14C-4F44-84CE-633B3B88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6978-6338-4615-8C6B-F84F8A61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C9DAA-199F-4799-9265-F22F52A5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07F0-C033-4407-A7C3-CEBFD8AF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F311-52DE-4AFA-8A54-9D16731C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2663-9E16-4DAF-AE37-0ADD6968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3A7E-245D-401D-A949-E274EACE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723A-E7E6-4233-9A82-88F9454A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5F4C-9BCA-414E-8EC2-62B378E0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8A85-9F58-4566-A37D-6BD4AE5A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70EB-0D83-4AE4-A86E-03D351368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814D-02C5-4F12-998A-C1BF24D69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72206-F542-4507-A374-2757F5A65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F9A26-B484-428C-AA9E-DC9CE3EE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E1110-5A07-4420-AA20-8E5F3A41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8C1C4-BD5A-4270-903E-F4D5C194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BB2BD-CF16-4573-9BFD-1BDD1F8F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CF84-6862-487C-A347-0AF12456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8003B-7E59-4830-B1F8-6A6DED9A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129C4-43F7-4486-B13F-4B539145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35AD6-D1ED-4CAE-A982-0B91436B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2909D-4454-4DB7-93AB-4CB31EF5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950A6-822D-4288-AF03-A8CAAC12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EC494-2CDE-4919-8155-756225631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36BE6-EC94-45F4-A3E8-392820EEC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10704-D6E3-4167-9638-30C7A9186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823B8-6F38-4835-90E4-EB246AC4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4675C-66B8-4834-85B4-56BB1AC7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1578-0B9E-4E37-9DE4-175887CA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2D465-8D97-4821-A06A-36BA497B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7C0E3-F6E1-4056-9D1A-E13F554F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D14AC-4907-445F-970F-CFF3E708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58001-06F9-4890-8FB6-1B8E5368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91CEE-BB6B-4FB1-814C-E31D78FE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43C12-9F9F-4E06-A407-132738AC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4CB6B-0365-4A68-A49F-8BDBC9E9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5B126-60F0-4765-9EF7-238A8A67F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B983D-C740-45F6-9848-B0314A1A6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6148-5220-49F6-BD65-719C2FA2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948E-1DE3-44F7-A560-0C255E21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8B56-D995-4C2F-8C01-C6A0613E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FABC-6847-4383-8A40-A8754E3C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7B0E-3EF2-4BD7-9963-0D124258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A2F4-2ABD-43FC-B88E-B3CFD0DF0D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B909-29E3-40AB-9ACA-8382249C08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94C1-5438-4AEA-A8E0-C68EB1F18FD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634D-DA49-466E-A21A-B68AFAC99A2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0" y="333360"/>
          <a:ext cx="9144000" cy="6335640"/>
        </p:xfrm>
        <a:graphic>
          <a:graphicData uri="http://schemas.openxmlformats.org/drawingml/2006/table">
            <a:tbl>
              <a:tblPr/>
              <a:tblGrid>
                <a:gridCol w="2411280"/>
                <a:gridCol w="1081080"/>
                <a:gridCol w="2880000"/>
                <a:gridCol w="2771640"/>
              </a:tblGrid>
              <a:tr h="633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Jupite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rcur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eptun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luton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Uranu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Vénu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s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une planèt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haud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énorm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roid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ent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inuscul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apid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3-05-28T11:20:13Z</dcterms:modified>
  <cp:revision>65</cp:revision>
  <dc:subject/>
  <dc:title>Slide 1</dc:title>
</cp:coreProperties>
</file>