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4CDC-CD35-483D-B463-CA821C2A3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CDF4-33B4-4003-9D23-B56FDA09F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35FD-4F88-41CA-AC94-1933B5BF2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94D9-615E-42E6-98C6-624116EB2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F88AD-3E78-499A-8590-4A00752CE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5174D-F908-4D78-A0F1-774C20EF5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39B26-2ACF-40A2-891C-AE4B5C347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6568B-CA67-4B18-94C3-030F05C5D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DDD22-4C0C-46F3-9649-43B03EE90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4F26A-7CD3-4DDB-BD51-CB2403F68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4FD98-A64D-41B1-BF8E-CAAF3BCFC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CB7F-E62F-4191-B368-EED93E1A2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3B0E1-578B-4119-B79E-5A80AAE86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E2DA6-3D9C-44F6-8B54-08000E56B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FF6DD-F7F9-4ECD-8A3B-098845290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F1F88-814F-49D5-9AEE-EB438ACF2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84677-C306-499E-93A5-410668E67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B9B880-B2DF-4437-8569-F0E67463C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FE593A-E4DB-4B57-AB60-8C9BD52DE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12727B-3F57-4A1E-9410-6ADCFC059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9D1849-F725-4761-AA1B-59B7345DA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8957BD-DEB3-41BA-BF6A-B2937F2CD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CEF5-121B-481E-AAD1-FDA339C18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81C5E0-138F-41D8-8F56-CF49C7D00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EBC43C-C897-48A1-A324-87B7207EE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FE736B-2FB3-4A07-B800-8EBD16494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D7F437-F5E4-4FE3-A9F0-896F3EBAD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6EAFD9-58ED-4171-9F72-DE6018F8E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629E37-43C1-4ABE-AE0F-CD8BD10DF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847718-3F3C-422E-A903-FB37E2661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AE6946-E335-4F28-97F5-B044FFAE3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409452-B6EB-4ABC-BDAF-1AFFC6213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5FAAFF-AC88-40E1-9FD3-7DABD735A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EE68-43D9-4DDE-8622-8FEE7E633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7ECEDC-E26E-4C81-BBC0-41BD02F8C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D8FD4A-FDDD-4B2E-BCFA-7FA0BF39B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F2DEFC-6834-4974-85F9-713C0EBF4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E9907F-DEED-472A-A423-4DCDCFD00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3FA4A7-44A8-4E4C-85A7-388945C98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9B0265-FE28-4785-806C-5D8542959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2C8B89-DED6-41F6-9C4A-8F5A100A6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0C43D2-BB8D-45A4-9959-BD0281D44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1AC441-39CA-4525-9A8D-88C722ECD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4E3E-BB99-4557-9EC9-74B22F4CE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0967-8C91-4BA0-8F15-AE2A91766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EFFC-97D1-4F47-9CA8-DA6B38419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233C-7C4F-40D4-ADE6-515B0BDD8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8689-FB86-438C-B612-DE1F8F1D9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B14CD-1A4B-4617-B698-0046FF3F434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CAA5D-F8EC-4B5C-A134-8EAC9151CE2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7D515-035C-408B-A4F2-CA95291C75EA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400" y="2130120"/>
            <a:ext cx="7313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568DA-3FB7-4160-9828-77141EB10229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5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2411280"/>
                <a:gridCol w="1081080"/>
                <a:gridCol w="2880000"/>
                <a:gridCol w="2771640"/>
              </a:tblGrid>
              <a:tr h="74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5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Mercure</a:t>
                      </a:r>
                      <a:br>
                        <a:rPr sz="3500"/>
                      </a:br>
                      <a:r>
                        <a:rPr b="0" lang="en-GB" sz="35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Vénus</a:t>
                      </a:r>
                      <a:br>
                        <a:rPr sz="3500"/>
                      </a:br>
                      <a:r>
                        <a:rPr b="0" lang="en-GB" sz="35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La Terre</a:t>
                      </a:r>
                      <a:br>
                        <a:rPr sz="3500"/>
                      </a:br>
                      <a:r>
                        <a:rPr b="0" lang="en-GB" sz="35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Mars</a:t>
                      </a:r>
                      <a:br>
                        <a:rPr sz="3500"/>
                      </a:br>
                      <a:r>
                        <a:rPr b="0" lang="en-GB" sz="35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Jupiter</a:t>
                      </a:r>
                      <a:br>
                        <a:rPr sz="3500"/>
                      </a:br>
                      <a:r>
                        <a:rPr b="0" lang="en-GB" sz="35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Saturne</a:t>
                      </a:r>
                      <a:br>
                        <a:rPr sz="3500"/>
                      </a:br>
                      <a:r>
                        <a:rPr b="0" lang="en-GB" sz="35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Uranus</a:t>
                      </a:r>
                      <a:br>
                        <a:rPr sz="3500"/>
                      </a:br>
                      <a:r>
                        <a:rPr b="0" lang="en-GB" sz="35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Neptune</a:t>
                      </a:r>
                      <a:br>
                        <a:rPr sz="3500"/>
                      </a:br>
                      <a:r>
                        <a:rPr b="0" lang="en-GB" sz="35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Pluton</a:t>
                      </a:r>
                      <a:endParaRPr b="0" lang="en-US" sz="3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5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est</a:t>
                      </a:r>
                      <a:endParaRPr b="0" lang="en-US" sz="3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5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une planète</a:t>
                      </a:r>
                      <a:endParaRPr b="0" lang="en-US" sz="3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5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énorme</a:t>
                      </a:r>
                      <a:br>
                        <a:rPr sz="3500"/>
                      </a:br>
                      <a:r>
                        <a:rPr b="0" lang="en-GB" sz="35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minuscule</a:t>
                      </a:r>
                      <a:br>
                        <a:rPr sz="3500"/>
                      </a:br>
                      <a:r>
                        <a:rPr b="0" lang="en-GB" sz="35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chaude</a:t>
                      </a:r>
                      <a:endParaRPr b="0" lang="en-US" sz="3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5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froide</a:t>
                      </a:r>
                      <a:br>
                        <a:rPr sz="3500"/>
                      </a:br>
                      <a:r>
                        <a:rPr b="0" lang="en-GB" sz="35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rapide</a:t>
                      </a:r>
                      <a:endParaRPr b="0" lang="en-US" sz="3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5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lente</a:t>
                      </a:r>
                      <a:endParaRPr b="0" lang="en-US" sz="3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5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bleue</a:t>
                      </a:r>
                      <a:br>
                        <a:rPr sz="3500"/>
                      </a:br>
                      <a:r>
                        <a:rPr b="0" lang="en-GB" sz="35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rouge</a:t>
                      </a:r>
                      <a:br>
                        <a:rPr sz="3500"/>
                      </a:br>
                      <a:r>
                        <a:rPr b="0" lang="en-GB" sz="35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verte</a:t>
                      </a:r>
                      <a:br>
                        <a:rPr sz="3500"/>
                      </a:br>
                      <a:r>
                        <a:rPr b="0" lang="en-GB" sz="35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jaune</a:t>
                      </a:r>
                      <a:br>
                        <a:rPr sz="3500"/>
                      </a:br>
                      <a:r>
                        <a:rPr b="0" lang="en-GB" sz="35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marron</a:t>
                      </a:r>
                      <a:endParaRPr b="0" lang="en-US" sz="3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79280" y="115920"/>
            <a:ext cx="871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3399"/>
                </a:solidFill>
                <a:latin typeface="Comic Sans MS"/>
              </a:rPr>
              <a:t>Mercure</a:t>
            </a: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est</a:t>
            </a: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4400" spc="-1" strike="noStrike">
                <a:solidFill>
                  <a:srgbClr val="66ff33"/>
                </a:solidFill>
                <a:latin typeface="Comic Sans MS"/>
              </a:rPr>
              <a:t>une planète</a:t>
            </a: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 rapide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9280" y="1052640"/>
            <a:ext cx="871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3399"/>
                </a:solidFill>
                <a:latin typeface="Comic Sans MS"/>
              </a:rPr>
              <a:t>Jupiter</a:t>
            </a: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est</a:t>
            </a: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4400" spc="-1" strike="noStrike">
                <a:solidFill>
                  <a:srgbClr val="66ff33"/>
                </a:solidFill>
                <a:latin typeface="Comic Sans MS"/>
              </a:rPr>
              <a:t>une planète</a:t>
            </a: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 énorme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79280" y="1989000"/>
            <a:ext cx="871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3399"/>
                </a:solidFill>
                <a:latin typeface="Comic Sans MS"/>
              </a:rPr>
              <a:t>Vénus</a:t>
            </a: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est</a:t>
            </a: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4400" spc="-1" strike="noStrike">
                <a:solidFill>
                  <a:srgbClr val="66ff33"/>
                </a:solidFill>
                <a:latin typeface="Comic Sans MS"/>
              </a:rPr>
              <a:t>une planète</a:t>
            </a: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 chaude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79280" y="3284640"/>
            <a:ext cx="871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3399"/>
                </a:solidFill>
                <a:latin typeface="Comic Sans MS"/>
              </a:rPr>
              <a:t>Mars</a:t>
            </a: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est</a:t>
            </a: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4400" spc="-1" strike="noStrike">
                <a:solidFill>
                  <a:srgbClr val="66ff33"/>
                </a:solidFill>
                <a:latin typeface="Comic Sans MS"/>
              </a:rPr>
              <a:t>une </a:t>
            </a: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petite</a:t>
            </a:r>
            <a:r>
              <a:rPr b="0" lang="en-GB" sz="4400" spc="-1" strike="noStrike">
                <a:solidFill>
                  <a:srgbClr val="66ff33"/>
                </a:solidFill>
                <a:latin typeface="Comic Sans MS"/>
              </a:rPr>
              <a:t> planète</a:t>
            </a: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79280" y="4221000"/>
            <a:ext cx="871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3399"/>
                </a:solidFill>
                <a:latin typeface="Comic Sans MS"/>
              </a:rPr>
              <a:t>Saturne</a:t>
            </a: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est</a:t>
            </a: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4400" spc="-1" strike="noStrike">
                <a:solidFill>
                  <a:srgbClr val="66ff33"/>
                </a:solidFill>
                <a:latin typeface="Comic Sans MS"/>
              </a:rPr>
              <a:t>une </a:t>
            </a: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grande</a:t>
            </a:r>
            <a:r>
              <a:rPr b="0" lang="en-GB" sz="4400" spc="-1" strike="noStrike">
                <a:solidFill>
                  <a:srgbClr val="66ff33"/>
                </a:solidFill>
                <a:latin typeface="Comic Sans MS"/>
              </a:rPr>
              <a:t> planète</a:t>
            </a: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0T08:57:05Z</dcterms:created>
  <dc:creator>Clare</dc:creator>
  <dc:description/>
  <dc:language>en-US</dc:language>
  <cp:lastModifiedBy>Clare</cp:lastModifiedBy>
  <dcterms:modified xsi:type="dcterms:W3CDTF">2013-05-28T11:22:14Z</dcterms:modified>
  <cp:revision>79</cp:revision>
  <dc:subject/>
  <dc:title>Slide 1</dc:title>
</cp:coreProperties>
</file>