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8DA-285E-431B-8252-80F8314F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637-A956-4E93-AD4D-FE810CD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B8B-95B3-4B1B-BAA9-4C06258B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AFF-44A0-4074-A06B-E3598FE1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3FF4-0A29-49B6-BF29-3143A70D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641F-75AE-4AAC-A5C5-A934A6EC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BD08-8A92-48E6-AFBE-DE01806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3900-850F-4DB9-A12F-D12E86C5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8C8A-7941-422D-B11F-C2A51B35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4C42-5F73-45F3-95E9-EC09E4E5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89BA-8D67-4B47-8AF3-A508EEA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B96-7300-45E2-827B-94770D3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72EC-F58B-41F9-8A7D-09350A2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6BCD-7845-42A9-89AE-053E1B6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8E6-776A-4884-B6DC-705ED1E1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B230-42E0-4166-8172-3B88A936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89E1-ED74-4796-8C7A-F992A0FC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0AD8-1D35-4CA2-885D-D45DFD9C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60AA-DEE6-433B-A34C-7497A4C6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7D0D-2120-4C00-B43D-9DDB9F95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58C2-0590-4FA2-A73C-6397C082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382C-6807-4035-A47E-4F93F806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C6F-801E-4A93-911D-C8CADBDF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4C81-D744-4AA5-A2F3-822106AD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A939-8435-4C3D-BD83-7C95ADB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EBBB-E5D4-4664-96E7-C74ADCD7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9AE0-9977-4E2F-AC0B-DAB68AF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A1FD-13D8-4453-9603-6FEE5B09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9408-4A61-448D-B103-51A3033D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7CCB-39F9-4E58-A950-7157AB5B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266A-6B6D-4570-8F4E-78BCAD30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4D5F5-15B6-4F27-95A9-B195D4F9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C177-1CE4-4887-BF31-2033155C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7C6-6C1E-4747-B14A-C115F5AF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3B7F-3787-4749-8B21-636190DC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34D8B-D1D1-41E0-AF39-3B3E05E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EF9E-8274-4A93-98EC-EB628C94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EF0E-4864-4A52-A871-0F0DB59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757C-BD70-40FA-9873-51BD2B42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7646-EB50-493E-B9A6-A930D7A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7F7D-60F4-4E5E-AE1E-F339E63A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3C18-27C1-4A1A-809F-576315A2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139D-369E-4045-A907-14F2AE2D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931-BEA8-49E4-9DB9-13D3A338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9B7-4B83-4E29-A434-74F9D156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0B3-6EDD-41AE-AE4F-798EC19D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A00-5F6F-438D-A1B8-95676DDB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AA0-6D01-44B2-A74C-469A84E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6D4F-8CC5-4CF4-A81C-7807BE8C4E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9581-5A0B-4739-AC81-33D699165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8567-55DD-478D-BBD3-CE191E918D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6AA5-1B3A-4B84-8E8C-6506885C61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411280"/>
                <a:gridCol w="1081080"/>
                <a:gridCol w="2880000"/>
                <a:gridCol w="2771640"/>
              </a:tblGrid>
              <a:tr h="74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énus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Terr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s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upiter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turn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us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on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lanèt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énorm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minuscul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chaud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oid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rapid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eu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ug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rt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aun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ron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159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Mercur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rapid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052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Jupiter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énorm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19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Vénu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chaud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3284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Mar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tite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4221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Satur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grande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2:14Z</dcterms:modified>
  <cp:revision>79</cp:revision>
  <dc:subject/>
  <dc:title>Slide 1</dc:title>
</cp:coreProperties>
</file>