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D0A-9568-41EA-A395-228C2FC6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3EC-4443-4FE1-8026-CB39D9C3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555-2A96-435E-96C9-4324F08E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FF9-4B66-43DD-B6E1-05A0D1B2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9641-9FBD-42FA-ADB0-E0037D77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2EF-5D8F-414D-98F0-AD1B4EA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F090-1C26-431A-9506-3304A469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58EE-CB39-4F2E-AA2E-9C2F39A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23E-F206-40DA-8A5F-35070FD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75C6-82CA-41AF-AA43-4726143C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702-E865-4F51-998B-87B81A8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D2F-F0CA-4720-AC8C-17B9DD39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207A-A284-4478-AC93-6810703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399-B11F-4138-806C-06CCDA5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5F7-784C-4556-9729-93F7A3CF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DDE-31EE-4990-B329-7AEDB618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6A66-C7DC-42EC-9655-2FCDAA86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68B8-C55E-4AF2-B901-41689E11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81CE-D167-4130-96C6-693B4B5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4407-CF53-4C18-AA23-D422C731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93E6-41A5-4B79-9059-9A775E1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11B3-BECC-4916-B5B1-55A5E3A3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B61-0D27-4E24-BC33-B9D9046E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239F-DD7D-492B-A592-B6D1F56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A30D-BE1A-4CB8-96C1-D10A314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AB81-3C3A-4ADB-81E7-070B951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C868-B643-43DA-9198-17CFD5D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9CE5-746F-4A57-BE2D-0EB8D4A4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B109-A004-407D-ADD3-F68B36D8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1E1C-7E8B-4185-BFE8-E95C9FDD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EB31-83F6-4173-9612-6E0D26CF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929B-7FEE-4A2C-B023-AE1BB43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9B05-C55B-408C-BC26-C429D98B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2C6-ABEF-422A-9246-5FFB1A12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C221-54D8-4EF1-BB0E-0AF1AE46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0E2B-FD47-4799-9133-203545F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2268-F815-4EB8-BBF4-E7FF1ECF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089F-7A8A-4953-8703-F32BFB7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4934-089C-4B9D-B725-A11C84C3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3F72-346C-4C26-AB33-62FBF7E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4A60-A664-47AF-8492-754A5971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DF52-F23B-4620-932E-AB31A354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401E-0B70-4535-83CC-43EAEFD1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6E6-D51C-43AA-9C58-6DF3F4C8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C9C-A82C-4B12-BD63-C209FE85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F8F-A401-41B3-BC5D-24C3428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EFC-A1CF-4118-91A0-60E8E313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93B-1C0F-4FA2-B821-8808E67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597E-77EC-4E21-B3CA-288561F2EE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2E66-41E0-4726-9152-95B0A30126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0910-5187-4C50-9EF3-9ED50B09F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60F1-AF39-43CF-A16B-C8850783AB9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763640"/>
                <a:gridCol w="720720"/>
                <a:gridCol w="3816360"/>
                <a:gridCol w="1440000"/>
                <a:gridCol w="1403280"/>
              </a:tblGrid>
              <a:tr h="334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én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Terr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upiter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turn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 énor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 minuscu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u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id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rap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eu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ug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rt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aune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ès du Sole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oi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u Sole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grande planè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etite planè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4:52Z</dcterms:modified>
  <cp:revision>80</cp:revision>
  <dc:subject/>
  <dc:title>Slide 1</dc:title>
</cp:coreProperties>
</file>