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AE53-06D2-4AC0-B1CA-5B230A1F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F96-BF68-4358-840E-2781065A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E749-F3C6-453E-BF61-3C423A71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F04-89B4-458D-855D-DA809D8B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710C-14DD-45AB-A1B9-8C8E0961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8673-33E9-4AAD-8E68-57BE537B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C531-9299-449A-BBF2-54FA1392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1001-1BDA-43BB-808B-FF512647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9FB3-14FF-4E19-A8F3-F9CECD73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6FD9-A0D5-4EAD-B942-DD610641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DB46-5237-4911-A5CF-6C5E9FF4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85A-2774-4022-AA64-83C4673B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4D8B-82D2-4B29-94CC-2873CCD2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6FA3-0986-4EA8-BD12-F27CAA58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722B-95F0-42FD-B7D3-A4343054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6CB6-8952-4BB1-AE9B-12D88662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860A-F22E-42D3-AEBB-13C34F9E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35365-719F-48BD-94E4-3F60D055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ECA28-69F4-44FD-AECD-AEB355C7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04B07-8292-42C6-9D91-F586A593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AF4AB-BFBD-4999-831E-7037BF56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F40D2-7815-4F97-BD35-254FCAF4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A02-225A-4577-88F1-F49AED6C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AF57A-F604-404B-B55F-A49704B4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12D16-7333-4F16-9532-43FD5016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9E0E9-CEB4-423E-B76A-3A5CA14D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3F7F3-073A-43A4-B79B-28D7A8A7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AC912-E516-422A-B9F7-317D4CBD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44FD2-D421-4576-9285-AE239C05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59C1C-A350-447D-B2EF-3CA18607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A22D0-9321-4EA8-88F4-413E32B0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0A5EF-EED8-471E-B849-CA9D7666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A38B0-F3A6-4935-82CA-85056605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BD8-E9BE-47F7-93F0-B0AD3220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65FBF-8B63-44B1-B425-4DF18AE6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F985D-9B24-4463-B1B1-87AF2B77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718C8-E24E-4C7A-9702-69794B69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E8526-C016-4F5B-AFC3-396675DE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35A52-F4DE-45CC-A57C-6447CBB3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D7C12-E8D0-45CD-A3DF-4E97ED4F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5DE0B-1643-4DFB-AFF1-563DAC5D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0EAD5-6234-45E7-8977-A6AF5E2F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70B0C-CC49-4753-B706-E27601EE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F00-D033-4CD1-96EB-E82375E9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256-2593-4450-83AB-58CB6C2A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614-34C8-48FA-93C2-AE1ABB4E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380-474E-4989-B7BF-7487862D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CCF-DBE4-4FBE-9477-5456CFFC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F781-CFB3-4602-AB0D-5A010D7975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636E-2E99-4BF5-9C85-8008CB8F23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3263-E025-4527-8FCF-96B1F6927E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A807-01C0-486C-B5CA-1918AAA3649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763640"/>
                <a:gridCol w="720720"/>
                <a:gridCol w="3816360"/>
                <a:gridCol w="1440000"/>
                <a:gridCol w="1403280"/>
              </a:tblGrid>
              <a:tr h="3348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rcur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énus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 Terr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rs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upiter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aturn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ranus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eptun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lu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e planète énor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e planète minuscu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au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oid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rap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n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eu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oug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ert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aun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r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ès du Sole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oi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u Sole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1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e grande planè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e petite planè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3-05-28T11:24:52Z</dcterms:modified>
  <cp:revision>80</cp:revision>
  <dc:subject/>
  <dc:title>Slide 1</dc:title>
</cp:coreProperties>
</file>