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A2C-07F9-49C3-B030-A445D1AE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822-9761-470C-8041-99E4D24E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901-ABED-4FF5-8DF1-B5580500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4E4-F705-4615-929B-C0B945F4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C5B8-94FC-4658-90DA-188A734A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F093-B2B9-4C1B-B66B-C055B2B7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796A-80F6-4B6F-84FE-2342DF43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7926-14C0-4095-83B4-DA2E8A2D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C81-29E2-4722-9EE9-01B32116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DF29-FBC2-41A5-8626-9C300C1A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A137-19D7-476C-B4C4-0D65CE92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C23-9A7F-4ECE-8935-5B1A763A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BE53-631D-4512-AB47-CFF66B5B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7FAD-8D8B-4E7A-AD84-92E4404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7B80-316B-496B-AAEE-A54CA103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F57A-5B2D-462A-A5D4-4BE1C129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DC92-6FBD-40E1-A2D5-ECC36CE3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6765-404E-49BD-BEBA-010D5115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7F35-4A30-43E3-98D4-FCA9B1B6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1CEA-0428-41F3-8A82-2465943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1170-4708-4A10-B491-B90FF715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EEFF-35D7-4469-9B9A-3B7E4474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A56-6C2C-47E6-A07A-2290AD3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2EB4-282F-48BF-8B0B-F18D5586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9F36-088B-4155-B2FA-A70CE78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1A8C-EEED-402F-B387-37272C77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2572-A5F7-40E2-A6A7-C90634E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4B41-8C1F-42D2-AA3C-B29A62E9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D8B9-CF97-4A48-8C20-7B8AB50B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FAB5-CE0F-4BAF-9905-C8D48186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3056-2787-4218-A2D2-CC198E5C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BECF-35D2-4D98-B2E7-33CA46B9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5C4D-A9A7-4B4A-8B8B-D6385DEB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2CD-2E54-4DAB-8EF0-365CC212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FEC8-CDB0-4C54-B936-B4936070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9747-20C3-493E-ABB5-3DE2367C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11C49-8566-4601-A95A-4443BADD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ED057-86BE-4B60-A783-DAD24A60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9BF37-01B7-4A5F-9806-716027E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33F1E-C0E1-43C8-9FC3-FBCF0BF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472C6-4F9F-4E1A-A925-24FB2118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8E82-CEB0-4EFF-A9BB-E0CDB606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0471-F990-43E9-A953-6E8AA3E1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472-D355-45EC-AD3F-F01724D0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B76-F2A4-440F-B6B5-1521B542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C50-493B-40DE-B213-31BBB07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849-B114-4CC8-A4CF-BEE65547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EF7-6E68-467C-A6D2-9FAFCFA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BF0-B0B0-4BE6-BA39-7B26146C39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2959-D0B0-4BC0-A640-1D9BF6B71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E5C3-1DCD-4C37-9F28-88ED3D2A700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7529-9F5A-4DB2-A5A7-F396571159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651640" y="3789360"/>
            <a:ext cx="0" cy="216072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651640" y="692280"/>
            <a:ext cx="0" cy="223200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333360"/>
            <a:ext cx="374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72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413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lu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4005360"/>
            <a:ext cx="244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omic Sans MS"/>
              </a:rPr>
              <a:t>moi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3:28Z</dcterms:modified>
  <cp:revision>25</cp:revision>
  <dc:subject/>
  <dc:title>Slide 1</dc:title>
</cp:coreProperties>
</file>