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A69-6119-4FC4-9339-7740F2C2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EFB-E880-42AA-82BD-3ECFDF8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034-4337-49EC-B46E-586B1376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F8B-CA2B-4B6C-B39D-486EF90E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7FAF-2F56-4DFB-AADB-CE8C82F2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8EB-1BC0-414B-86AF-9D269797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A09C-D382-40F4-8B23-430928E7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3732-870A-4776-8961-919E51FE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4602-AC40-4F29-A8BB-D11DC82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4DB1-F95C-4F48-9F30-687C7D7D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A644-5F80-4DDF-AD0D-7868E48F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0D4-8E34-430A-9A32-D95DA7D0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3E0B-A7F3-4846-81A0-F95AC73B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6D48-9D7D-4CD7-9904-2A675D4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1362-2775-4FE3-A404-94093CE1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6341-3C0D-490A-8195-B65EF87B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243B-3D6C-4593-969F-395202C4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3089-66B5-44F7-9FEB-0CA2551C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C11C-9E47-4DA0-BA1A-CBF3CA05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4D2AB-3112-4B47-9371-66E1083F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AE4B-2BC7-4F42-B4B4-16BFF159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E886-E257-48CC-A8C2-6DF34B04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6C5-40F3-4CBA-85E2-EDA59606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0459-59DC-4FFB-A1C8-35F491CC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AC908-A143-4654-ADA8-F9F8F6D6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7D4B-E8AE-484B-A8B3-68194F5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1AF3-C16D-49D8-ABD0-6A71E297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AD5E-6A0A-48A3-8E60-3698B8AD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C775-7F14-4800-B891-6E7A096B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6BBC-8608-4A36-B5CE-01FEF10F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75F7-B411-49BF-A07E-FC972E82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50D9C-3ACA-4D6A-95A3-2863556C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03FC-18C0-4FB0-A694-0907A8FE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1A6-5AC8-4C61-9F4B-1A70194C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5A30-8C7F-4780-90F5-4EC01C92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9B1F7-5B6E-40EC-9201-FD111650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EDB4-D8BF-4A19-AA3F-5EE420DB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F688-2301-42F2-B973-158826F7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70210-5416-457C-9E71-21972FD7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2DB17-E18F-4B60-BA9A-A535134C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231A4-E6F6-4AA4-B041-BD807413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F7D34-89DB-432C-9955-C99CFADB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D6BE8-61BC-4BED-96A4-EFE38BBE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2D3-913D-429E-8716-ABF329E3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1CD-8173-4528-8D45-AC99CAFA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480-B541-4567-A813-F20EDE28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6AF-949D-43A0-B612-EAD7879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AEC-546C-47FA-9516-12F06AB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1421-4362-4F6B-BA09-61348CB9DA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22A9-F40E-481B-8E3E-C4884CC3C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5A18-83FD-4C37-B820-1DFB23BAAC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9C9C-E5D5-4F4F-B005-6F678C6C99A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651640" y="3789360"/>
            <a:ext cx="0" cy="216072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651640" y="692280"/>
            <a:ext cx="0" cy="223200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333360"/>
            <a:ext cx="374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41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4005360"/>
            <a:ext cx="244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3:28Z</dcterms:modified>
  <cp:revision>25</cp:revision>
  <dc:subject/>
  <dc:title>Slide 1</dc:title>
</cp:coreProperties>
</file>