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1EE-A5A8-4C56-95CD-B75DF769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CE8-9974-4AD0-90FE-3AE0631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C8A-F215-4195-87D7-0CCF2721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936-5F91-48FA-AE30-4696AA0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3953-EBD1-489B-9A89-C2EE3297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F8A0-B85E-4D15-9F2F-9C7D5E6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0EFF-1CA4-4829-8D03-6204BB9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08C-19FC-4819-A92D-1E289A61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ECDD-5C32-4942-B184-F9406907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84F-490F-444A-9FB6-C7FD1624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1CF-AA55-4F2C-B269-6D658BE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5B4-4F60-418E-AD43-03293467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8C9-A226-4F0C-B078-58FA329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A5B-BA76-43E5-A63F-7422480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650E-4913-41B8-953D-C56D09D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475-596C-4E98-AD9A-2187DD0F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F5E-9C01-4D1B-8931-EAF62A7B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1CE1-1C62-47F2-8B2A-B269053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286F-7FA2-4E3F-A3F5-59EA8E3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B909-D645-4A67-A2FE-27CE460F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F821-1943-4E15-9A04-BF33D036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6238-2484-4105-927F-BCF119E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F07-8A8C-46E7-9CE8-4A0310E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A425-17CB-4FCD-84EE-EBB4C61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08DC-BF7B-4EC5-8339-55DED1C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3B21-ADFF-466B-9077-4E61548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4BC3-3A18-45AC-B0FD-9327393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D4F8-D095-4441-81AF-4F0FA02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7EA5-A273-4948-9907-16B85ECC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0F56-EF56-4F3C-9B91-741DF6CD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E138-DDB0-43D1-B392-52C30AA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2BA6-755D-4DC9-9D40-91CB470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12C7-6301-4DB2-B98F-8C766B0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EB4-E7B8-4323-B621-3405182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BA63-1C51-444F-8C8D-6F731C9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8F4D-93A7-41FC-943F-18F8D801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C53D-7B6A-4140-8782-BED632F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D91C-E710-42F8-953B-C7C334E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1299-BD47-41D1-B4C3-1A6A7D4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1444-BAF3-4D28-BA8F-8B7654A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C20C-9818-4CB1-84AB-7D5CAEF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76BE-453A-4258-86AF-D88C6F3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18C2-741E-44C0-989D-DE9BC93C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99C-6D40-49D9-A9BD-DF39582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0A3-E3A0-41C5-8F3A-322F8DE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E64-DFE5-43A6-9BEF-9706433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579-BEEF-4622-9981-00B6152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DA6-476D-4178-80DE-ABCE0D5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03F-2E3E-4B40-B8D8-AF1D4C0380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DB7E-A596-48EC-B5D6-8CB74AAA4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DCDC-8308-4E8C-B7A3-711B7A3C1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519-CA0B-470B-BBA1-E39571613DA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627280" y="0"/>
            <a:ext cx="41767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février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vril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juin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o</a:t>
            </a: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ût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sept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octobre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nov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décembr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empero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124000" y="3233880"/>
            <a:ext cx="660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ul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ulius Caes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August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gustus Caes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4 months are named after numb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Septem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Octo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Novem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Decemb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124000" y="620640"/>
            <a:ext cx="66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open’, because it’s when flowers ope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124000" y="4826160"/>
            <a:ext cx="660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April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124000" y="6206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purify’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124000" y="3233880"/>
            <a:ext cx="66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Febru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1.bp.blogspot.com/-HNPPnparCmg/TknGPCOYyHI/AAAAAAAAAAk/RKNj8rN6GR4/s1600/poisson2.jpg"/>
          <p:cNvPicPr/>
          <p:nvPr/>
        </p:nvPicPr>
        <p:blipFill>
          <a:blip r:embed="rId2"/>
          <a:stretch/>
        </p:blipFill>
        <p:spPr>
          <a:xfrm>
            <a:off x="755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02.wir.skyrock.net/wir/v1/resize/?c=isi&amp;im=/0953/86810953/pics/3153108014_1_6_i8WkCYeA.gif&amp;w=497"/>
          <p:cNvPicPr/>
          <p:nvPr/>
        </p:nvPicPr>
        <p:blipFill>
          <a:blip r:embed="rId2"/>
          <a:stretch/>
        </p:blipFill>
        <p:spPr>
          <a:xfrm>
            <a:off x="2484360" y="476280"/>
            <a:ext cx="475164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784836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18960" y="115920"/>
            <a:ext cx="885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 chameau faire du vélo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out autour d’une île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 gros ver en hélicoptèr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raversant la ville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e vache avec des moustaches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t de très longs cils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 flipH="1">
            <a:off x="5064120" y="1662120"/>
            <a:ext cx="93816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4"/>
          <a:stretch/>
        </p:blipFill>
        <p:spPr>
          <a:xfrm>
            <a:off x="5022720" y="3370320"/>
            <a:ext cx="1535400" cy="1272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5"/>
          <a:stretch/>
        </p:blipFill>
        <p:spPr>
          <a:xfrm>
            <a:off x="5254560" y="3595680"/>
            <a:ext cx="107172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6"/>
          <a:stretch/>
        </p:blipFill>
        <p:spPr>
          <a:xfrm>
            <a:off x="5789520" y="5599080"/>
            <a:ext cx="677880" cy="109692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9"/>
          <p:cNvSpPr/>
          <p:nvPr/>
        </p:nvSpPr>
        <p:spPr>
          <a:xfrm>
            <a:off x="5608800" y="6100920"/>
            <a:ext cx="492120" cy="55440"/>
          </a:xfrm>
          <a:custGeom>
            <a:avLst/>
            <a:gdLst/>
            <a:ahLst/>
            <a:rect l="l" t="t" r="r" b="b"/>
            <a:pathLst>
              <a:path w="491319" h="56031">
                <a:moveTo>
                  <a:pt x="491319" y="0"/>
                </a:moveTo>
                <a:cubicBezTo>
                  <a:pt x="418531" y="4549"/>
                  <a:pt x="345216" y="3794"/>
                  <a:pt x="272955" y="13648"/>
                </a:cubicBezTo>
                <a:cubicBezTo>
                  <a:pt x="218894" y="21020"/>
                  <a:pt x="189241" y="50822"/>
                  <a:pt x="136477" y="54591"/>
                </a:cubicBezTo>
                <a:cubicBezTo>
                  <a:pt x="91100" y="57832"/>
                  <a:pt x="45492" y="54591"/>
                  <a:pt x="0" y="54591"/>
                </a:cubicBezTo>
              </a:path>
            </a:pathLst>
          </a:custGeom>
          <a:solidFill>
            <a:srgbClr val="333333"/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0"/>
          <p:cNvSpPr/>
          <p:nvPr/>
        </p:nvSpPr>
        <p:spPr>
          <a:xfrm>
            <a:off x="6141960" y="6113520"/>
            <a:ext cx="436680" cy="14400"/>
          </a:xfrm>
          <a:custGeom>
            <a:avLst/>
            <a:gdLst/>
            <a:ahLst/>
            <a:rect l="l" t="t" r="r" b="b"/>
            <a:pathLst>
              <a:path w="436728" h="13900">
                <a:moveTo>
                  <a:pt x="0" y="252"/>
                </a:moveTo>
                <a:cubicBezTo>
                  <a:pt x="72788" y="4801"/>
                  <a:pt x="145434" y="13900"/>
                  <a:pt x="218364" y="13900"/>
                </a:cubicBezTo>
                <a:cubicBezTo>
                  <a:pt x="282216" y="13900"/>
                  <a:pt x="345705" y="4235"/>
                  <a:pt x="409432" y="252"/>
                </a:cubicBezTo>
                <a:cubicBezTo>
                  <a:pt x="418513" y="-316"/>
                  <a:pt x="427629" y="252"/>
                  <a:pt x="436728" y="252"/>
                </a:cubicBezTo>
              </a:path>
            </a:pathLst>
          </a:custGeom>
          <a:solidFill>
            <a:srgbClr val="333333"/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desse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empero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4 months are named after numb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24000" y="620640"/>
            <a:ext cx="66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open’, because it’s when flowers ope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124000" y="6206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purify’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anuar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anus – god of doors and beginn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March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rs – god of w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http://www.livius.org/a/1/romanempire/coin_janus_225-212.JPG"/>
          <p:cNvPicPr/>
          <p:nvPr/>
        </p:nvPicPr>
        <p:blipFill>
          <a:blip r:embed="rId2"/>
          <a:stretch/>
        </p:blipFill>
        <p:spPr>
          <a:xfrm>
            <a:off x="395280" y="3403440"/>
            <a:ext cx="1440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desse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Ma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a – goddess of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une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uno – queen of the Roman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5:47Z</dcterms:modified>
  <cp:revision>46</cp:revision>
  <dc:subject/>
  <dc:title>Slide 1</dc:title>
</cp:coreProperties>
</file>