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4ED-5812-4DA7-85AB-C194649B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C4B-DD2D-4A29-B141-360C72B1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9D6-D9C2-4F1C-9885-CED3A9E9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419-7549-41BF-8180-B03205D6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9FAE-A4BC-447C-BBA7-0C85DDEE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EAC2-4470-4010-87C9-CC1A70AB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59AA-0C48-4E40-8B1C-3A9E2924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21BB-6BFE-4851-806E-B65AB526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FA86-3CF6-4217-9E28-6F5A3005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9991-22E8-468C-8B1A-7FCCD8A7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C20A-CABF-4219-BBCC-0A4B1E83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BEE-8B14-47A8-B2E5-A76FAD5B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0597-37C3-48DF-A7E2-713D4E7C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DA11-A8F3-496D-BA89-6585CF9B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DAF7-8A34-465E-BEC4-F58D78BE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A42C-F8EE-42C9-8747-3C89D201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C4A8-20A3-4238-99E1-BF8036F5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7B0A8-58DD-4428-9368-C03DD5A5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1B85-0F1F-4556-B5D1-1C5EF061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7426-3D72-4203-B97D-9D5ED940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C811-9663-40BA-A282-B5519B1F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57EE-C6CA-4202-9000-8C7AC948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C77-A1C1-43A6-B786-537F5431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F96B-780B-4C65-A5F6-FE24EEF0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8A742-A95C-4A87-8D0D-BACF3473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6B85-FC49-4943-8D25-18A27662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D59EB-035F-47BE-8332-B1938837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88CDE-EF5B-45A9-B380-75D08534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13949-E05D-40C2-8DFA-F570F06D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133FC-28F5-4BB3-93F4-B1935644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9CAA9-1DB0-4FAB-8F9A-9997F8E8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DA222-5FC0-4866-BFE4-2E164C0A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E224E-9CCC-49E7-93AF-7680B834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317-9A81-4232-9CF5-CCEE8B6B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6FCA-8A34-4ED3-82E6-131BA9C3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32A5-1368-4C8F-958A-450676FA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5AEB2-B4DC-488E-923A-9F478FD4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41933-5754-4D06-8274-ED7411D7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B19E-BA31-4666-B514-ABE148AE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9DDA-3FCD-40FD-B5F5-DA59B7AF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44FBD-530D-4CC2-9263-3F6B7939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01F23-08E2-4F53-B068-7694FEB9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FC54-3DB3-4226-A3EF-474162CA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D15-E5A0-4F04-8A7C-15EACBDF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998-E350-4C4F-B590-45CD01FB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BC0-F5FE-4BC3-9619-9E18CC5F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B2C-DEE2-4E53-A405-9FE1594F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D02-2665-4596-A83C-DD5EF109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69D8-9427-408A-B32F-9607FEF26C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5530-9BB6-4F70-A66A-2BD4AFF564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B565-2CCA-47B1-B2FE-5071D338C0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D2B1-0034-4989-B7E8-2304848F526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627280" y="0"/>
            <a:ext cx="417672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janvier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février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mars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avril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mai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juin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juillet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</a:rPr>
              <a:t>ao</a:t>
            </a:r>
            <a:r>
              <a:rPr b="1" lang="en-GB" sz="3700" spc="-1" strike="noStrike">
                <a:solidFill>
                  <a:srgbClr val="ffff00"/>
                </a:solidFill>
                <a:latin typeface="Comic Sans MS"/>
                <a:ea typeface="Arial"/>
              </a:rPr>
              <a:t>ût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  <a:ea typeface="Arial"/>
              </a:rPr>
              <a:t>septembre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  <a:ea typeface="Arial"/>
              </a:rPr>
              <a:t>octobre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Comic Sans MS"/>
                <a:ea typeface="Arial"/>
              </a:rPr>
              <a:t>novembre</a:t>
            </a:r>
            <a:br>
              <a:rPr sz="3700"/>
            </a:br>
            <a:r>
              <a:rPr b="1" lang="en-GB" sz="3700" spc="-1" strike="noStrike">
                <a:solidFill>
                  <a:srgbClr val="ffff00"/>
                </a:solidFill>
                <a:latin typeface="Comic Sans MS"/>
                <a:ea typeface="Arial"/>
              </a:rPr>
              <a:t>décembre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2 months are named after Roman emperor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2124000" y="3233880"/>
            <a:ext cx="660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July</a:t>
            </a:r>
            <a:br>
              <a:rPr sz="5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Julius Caes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August</a:t>
            </a:r>
            <a:br>
              <a:rPr sz="5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ugustus Caes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4 months are named after number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124000" y="3233880"/>
            <a:ext cx="66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September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October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November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Decemb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2124000" y="620640"/>
            <a:ext cx="66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month comes from the Latin word ‘to open’, because it’s when flowers open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2124000" y="4826160"/>
            <a:ext cx="660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April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2124000" y="62064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month comes from the Latin word ‘to purify’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2124000" y="3233880"/>
            <a:ext cx="660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Februa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1.bp.blogspot.com/-HNPPnparCmg/TknGPCOYyHI/AAAAAAAAAAk/RKNj8rN6GR4/s1600/poisson2.jpg"/>
          <p:cNvPicPr/>
          <p:nvPr/>
        </p:nvPicPr>
        <p:blipFill>
          <a:blip r:embed="rId2"/>
          <a:stretch/>
        </p:blipFill>
        <p:spPr>
          <a:xfrm>
            <a:off x="755640" y="47628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02.wir.skyrock.net/wir/v1/resize/?c=isi&amp;im=/0953/86810953/pics/3153108014_1_6_i8WkCYeA.gif&amp;w=497"/>
          <p:cNvPicPr/>
          <p:nvPr/>
        </p:nvPicPr>
        <p:blipFill>
          <a:blip r:embed="rId2"/>
          <a:stretch/>
        </p:blipFill>
        <p:spPr>
          <a:xfrm>
            <a:off x="2484360" y="476280"/>
            <a:ext cx="475164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784836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318960" y="115920"/>
            <a:ext cx="8856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’ai vu un chameau faire du vélo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Tout autour d’une île….. </a:t>
            </a:r>
            <a:r>
              <a:rPr b="0" i="1" lang="en-GB" sz="3600" spc="-1" strike="noStrike">
                <a:solidFill>
                  <a:srgbClr val="ffffff"/>
                </a:solidFill>
                <a:latin typeface="Comic Sans MS"/>
              </a:rPr>
              <a:t>Poisson d’avri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’ai vu un gros ver en hélicoptèr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Traversant la ville….. </a:t>
            </a:r>
            <a:r>
              <a:rPr b="0" i="1" lang="en-GB" sz="3600" spc="-1" strike="noStrike">
                <a:solidFill>
                  <a:srgbClr val="ffffff"/>
                </a:solidFill>
                <a:latin typeface="Comic Sans MS"/>
              </a:rPr>
              <a:t>Poisson d’avri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J’ai vu une vache avec des moustaches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t de très longs cils….. </a:t>
            </a:r>
            <a:r>
              <a:rPr b="0" i="1" lang="en-GB" sz="3600" spc="-1" strike="noStrike">
                <a:solidFill>
                  <a:srgbClr val="ffffff"/>
                </a:solidFill>
                <a:latin typeface="Comic Sans MS"/>
              </a:rPr>
              <a:t>Poisson d’avril!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712800" cy="72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 flipH="1">
            <a:off x="5064120" y="1662120"/>
            <a:ext cx="938160" cy="60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4"/>
          <a:stretch/>
        </p:blipFill>
        <p:spPr>
          <a:xfrm>
            <a:off x="5022720" y="3370320"/>
            <a:ext cx="1535400" cy="1272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5"/>
          <a:stretch/>
        </p:blipFill>
        <p:spPr>
          <a:xfrm>
            <a:off x="5254560" y="3595680"/>
            <a:ext cx="107172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6"/>
          <a:stretch/>
        </p:blipFill>
        <p:spPr>
          <a:xfrm>
            <a:off x="5789520" y="5599080"/>
            <a:ext cx="677880" cy="1096920"/>
          </a:xfrm>
          <a:prstGeom prst="rect">
            <a:avLst/>
          </a:prstGeom>
          <a:ln w="0">
            <a:noFill/>
          </a:ln>
        </p:spPr>
      </p:pic>
      <p:sp>
        <p:nvSpPr>
          <p:cNvPr id="208" name="Freeform 9"/>
          <p:cNvSpPr/>
          <p:nvPr/>
        </p:nvSpPr>
        <p:spPr>
          <a:xfrm>
            <a:off x="5608800" y="6100920"/>
            <a:ext cx="492120" cy="55440"/>
          </a:xfrm>
          <a:custGeom>
            <a:avLst/>
            <a:gdLst/>
            <a:ahLst/>
            <a:rect l="l" t="t" r="r" b="b"/>
            <a:pathLst>
              <a:path w="491319" h="56031">
                <a:moveTo>
                  <a:pt x="491319" y="0"/>
                </a:moveTo>
                <a:cubicBezTo>
                  <a:pt x="418531" y="4549"/>
                  <a:pt x="345216" y="3794"/>
                  <a:pt x="272955" y="13648"/>
                </a:cubicBezTo>
                <a:cubicBezTo>
                  <a:pt x="218894" y="21020"/>
                  <a:pt x="189241" y="50822"/>
                  <a:pt x="136477" y="54591"/>
                </a:cubicBezTo>
                <a:cubicBezTo>
                  <a:pt x="91100" y="57832"/>
                  <a:pt x="45492" y="54591"/>
                  <a:pt x="0" y="54591"/>
                </a:cubicBezTo>
              </a:path>
            </a:pathLst>
          </a:custGeom>
          <a:solidFill>
            <a:srgbClr val="333333"/>
          </a:solidFill>
          <a:ln w="572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720" bIns="9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10"/>
          <p:cNvSpPr/>
          <p:nvPr/>
        </p:nvSpPr>
        <p:spPr>
          <a:xfrm>
            <a:off x="6141960" y="6113520"/>
            <a:ext cx="436680" cy="14400"/>
          </a:xfrm>
          <a:custGeom>
            <a:avLst/>
            <a:gdLst/>
            <a:ahLst/>
            <a:rect l="l" t="t" r="r" b="b"/>
            <a:pathLst>
              <a:path w="436728" h="13900">
                <a:moveTo>
                  <a:pt x="0" y="252"/>
                </a:moveTo>
                <a:cubicBezTo>
                  <a:pt x="72788" y="4801"/>
                  <a:pt x="145434" y="13900"/>
                  <a:pt x="218364" y="13900"/>
                </a:cubicBezTo>
                <a:cubicBezTo>
                  <a:pt x="282216" y="13900"/>
                  <a:pt x="345705" y="4235"/>
                  <a:pt x="409432" y="252"/>
                </a:cubicBezTo>
                <a:cubicBezTo>
                  <a:pt x="418513" y="-316"/>
                  <a:pt x="427629" y="252"/>
                  <a:pt x="436728" y="252"/>
                </a:cubicBezTo>
              </a:path>
            </a:pathLst>
          </a:custGeom>
          <a:solidFill>
            <a:srgbClr val="333333"/>
          </a:solidFill>
          <a:ln w="572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2 months are named after Roman god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2 months are named after Roman goddesse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2 months are named after Roman emperor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4 months are named after number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124000" y="620640"/>
            <a:ext cx="66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month comes from the Latin word ‘to open’, because it’s when flowers open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2124000" y="62064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month comes from the Latin word ‘to purify’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2 months are named after Roman god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2124000" y="3233880"/>
            <a:ext cx="66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January</a:t>
            </a:r>
            <a:br>
              <a:rPr sz="5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Janus – god of doors and beginn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March</a:t>
            </a:r>
            <a:br>
              <a:rPr sz="5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rs – god of w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http://www.livius.org/a/1/romanempire/coin_janus_225-212.JPG"/>
          <p:cNvPicPr/>
          <p:nvPr/>
        </p:nvPicPr>
        <p:blipFill>
          <a:blip r:embed="rId2"/>
          <a:stretch/>
        </p:blipFill>
        <p:spPr>
          <a:xfrm>
            <a:off x="395280" y="3403440"/>
            <a:ext cx="144000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124000" y="62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ich 2 months are named after Roman goddesse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395280" y="620640"/>
            <a:ext cx="1440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124000" y="3233880"/>
            <a:ext cx="66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May</a:t>
            </a:r>
            <a:br>
              <a:rPr sz="5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a – goddess of the Sp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June</a:t>
            </a:r>
            <a:br>
              <a:rPr sz="5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Juno – queen of the Roman g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7-02T14:05:47Z</dcterms:modified>
  <cp:revision>46</cp:revision>
  <dc:subject/>
  <dc:title>Slide 1</dc:title>
</cp:coreProperties>
</file>