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504-6E42-489D-B528-8B935977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CF2-DFB3-45B1-AB25-CD1C94D0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FE4-C5B0-41E1-A0A1-FFE446C5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73F-AC78-4F8C-BC38-24BE3EE8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42D6-5E71-4FBF-BFA2-EA311876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CD79-8425-423E-A193-1BF3EE0F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D1CB-415C-4AAE-841F-BC471660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3603-D83B-4F39-98FD-68BDF01B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B6D0-841C-4705-9379-A5422647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14FA-A385-4F6B-BFBF-F1E19BCE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561C-6D18-476A-A211-6DF731B8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85D-B0CF-434D-838E-E6B15875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72A9-9B9E-4D5C-8579-CB05C9A5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F952-6783-44F5-8544-BDB5DCF6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BB33-7A6B-498A-9033-FD84D447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47D2-8AD3-43FF-B085-A17E7752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89A4-2202-4213-9D9C-2615EECD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9A411-BDF0-448A-AC70-83621B78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6F078-6C08-4783-9124-2EB1CB49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618CE-EABB-4DC1-BD37-C2F47F50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E6808-B3F5-4A8C-B2B0-35BF7457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4C51-165F-4521-A36D-D061F5C0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BD5-DCB9-4EB0-81A6-4922BAA2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D1273-36E9-4F22-9280-23A82224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D2FB3-6456-427E-9319-8D720A19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061EF-339B-4FDD-B806-6719F457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C0852-009A-4D28-85FD-8587C570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35FFD-F3EF-4519-84A5-9FC27336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C4D57-6360-4AD5-8410-E30E13D9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EE268-6580-4D8D-BF6D-FF3433A3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25C7C-F765-4867-A4D3-FF78D477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1585D-DD4B-4931-91E0-9ADFFA15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95823-7A9E-4889-BCA3-9FB20A26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9136-94B1-4BDE-A2E2-C4EB541E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84DD8-AABD-4495-A442-76882962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1F73F-22F6-48EF-8E83-42EC0F88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CBC3E-AB79-479A-9FDF-011D7EAE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5778B-057E-4E4F-8EF1-517236D2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E665C-A84B-4283-8D74-D9329A09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58A26-2809-4D1E-AC3E-20E04467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C5DB7-38BC-42A4-9D6A-408B41D4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B44D3-9C5E-4E5C-ABA4-E6B54532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92AAE-F862-42F7-BCBC-F8DD9FA5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8F5-DCA7-4BE9-87F4-6CF10156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4E0-B36B-4936-81F9-504DB151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6AA-EC9F-4C7B-8FA1-5CB5C0DB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57A-C2FE-470C-95AF-B8941B8F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2B1-3687-424D-928F-ACF2B0AE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8B9E-653B-41C3-BB7F-3EFF9D2290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C4C3-997C-470B-86B5-8DC1E08CB3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925C-45A3-4115-9EAF-C45293512A5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D337-9C33-49FC-B282-515BE34D217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rcRect l="35443" t="67175" r="43294" b="8446"/>
          <a:stretch/>
        </p:blipFill>
        <p:spPr>
          <a:xfrm>
            <a:off x="826920" y="1628640"/>
            <a:ext cx="2592720" cy="2378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4360" y="260280"/>
            <a:ext cx="81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istributeur Pez “Monsieur Costaud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Distributeur PEZ&#13;&#10;Mr Costaud"/>
          <p:cNvPicPr/>
          <p:nvPr/>
        </p:nvPicPr>
        <p:blipFill>
          <a:blip r:embed="rId3"/>
          <a:stretch/>
        </p:blipFill>
        <p:spPr>
          <a:xfrm>
            <a:off x="3708360" y="1125360"/>
            <a:ext cx="1917720" cy="4321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832360" y="1125360"/>
            <a:ext cx="3311640" cy="1943280"/>
          </a:xfrm>
          <a:prstGeom prst="wedgeRoundRectCallout">
            <a:avLst>
              <a:gd name="adj1" fmla="val 2782"/>
              <a:gd name="adj2" fmla="val 7491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en voudrais</a:t>
            </a:r>
            <a:br>
              <a:rPr sz="3600"/>
            </a:b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cinq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  C’est combi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24360" y="3860640"/>
            <a:ext cx="3311640" cy="2305080"/>
          </a:xfrm>
          <a:prstGeom prst="wedgeRoundRectCallout">
            <a:avLst>
              <a:gd name="adj1" fmla="val -912"/>
              <a:gd name="adj2" fmla="val -63018"/>
              <a:gd name="adj3" fmla="val 16667"/>
            </a:avLst>
          </a:prstGeom>
          <a:solidFill>
            <a:srgbClr val="9ccfff"/>
          </a:solidFill>
          <a:ln w="9360">
            <a:solidFill>
              <a:srgbClr val="9cc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dix-sept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Euros 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cinquant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s’il vous plaî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4360" y="26028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quillages Roudoudo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32360" y="1125360"/>
            <a:ext cx="3311640" cy="1943280"/>
          </a:xfrm>
          <a:prstGeom prst="wedgeRoundRectCallout">
            <a:avLst>
              <a:gd name="adj1" fmla="val 2782"/>
              <a:gd name="adj2" fmla="val 7491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en voudrais</a:t>
            </a:r>
            <a:br>
              <a:rPr sz="3600"/>
            </a:b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neuf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  C’est combi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24360" y="3860640"/>
            <a:ext cx="3311640" cy="2305080"/>
          </a:xfrm>
          <a:prstGeom prst="wedgeRoundRectCallout">
            <a:avLst>
              <a:gd name="adj1" fmla="val -912"/>
              <a:gd name="adj2" fmla="val -63018"/>
              <a:gd name="adj3" fmla="val 16667"/>
            </a:avLst>
          </a:prstGeom>
          <a:solidFill>
            <a:srgbClr val="9ccfff"/>
          </a:solidFill>
          <a:ln w="9360">
            <a:solidFill>
              <a:srgbClr val="9cc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Vingt-deux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Euros 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cinquant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s’il vous plaî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Coquillage roudoudou"/>
          <p:cNvPicPr/>
          <p:nvPr/>
        </p:nvPicPr>
        <p:blipFill>
          <a:blip r:embed="rId2"/>
          <a:stretch/>
        </p:blipFill>
        <p:spPr>
          <a:xfrm>
            <a:off x="2771640" y="4221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rcRect l="42514" t="53143" r="14363" b="18066"/>
          <a:stretch/>
        </p:blipFill>
        <p:spPr>
          <a:xfrm>
            <a:off x="684360" y="1557360"/>
            <a:ext cx="46083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26028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ilet de pièces en chocol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32360" y="1125360"/>
            <a:ext cx="3311640" cy="1943280"/>
          </a:xfrm>
          <a:prstGeom prst="wedgeRoundRectCallout">
            <a:avLst>
              <a:gd name="adj1" fmla="val 2782"/>
              <a:gd name="adj2" fmla="val 7491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en voudrais</a:t>
            </a:r>
            <a:br>
              <a:rPr sz="3600"/>
            </a:b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douz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  C’est combi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3860640"/>
            <a:ext cx="3311640" cy="2305080"/>
          </a:xfrm>
          <a:prstGeom prst="wedgeRoundRectCallout">
            <a:avLst>
              <a:gd name="adj1" fmla="val -912"/>
              <a:gd name="adj2" fmla="val -63018"/>
              <a:gd name="adj3" fmla="val 16667"/>
            </a:avLst>
          </a:prstGeom>
          <a:solidFill>
            <a:srgbClr val="9ccfff"/>
          </a:solidFill>
          <a:ln w="9360">
            <a:solidFill>
              <a:srgbClr val="9cc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neuf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Euros 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soixant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s’il vous plaî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rcRect l="8866" t="63494" r="69573" b="12160"/>
          <a:stretch/>
        </p:blipFill>
        <p:spPr>
          <a:xfrm>
            <a:off x="395280" y="1052640"/>
            <a:ext cx="2629080" cy="2374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Filet de pièces en chocolat"/>
          <p:cNvPicPr/>
          <p:nvPr/>
        </p:nvPicPr>
        <p:blipFill>
          <a:blip r:embed="rId3"/>
          <a:stretch/>
        </p:blipFill>
        <p:spPr>
          <a:xfrm>
            <a:off x="3203640" y="105264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4360" y="26028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nap goût fru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32360" y="1125360"/>
            <a:ext cx="3311640" cy="1943280"/>
          </a:xfrm>
          <a:prstGeom prst="wedgeRoundRectCallout">
            <a:avLst>
              <a:gd name="adj1" fmla="val 2782"/>
              <a:gd name="adj2" fmla="val 7491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en voudrais</a:t>
            </a:r>
            <a:br>
              <a:rPr sz="3600"/>
            </a:b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quinz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  C’est combi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24360" y="3860640"/>
            <a:ext cx="3311640" cy="2305080"/>
          </a:xfrm>
          <a:prstGeom prst="wedgeRoundRectCallout">
            <a:avLst>
              <a:gd name="adj1" fmla="val -912"/>
              <a:gd name="adj2" fmla="val -63018"/>
              <a:gd name="adj3" fmla="val 16667"/>
            </a:avLst>
          </a:prstGeom>
          <a:solidFill>
            <a:srgbClr val="9ccfff"/>
          </a:solidFill>
          <a:ln w="9360">
            <a:solidFill>
              <a:srgbClr val="9cc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Vingt-quatre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uros, s’il vous plaî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Snap goût fruit"/>
          <p:cNvPicPr/>
          <p:nvPr/>
        </p:nvPicPr>
        <p:blipFill>
          <a:blip r:embed="rId2"/>
          <a:stretch/>
        </p:blipFill>
        <p:spPr>
          <a:xfrm>
            <a:off x="2627280" y="4005360"/>
            <a:ext cx="2303640" cy="2303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rcRect l="46668" t="53907" r="10221" b="17302"/>
          <a:stretch/>
        </p:blipFill>
        <p:spPr>
          <a:xfrm>
            <a:off x="324000" y="1125360"/>
            <a:ext cx="482436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4360" y="26028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Nic-nac 300g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32360" y="1125360"/>
            <a:ext cx="3311640" cy="1943280"/>
          </a:xfrm>
          <a:prstGeom prst="wedgeRoundRectCallout">
            <a:avLst>
              <a:gd name="adj1" fmla="val 2782"/>
              <a:gd name="adj2" fmla="val 7491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en voudrais</a:t>
            </a:r>
            <a:br>
              <a:rPr sz="3600"/>
            </a:b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quinz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  C’est combi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3860640"/>
            <a:ext cx="3311640" cy="2305080"/>
          </a:xfrm>
          <a:prstGeom prst="wedgeRoundRectCallout">
            <a:avLst>
              <a:gd name="adj1" fmla="val -912"/>
              <a:gd name="adj2" fmla="val -63018"/>
              <a:gd name="adj3" fmla="val 16667"/>
            </a:avLst>
          </a:prstGeom>
          <a:solidFill>
            <a:srgbClr val="9ccfff"/>
          </a:solidFill>
          <a:ln w="9360">
            <a:solidFill>
              <a:srgbClr val="9cc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Cinquante-neuf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uros 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vingt-cinq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s’il vous plaî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Nic-nac 300gr"/>
          <p:cNvPicPr/>
          <p:nvPr/>
        </p:nvPicPr>
        <p:blipFill>
          <a:blip r:embed="rId2"/>
          <a:stretch/>
        </p:blipFill>
        <p:spPr>
          <a:xfrm>
            <a:off x="2916360" y="1773360"/>
            <a:ext cx="276228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rcRect l="48723" t="48732" r="30315" b="23958"/>
          <a:stretch/>
        </p:blipFill>
        <p:spPr>
          <a:xfrm>
            <a:off x="250920" y="981000"/>
            <a:ext cx="2555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26028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arambar caramel, l’origi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32360" y="1125360"/>
            <a:ext cx="3311640" cy="1943280"/>
          </a:xfrm>
          <a:prstGeom prst="wedgeRoundRectCallout">
            <a:avLst>
              <a:gd name="adj1" fmla="val 2782"/>
              <a:gd name="adj2" fmla="val 7491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en voudrais</a:t>
            </a:r>
            <a:br>
              <a:rPr sz="3600"/>
            </a:b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un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  C’est combi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24360" y="3860640"/>
            <a:ext cx="3311640" cy="2305080"/>
          </a:xfrm>
          <a:prstGeom prst="wedgeRoundRectCallout">
            <a:avLst>
              <a:gd name="adj1" fmla="val -912"/>
              <a:gd name="adj2" fmla="val -63018"/>
              <a:gd name="adj3" fmla="val 16667"/>
            </a:avLst>
          </a:prstGeom>
          <a:solidFill>
            <a:srgbClr val="9ccfff"/>
          </a:solidFill>
          <a:ln w="9360">
            <a:solidFill>
              <a:srgbClr val="9cc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quatorze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entimes, s’il vous plaî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20 Carambars caramel"/>
          <p:cNvPicPr/>
          <p:nvPr/>
        </p:nvPicPr>
        <p:blipFill>
          <a:blip r:embed="rId2"/>
          <a:stretch/>
        </p:blipFill>
        <p:spPr>
          <a:xfrm>
            <a:off x="3348000" y="1197000"/>
            <a:ext cx="2295720" cy="2295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rcRect l="10038" t="32212" r="65159" b="40024"/>
          <a:stretch/>
        </p:blipFill>
        <p:spPr>
          <a:xfrm>
            <a:off x="250920" y="1052640"/>
            <a:ext cx="30240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2-02-20T11:27:03Z</dcterms:modified>
  <cp:revision>44</cp:revision>
  <dc:subject/>
  <dc:title>Slide 1</dc:title>
</cp:coreProperties>
</file>