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2D8-FBBB-4FE8-A939-C4F2E55D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377-2A39-4B3E-8BB5-75C911D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89F-8C7F-4B9A-AFA5-612EB8EE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41B-9BBC-43FE-A736-FB8411AD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7499-9D0E-4F15-B024-580FF9F1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A5C5-4610-41E2-A446-2B06D831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81A1-8D3B-47FB-B657-6CC7D4B7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5BFE-824A-4EEA-8128-04D73234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867F-D237-4D06-AC31-4F699962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058A-89A3-4C97-B401-24D5B078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EA0E-1E0C-4CDB-A295-8C00CDB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466-DB3E-47CD-8A02-47A78D3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C511-08BC-42B7-98AB-BEF16C3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4A54-E1F1-4995-A5AC-DC91642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7DA2-0069-4EAE-9AF4-66857555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CAAD-0686-458C-A460-CE079980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359-185F-4E74-9D85-691D82F5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7ADC-92D8-4D70-9213-19393F84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EFFB5-A49A-4326-A4B4-B56A5F7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83A4-DC46-4354-98B9-56F0607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FA1C-1FCD-4A88-9AC6-0FD7706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666B-612D-4976-A1DE-8F23CD1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4A2-C767-4865-A8AA-53E8F77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73F3-6B0C-4847-A6F7-974EE7C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4269-D327-434B-B9A0-8E77E88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9EAA-F4F6-4431-AEB0-A3989CD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C7B1-7711-45B4-849C-2A819AA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8AC7-CE37-430B-8A9D-62BEAB1E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CE4F-E874-4C0B-8FF0-864341B1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1C83-A655-441E-B26E-7F0E464A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B0EF-01AC-45F8-B122-A1196319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31909-1A1F-45BE-AC06-B4C06BA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4A06-182D-4405-B2CE-AEAFE675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FB8-0CAC-4423-B907-89BDC5C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65EC-3E6B-4C44-9D1A-4BB20A68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633B-8470-40AC-BAED-A038308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6C21-5179-4199-9D9D-1FBFC293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B5A9-B6AB-4374-AF72-AB9E044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A6952-517F-47F1-9D08-C414AF1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ECF4-E679-41F9-8015-562B04D8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969A-634A-41FE-9BED-B301CA61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FC69-C9C6-44AB-ABAF-B76F10A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0ED2-F53D-4F3A-A4F3-9C07DA83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B77-AC92-40B0-923F-1A69F2A5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980-1B32-4D67-96DE-0004A51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DA2-FE91-44BB-83EF-D9B8B2F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74E-839D-4E0B-B70F-59875B0E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20E-3E7D-4D9B-B4AC-24E64B8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4511-1FD2-4EDF-9114-BDDE85A0E0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44EE-18FB-4EAE-AF91-61260C8246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247B-87FD-4131-AC82-28CD2584F1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EE2-7C86-44F1-82F2-2EBE31E3DD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rcRect l="35443" t="67175" r="43294" b="8446"/>
          <a:stretch/>
        </p:blipFill>
        <p:spPr>
          <a:xfrm>
            <a:off x="826920" y="1628640"/>
            <a:ext cx="2592720" cy="2378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26028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stributeur Pez “Monsieur Costau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Distributeur PEZ&#13;&#10;Mr Costaud"/>
          <p:cNvPicPr/>
          <p:nvPr/>
        </p:nvPicPr>
        <p:blipFill>
          <a:blip r:embed="rId3"/>
          <a:stretch/>
        </p:blipFill>
        <p:spPr>
          <a:xfrm>
            <a:off x="3708360" y="1125360"/>
            <a:ext cx="1917720" cy="432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dix-sep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uan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quillages Roudoud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neu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Vingt-deux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uan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quillage roudoudou"/>
          <p:cNvPicPr/>
          <p:nvPr/>
        </p:nvPicPr>
        <p:blipFill>
          <a:blip r:embed="rId2"/>
          <a:stretch/>
        </p:blipFill>
        <p:spPr>
          <a:xfrm>
            <a:off x="2771640" y="4221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rcRect l="42514" t="53143" r="14363" b="18066"/>
          <a:stretch/>
        </p:blipFill>
        <p:spPr>
          <a:xfrm>
            <a:off x="684360" y="1557360"/>
            <a:ext cx="46083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ilet de pièces en chocol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douz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neu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soixan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8866" t="63494" r="69573" b="12160"/>
          <a:stretch/>
        </p:blipFill>
        <p:spPr>
          <a:xfrm>
            <a:off x="395280" y="1052640"/>
            <a:ext cx="2629080" cy="237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Filet de pièces en chocolat"/>
          <p:cNvPicPr/>
          <p:nvPr/>
        </p:nvPicPr>
        <p:blipFill>
          <a:blip r:embed="rId3"/>
          <a:stretch/>
        </p:blipFill>
        <p:spPr>
          <a:xfrm>
            <a:off x="3203640" y="10526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nap goût fru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quinz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Vingt-quatre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uros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Snap goût fruit"/>
          <p:cNvPicPr/>
          <p:nvPr/>
        </p:nvPicPr>
        <p:blipFill>
          <a:blip r:embed="rId2"/>
          <a:stretch/>
        </p:blipFill>
        <p:spPr>
          <a:xfrm>
            <a:off x="2627280" y="4005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46668" t="53907" r="10221" b="17302"/>
          <a:stretch/>
        </p:blipFill>
        <p:spPr>
          <a:xfrm>
            <a:off x="324000" y="1125360"/>
            <a:ext cx="4824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ic-nac 300g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quinz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uante-neuf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vingt-cinq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Nic-nac 300gr"/>
          <p:cNvPicPr/>
          <p:nvPr/>
        </p:nvPicPr>
        <p:blipFill>
          <a:blip r:embed="rId2"/>
          <a:stretch/>
        </p:blipFill>
        <p:spPr>
          <a:xfrm>
            <a:off x="2916360" y="1773360"/>
            <a:ext cx="27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48723" t="48732" r="30315" b="23958"/>
          <a:stretch/>
        </p:blipFill>
        <p:spPr>
          <a:xfrm>
            <a:off x="250920" y="981000"/>
            <a:ext cx="2555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arambar caramel, l’orig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quatorze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ntimes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20 Carambars caramel"/>
          <p:cNvPicPr/>
          <p:nvPr/>
        </p:nvPicPr>
        <p:blipFill>
          <a:blip r:embed="rId2"/>
          <a:stretch/>
        </p:blipFill>
        <p:spPr>
          <a:xfrm>
            <a:off x="3348000" y="1197000"/>
            <a:ext cx="2295720" cy="2295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10038" t="32212" r="65159" b="40024"/>
          <a:stretch/>
        </p:blipFill>
        <p:spPr>
          <a:xfrm>
            <a:off x="250920" y="1052640"/>
            <a:ext cx="3024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7:03Z</dcterms:modified>
  <cp:revision>44</cp:revision>
  <dc:subject/>
  <dc:title>Slide 1</dc:title>
</cp:coreProperties>
</file>