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0DE-3999-4BF1-82C5-54DFB3FB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2193-20F2-481F-AC02-F3BE6E74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8C7-B97D-4A2B-8AD5-75508D74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6B08-A46E-484C-984D-A5EE4838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786-CBBA-48D5-9700-35CE88B8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8C9-1117-464D-8138-0F13D41C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A65-A547-47D3-B7C9-79259CB5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862-9385-4F0B-94E8-CB0C0C46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266-794E-463A-B67C-8BCD937F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FD7-09C0-475B-8321-4E2145F0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5F6-9C36-4B9B-B681-91B29855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796-1454-4199-99C3-6E2D4C81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B5A1-B736-49B5-B4BF-86F3899FE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6576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ta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43200" y="2646360"/>
            <a:ext cx="36576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glet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2951280"/>
            <a:ext cx="365760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tats-U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40240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lemag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2768760"/>
            <a:ext cx="3657600" cy="218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spag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264312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20:38Z</dcterms:created>
  <dc:creator>profile</dc:creator>
  <dc:description/>
  <dc:language>en-US</dc:language>
  <cp:lastModifiedBy>CSeccombe</cp:lastModifiedBy>
  <dcterms:modified xsi:type="dcterms:W3CDTF">2008-01-24T11:43:29Z</dcterms:modified>
  <cp:revision>3</cp:revision>
  <dc:subject/>
  <dc:title>Les pays</dc:title>
</cp:coreProperties>
</file>