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0EC-7B18-4AA0-A7D8-52638CAE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EB0-AB3D-43D8-9AFC-C18E4231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6BA-9029-4205-B38B-093CBB3D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768-D4CD-4B0D-BE70-FE3043D9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FA0-43E3-4DC7-B06A-5C9D53F9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B40-860A-4E0C-AA28-A7A4D431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15E-A4AF-4553-BB7A-B4BACECA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7A6-B4CE-47E5-830B-D09590C6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CCA-38ED-43D8-A768-97C2D12F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A84-E779-4FF9-B465-175ABC87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0FC-36AF-43AB-815C-D30A017C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7C8-1396-46D0-B674-518BFCF9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352A-A3A6-45AD-A538-C0A9D8439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6576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ta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3200" y="2646360"/>
            <a:ext cx="36576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glet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2951280"/>
            <a:ext cx="36576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tats-U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40240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lemag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2768760"/>
            <a:ext cx="365760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spag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264312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20:38Z</dcterms:created>
  <dc:creator>profile</dc:creator>
  <dc:description/>
  <dc:language>en-US</dc:language>
  <cp:lastModifiedBy>CSeccombe</cp:lastModifiedBy>
  <dcterms:modified xsi:type="dcterms:W3CDTF">2008-01-24T11:43:29Z</dcterms:modified>
  <cp:revision>3</cp:revision>
  <dc:subject/>
  <dc:title>Les pays</dc:title>
</cp:coreProperties>
</file>