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7FA-80E1-4CFA-8FF6-CE5C36EF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8CF-C3BA-43B7-BDD9-AA5B65BA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292-6E06-47C4-B4FF-6EAF1676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54F-0B16-4418-B1E7-99060CC5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53E-44D2-46A3-B19E-8773A9CF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178-E6E9-49B3-9AFF-AAE5BE45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856-85B9-4454-931B-C3FF83DE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9AA-7B68-444B-A5E6-DE111511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A71-4057-4B83-BD47-1DD8EE96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F89-3A68-47FB-986A-ED5EC28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56A-73DE-4D0D-9CBE-DEEF896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F94-4D5C-488D-98CA-F0527EA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CD5-7292-419A-A403-9C558F7A7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Comic Sans MS"/>
              </a:rPr>
              <a:t>LES NOMBRES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365720"/>
            <a:ext cx="4286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  2  3  4  5  6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b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293"/>
                </a:solidFill>
                <a:latin typeface="Comic Sans MS"/>
              </a:rPr>
              <a:t>  </a:t>
            </a:r>
            <a:endParaRPr b="0" lang="en-US" sz="8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3005" t="22440" r="5889" b="25147"/>
          <a:stretch/>
        </p:blipFill>
        <p:spPr>
          <a:xfrm>
            <a:off x="5580000" y="3068640"/>
            <a:ext cx="2160720" cy="151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35280" y="2924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2189" t="32456" r="11916" b="25147"/>
          <a:stretch/>
        </p:blipFill>
        <p:spPr>
          <a:xfrm>
            <a:off x="5724360" y="3357720"/>
            <a:ext cx="1800360" cy="122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050920" y="2708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-0.07356 C 0.00764000000000001 0.19478 0.14115 0.46334 0.19063 0.46565 C 0.24011 0.46797 0.22274 -0.03146 0.17066 -0.05945 C 0.11858 -0.08744 -0.09653 0.26278 -0.12222 0.29794 C -0.14792 0.33311 -0.03194 0.17673 0.01649 0.15221 C 0.06493 0.12769 0.14271 0.15268 0.16823 0.15059 C 0.19375 0.14851 0.1658 0.14504 0.16945 0.13949 C 0.17309 0.13394 0.21788 0.13718 0.19063 0.11751 C 0.16337 0.09785 0.03577 0.03678 0.0059 0.02198 C -0.02396 0.00717 0.01233 0.02915 0.01181 0.02822 C 0.01129 0.0273 0.0066 0.01782 0.00243 0.01573 C -0.00173 0.01365 -0.0125 0.01828 -0.01285 0.01573 C -0.01319 0.01319 -0.0066 0.00648 -4.72222E-006 -3.16678E-006 E">
                                      <p:cBhvr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2924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6087" t="22440" r="2808" b="30148"/>
          <a:stretch/>
        </p:blipFill>
        <p:spPr>
          <a:xfrm>
            <a:off x="5724360" y="3068640"/>
            <a:ext cx="216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27813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26" t="22440" r="2884" b="27666"/>
          <a:stretch/>
        </p:blipFill>
        <p:spPr>
          <a:xfrm>
            <a:off x="5651640" y="2997360"/>
            <a:ext cx="216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50920" y="2708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6026" t="19920" r="5889" b="27666"/>
          <a:stretch/>
        </p:blipFill>
        <p:spPr>
          <a:xfrm>
            <a:off x="5651640" y="2924280"/>
            <a:ext cx="2089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0920" y="27813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081" t="19970" r="2808" b="25147"/>
          <a:stretch/>
        </p:blipFill>
        <p:spPr>
          <a:xfrm>
            <a:off x="5508720" y="28526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55 0.36757 L 0.06597 0.02128 E">
                                      <p:cBhvr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26:55Z</dcterms:created>
  <dc:creator>profile</dc:creator>
  <dc:description/>
  <dc:language>en-US</dc:language>
  <cp:lastModifiedBy>CSeccombe</cp:lastModifiedBy>
  <dcterms:modified xsi:type="dcterms:W3CDTF">2008-01-24T11:45:28Z</dcterms:modified>
  <cp:revision>3</cp:revision>
  <dc:subject/>
  <dc:title>        LES NOMBRES</dc:title>
</cp:coreProperties>
</file>