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0B82-C8BD-40F5-979A-8AE5DAFD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0AA-5B9F-4D2E-924C-B0F21B44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2850-76D7-40CD-92A9-000C3170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0B0-5927-4C94-B57A-165E89CB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0279-1926-41CB-9FBA-88F8D169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B3FE-EC25-4964-8F58-0B2DB3B3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5C8A-B169-4632-97E1-1FF6B91E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632-0F39-42A1-A2E2-8185359F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8C27-D343-4E67-B3AB-5565D083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9340-BE22-400E-A0E7-A706819F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BD6-F9C5-4686-8817-60747DE4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C4B-B186-4F3D-AD83-EA79CA67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C6A4-7535-43A5-875C-57B6B0D9EE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Comic Sans MS"/>
              </a:rPr>
              <a:t>LES NOMBRES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84360" y="4365720"/>
            <a:ext cx="42861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  2  3  4  5  6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b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fd293"/>
                </a:solidFill>
                <a:latin typeface="Comic Sans MS"/>
              </a:rPr>
              <a:t>  </a:t>
            </a:r>
            <a:endParaRPr b="0" lang="en-US" sz="8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3005" t="22440" r="5889" b="25147"/>
          <a:stretch/>
        </p:blipFill>
        <p:spPr>
          <a:xfrm>
            <a:off x="5580000" y="3068640"/>
            <a:ext cx="2160720" cy="151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835280" y="292428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2189" t="32456" r="11916" b="25147"/>
          <a:stretch/>
        </p:blipFill>
        <p:spPr>
          <a:xfrm>
            <a:off x="5724360" y="3357720"/>
            <a:ext cx="1800360" cy="1223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050920" y="270828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587 -0.07356 C 0.00764000000000001 0.19478 0.14115 0.46334 0.19063 0.46565 C 0.24011 0.46797 0.22274 -0.03146 0.17066 -0.05945 C 0.11858 -0.08744 -0.09653 0.26278 -0.12222 0.29794 C -0.14792 0.33311 -0.03194 0.17673 0.01649 0.15221 C 0.06493 0.12769 0.14271 0.15268 0.16823 0.15059 C 0.19375 0.14851 0.1658 0.14504 0.16945 0.13949 C 0.17309 0.13394 0.21788 0.13718 0.19063 0.11751 C 0.16337 0.09785 0.03577 0.03678 0.0059 0.02198 C -0.02396 0.00717 0.01233 0.02915 0.01181 0.02822 C 0.01129 0.0273 0.0066 0.01782 0.00243 0.01573 C -0.00173 0.01365 -0.0125 0.01828 -0.01285 0.01573 C -0.01319 0.01319 -0.0066 0.00648 -4.72222E-006 -3.16678E-006 E">
                                      <p:cBhvr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050920" y="292428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6087" t="22440" r="2808" b="30148"/>
          <a:stretch/>
        </p:blipFill>
        <p:spPr>
          <a:xfrm>
            <a:off x="5724360" y="3068640"/>
            <a:ext cx="2160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050920" y="27813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6026" t="22440" r="2884" b="27666"/>
          <a:stretch/>
        </p:blipFill>
        <p:spPr>
          <a:xfrm>
            <a:off x="5651640" y="2997360"/>
            <a:ext cx="2160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050920" y="270828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6026" t="19920" r="5889" b="27666"/>
          <a:stretch/>
        </p:blipFill>
        <p:spPr>
          <a:xfrm>
            <a:off x="5651640" y="2924280"/>
            <a:ext cx="20890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50920" y="27813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3081" t="19970" r="2808" b="25147"/>
          <a:stretch/>
        </p:blipFill>
        <p:spPr>
          <a:xfrm>
            <a:off x="5508720" y="2852640"/>
            <a:ext cx="2232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1 E">
                                      <p:cBhvr>
                                        <p:cTn id="6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955 0.36757 L 0.06597 0.02128 E">
                                      <p:cBhvr>
                                        <p:cTn id="6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1:26:55Z</dcterms:created>
  <dc:creator>profile</dc:creator>
  <dc:description/>
  <dc:language>en-US</dc:language>
  <cp:lastModifiedBy>CSeccombe</cp:lastModifiedBy>
  <dcterms:modified xsi:type="dcterms:W3CDTF">2008-01-24T11:45:28Z</dcterms:modified>
  <cp:revision>3</cp:revision>
  <dc:subject/>
  <dc:title>        LES NOMBRES</dc:title>
</cp:coreProperties>
</file>