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976-D06B-4634-B7F3-FF3A2206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92D-9AD1-44DC-8ECA-0534E65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A87-0275-40B5-B73E-3F48E2BC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0F9-AAAF-408E-A1FD-23E93B6F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DA8-A6AD-418D-B1F4-6D25AD5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825-EEEF-40A8-B63D-DEA623BF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4A7-12FB-4EEF-B3AC-6219313A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BD9-4F85-4446-BDB3-4B80E22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4DD-4055-4B7E-8716-5E87CD9F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05-221B-4BDB-8489-63527E3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BB0-206B-4D1D-9882-BEFF22B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906-69B4-4000-BF0F-178A0ACA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24F-CC15-4AF4-BA0D-F26136BE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be_Simpso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s membres de la famil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29160" y="2252520"/>
            <a:ext cx="18856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01920" y="2166840"/>
            <a:ext cx="2540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f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14680" y="2405160"/>
            <a:ext cx="2114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so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9440" y="2266920"/>
            <a:ext cx="1905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 grand-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492280"/>
            <a:ext cx="1666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a grand-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24400" y="307656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18:37Z</dcterms:created>
  <dc:creator>profile</dc:creator>
  <dc:description/>
  <dc:language>en-US</dc:language>
  <cp:lastModifiedBy>CSeccombe</cp:lastModifiedBy>
  <dcterms:modified xsi:type="dcterms:W3CDTF">2008-01-24T11:48:40Z</dcterms:modified>
  <cp:revision>3</cp:revision>
  <dc:subject/>
  <dc:title>Les membres de la famille</dc:title>
</cp:coreProperties>
</file>