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36D7-966E-41DB-8942-0C3A20A98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E9AE-B4CC-4556-B84F-B020C482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BA16-4716-4FFC-B09B-58B0C5844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AA15-4148-4666-82D6-1DDC6C20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4233-45E2-45A1-80FF-CEEF4BC7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2FE4-6AC6-43BC-B75C-2B98520A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B20B-E2CE-4DD6-819B-3B66F888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FA30-863A-4FB3-9077-82167FFD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0DE3-B4C3-41BF-9BD1-05C115DA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2053-A36B-4455-B6C4-767AE37B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95EF-4E74-492B-AD08-B6595659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71F5-AAC2-4079-9F4B-CF557196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8F86-E152-4464-B6CE-D173AB6FC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Abe_Simpson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es membres de la famil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a m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Arial"/>
              </a:rPr>
              <a:t>è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629160" y="2252520"/>
            <a:ext cx="18856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 p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Arial"/>
              </a:rPr>
              <a:t>è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301920" y="2166840"/>
            <a:ext cx="25401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 fr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Arial"/>
              </a:rPr>
              <a:t>è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514680" y="2405160"/>
            <a:ext cx="21146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a soe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19440" y="2266920"/>
            <a:ext cx="19051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 grand-p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Arial"/>
              </a:rPr>
              <a:t>è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2492280"/>
            <a:ext cx="16668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a grand-m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Arial"/>
              </a:rPr>
              <a:t>è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524400" y="3076560"/>
            <a:ext cx="20952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1:18:37Z</dcterms:created>
  <dc:creator>profile</dc:creator>
  <dc:description/>
  <dc:language>en-US</dc:language>
  <cp:lastModifiedBy>CSeccombe</cp:lastModifiedBy>
  <dcterms:modified xsi:type="dcterms:W3CDTF">2008-01-24T11:48:40Z</dcterms:modified>
  <cp:revision>3</cp:revision>
  <dc:subject/>
  <dc:title>Les membres de la famille</dc:title>
</cp:coreProperties>
</file>