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244-1B8D-430A-A8D4-A794A9D0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C8A-5C9A-46F3-931B-0CCC618F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7E1-CAD2-435C-B20F-E5B5A199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599-890D-46B7-9878-5018ACE8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7EF-29CD-4670-82FB-1599E4EC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BF6-826E-469D-B580-926FE8A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DEB-3337-4579-B710-374BF20F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626-4149-4171-9CC9-EC84C1EC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205-3AF9-4609-BF64-1F28CD9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3FC-47D0-4A0B-B243-CB58BFD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BE2-0338-4503-A737-4A64D6E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642-032B-460A-AFBD-A3034D8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C70-5B4E-4A7F-9B73-A180390E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620640"/>
            <a:ext cx="4680000" cy="2448000"/>
          </a:xfrm>
          <a:prstGeom prst="wedgeRoundRectCallout">
            <a:avLst>
              <a:gd name="adj1" fmla="val -63296"/>
              <a:gd name="adj2" fmla="val 9974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’appe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sa Simp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s for using this PowerPo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For practising the members of the family, it uses people that pupils will know about.  Practise the vocabulary as mon/ma + family word,  and then you will be able to build sentences up like “mon père s’appelle Homer”.  Later pupils will be able to tell you a sentence about their own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Giving each pupil the 4 Simpsons pictures (no writing), say the French words and they have to hold up the right picture.  E.g. you say “mon père” and they hold up a picture of Homer.  They can do this in pairs, race against the clock, one pupil at each table say the words for the others at the tabl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Give pupils have a blank sheet of paper / mini-whiteboard to quickly draw members of their family and then say a short presentation to introduce the members of their family.  They can start off saying it to their partner and then to the whole class if they’re brave en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4360" y="620640"/>
            <a:ext cx="4680000" cy="1871640"/>
          </a:xfrm>
          <a:prstGeom prst="wedgeRoundRectCallout">
            <a:avLst>
              <a:gd name="adj1" fmla="val -63296"/>
              <a:gd name="adj2" fmla="val 145842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ici ma famil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Homer Simpson, Arms Crossed"/>
          <p:cNvPicPr/>
          <p:nvPr/>
        </p:nvPicPr>
        <p:blipFill>
          <a:blip r:embed="rId2"/>
          <a:stretch/>
        </p:blipFill>
        <p:spPr>
          <a:xfrm>
            <a:off x="3132000" y="333360"/>
            <a:ext cx="415476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1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n p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8077" t="6693" r="39038" b="11942"/>
          <a:stretch/>
        </p:blipFill>
        <p:spPr>
          <a:xfrm>
            <a:off x="4572000" y="1052640"/>
            <a:ext cx="1143000" cy="41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1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4207" t="31627" r="35168" b="23753"/>
          <a:stretch/>
        </p:blipFill>
        <p:spPr>
          <a:xfrm>
            <a:off x="4140360" y="1197000"/>
            <a:ext cx="2538360" cy="41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n fr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76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Maggie Simpson"/>
          <p:cNvPicPr/>
          <p:nvPr/>
        </p:nvPicPr>
        <p:blipFill>
          <a:blip r:embed="rId1"/>
          <a:stretch/>
        </p:blipFill>
        <p:spPr>
          <a:xfrm>
            <a:off x="2340000" y="-892080"/>
            <a:ext cx="5648400" cy="832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 so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98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g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Maggie Simpson"/>
          <p:cNvPicPr/>
          <p:nvPr/>
        </p:nvPicPr>
        <p:blipFill>
          <a:blip r:embed="rId1"/>
          <a:stretch/>
        </p:blipFill>
        <p:spPr>
          <a:xfrm>
            <a:off x="3708360" y="2421000"/>
            <a:ext cx="3792600" cy="558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Homer Simpson, Arms Crossed"/>
          <p:cNvPicPr/>
          <p:nvPr/>
        </p:nvPicPr>
        <p:blipFill>
          <a:blip r:embed="rId3"/>
          <a:stretch/>
        </p:blipFill>
        <p:spPr>
          <a:xfrm>
            <a:off x="2124000" y="1413000"/>
            <a:ext cx="2770200" cy="34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8077" t="6693" r="39038" b="11942"/>
          <a:stretch/>
        </p:blipFill>
        <p:spPr>
          <a:xfrm>
            <a:off x="7164360" y="1700280"/>
            <a:ext cx="94608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24207" t="31627" r="35168" b="23753"/>
          <a:stretch/>
        </p:blipFill>
        <p:spPr>
          <a:xfrm>
            <a:off x="4859280" y="836640"/>
            <a:ext cx="1292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170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39:15Z</dcterms:created>
  <dc:creator>CSeccombe</dc:creator>
  <dc:description/>
  <dc:language>en-US</dc:language>
  <cp:lastModifiedBy>Clare</cp:lastModifiedBy>
  <dcterms:modified xsi:type="dcterms:W3CDTF">2008-04-24T20:25:30Z</dcterms:modified>
  <cp:revision>6</cp:revision>
  <dc:subject/>
  <dc:title>Slide 1</dc:title>
</cp:coreProperties>
</file>