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F29-25D4-42F1-BBE7-0A412E16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C05-1F6A-4BEF-9A40-363AFEBE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1CE-0BEE-46E9-AF22-2B33BF2F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132-5FCE-4542-9FAF-3B31137B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9C9-7E4C-4083-AE4E-8228BCCB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BC6-126F-4364-919C-6A144986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EF4-B3AF-4485-BC21-4F2D5D9F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A25-8938-457C-A6CC-6F2A20F0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006-C5E6-402A-A452-E442A2E7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418-179F-4175-8E28-962B498F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DB5-1D6A-4135-8CEA-C1D07CBF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A4C-55B7-469D-BCBE-85958FEE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F428-D4BC-41D9-8CEC-7683439C1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1298" t="34252" r="35817" b="22441"/>
          <a:stretch/>
        </p:blipFill>
        <p:spPr>
          <a:xfrm>
            <a:off x="179280" y="3068640"/>
            <a:ext cx="1855800" cy="360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4360" y="620640"/>
            <a:ext cx="4680000" cy="2448000"/>
          </a:xfrm>
          <a:prstGeom prst="wedgeRoundRectCallout">
            <a:avLst>
              <a:gd name="adj1" fmla="val -63296"/>
              <a:gd name="adj2" fmla="val 99740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onjou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’appel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sa Simp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89000"/>
            <a:ext cx="878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s for using this PowerPo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For practising the members of the family, it uses people that pupils will know about.  Practise the vocabulary as mon/ma + family word,  and then you will be able to build sentences up like “mon père s’appelle Homer”.  Later pupils will be able to tell you a sentence about their own fam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Giving each pupil the 4 Simpsons pictures (no writing), say the French words and they have to hold up the right picture.  E.g. you say “mon père” and they hold up a picture of Homer.  They can do this in pairs, race against the clock, one pupil at each table say the words for the others at the tabl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Give pupils have a blank sheet of paper / mini-whiteboard to quickly draw members of their family and then say a short presentation to introduce the members of their family.  They can start off saying it to their partner and then to the whole class if they’re brave en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31298" t="34252" r="35817" b="22441"/>
          <a:stretch/>
        </p:blipFill>
        <p:spPr>
          <a:xfrm>
            <a:off x="179280" y="3068640"/>
            <a:ext cx="1855800" cy="360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84360" y="620640"/>
            <a:ext cx="4680000" cy="1871640"/>
          </a:xfrm>
          <a:prstGeom prst="wedgeRoundRectCallout">
            <a:avLst>
              <a:gd name="adj1" fmla="val -63296"/>
              <a:gd name="adj2" fmla="val 145842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ici ma famil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31298" t="34252" r="35817" b="22441"/>
          <a:stretch/>
        </p:blipFill>
        <p:spPr>
          <a:xfrm>
            <a:off x="179280" y="3068640"/>
            <a:ext cx="1855800" cy="360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Homer Simpson, Arms Crossed"/>
          <p:cNvPicPr/>
          <p:nvPr/>
        </p:nvPicPr>
        <p:blipFill>
          <a:blip r:embed="rId2"/>
          <a:stretch/>
        </p:blipFill>
        <p:spPr>
          <a:xfrm>
            <a:off x="3132000" y="333360"/>
            <a:ext cx="4154760" cy="518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9640" y="189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5373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n pè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8077" t="6693" r="39038" b="11942"/>
          <a:stretch/>
        </p:blipFill>
        <p:spPr>
          <a:xfrm>
            <a:off x="4572000" y="1052640"/>
            <a:ext cx="1143000" cy="417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31298" t="34252" r="35817" b="22441"/>
          <a:stretch/>
        </p:blipFill>
        <p:spPr>
          <a:xfrm>
            <a:off x="179280" y="3068640"/>
            <a:ext cx="1855800" cy="3602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80000" y="5373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 mè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189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4207" t="31627" r="35168" b="23753"/>
          <a:stretch/>
        </p:blipFill>
        <p:spPr>
          <a:xfrm>
            <a:off x="4140360" y="1197000"/>
            <a:ext cx="2538360" cy="4105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31298" t="34252" r="35817" b="22441"/>
          <a:stretch/>
        </p:blipFill>
        <p:spPr>
          <a:xfrm>
            <a:off x="179280" y="3068640"/>
            <a:ext cx="1855800" cy="3602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84720" y="5373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on frè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476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Maggie Simpson"/>
          <p:cNvPicPr/>
          <p:nvPr/>
        </p:nvPicPr>
        <p:blipFill>
          <a:blip r:embed="rId1"/>
          <a:stretch/>
        </p:blipFill>
        <p:spPr>
          <a:xfrm>
            <a:off x="2340000" y="-892080"/>
            <a:ext cx="5648400" cy="8324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31298" t="34252" r="35817" b="22441"/>
          <a:stretch/>
        </p:blipFill>
        <p:spPr>
          <a:xfrm>
            <a:off x="179280" y="3068640"/>
            <a:ext cx="1855800" cy="3602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80000" y="5373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 so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981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g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Maggie Simpson"/>
          <p:cNvPicPr/>
          <p:nvPr/>
        </p:nvPicPr>
        <p:blipFill>
          <a:blip r:embed="rId1"/>
          <a:stretch/>
        </p:blipFill>
        <p:spPr>
          <a:xfrm>
            <a:off x="3708360" y="2421000"/>
            <a:ext cx="3792600" cy="5589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31298" t="34252" r="35817" b="22441"/>
          <a:stretch/>
        </p:blipFill>
        <p:spPr>
          <a:xfrm>
            <a:off x="179280" y="3068640"/>
            <a:ext cx="1855800" cy="3602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Homer Simpson, Arms Crossed"/>
          <p:cNvPicPr/>
          <p:nvPr/>
        </p:nvPicPr>
        <p:blipFill>
          <a:blip r:embed="rId3"/>
          <a:stretch/>
        </p:blipFill>
        <p:spPr>
          <a:xfrm>
            <a:off x="2124000" y="1413000"/>
            <a:ext cx="2770200" cy="345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rcRect l="28077" t="6693" r="39038" b="11942"/>
          <a:stretch/>
        </p:blipFill>
        <p:spPr>
          <a:xfrm>
            <a:off x="7164360" y="1700280"/>
            <a:ext cx="946080" cy="345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rcRect l="24207" t="31627" r="35168" b="23753"/>
          <a:stretch/>
        </p:blipFill>
        <p:spPr>
          <a:xfrm>
            <a:off x="4859280" y="836640"/>
            <a:ext cx="12924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41708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21:39:15Z</dcterms:created>
  <dc:creator>CSeccombe</dc:creator>
  <dc:description/>
  <dc:language>en-US</dc:language>
  <cp:lastModifiedBy>Clare</cp:lastModifiedBy>
  <dcterms:modified xsi:type="dcterms:W3CDTF">2008-04-24T20:25:30Z</dcterms:modified>
  <cp:revision>6</cp:revision>
  <dc:subject/>
  <dc:title>Slide 1</dc:title>
</cp:coreProperties>
</file>