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799-D25D-4101-B8C1-5A939BD6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A39-662D-4903-A8BD-FD1DF5DB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849-0110-4C66-91EB-E2BD284D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AE7-145D-4D2C-86CC-E20FDD42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B44F-1066-446D-8EE4-B157D419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17D0-6BC1-4B61-B7D5-1107EE80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9702-36B0-4B5D-8900-6D1B7E4C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445C-1A5B-4947-ABAB-42F49B0C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3EC2-C58D-4C84-8E34-AE97154B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E19C-CCC2-40B9-BD0F-399E2EE0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D149-8647-4E66-9406-7D381C8D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EA4-EF57-446D-9D23-28411B04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099C-EBF8-471C-A0FD-C6A9866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C736-48AB-4F8B-A91C-7D7073CA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D482-F81A-481B-BD40-BF6B6468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2134-6AF2-483D-8B08-3290D06B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D41A-A160-4DFF-9906-A4483CB8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19ED-F65C-4FB3-A224-3782054E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2379-AE4A-48D3-B7C8-1EC853BA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C9D0-77AD-4DC2-AE73-583ABF2B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E2AEF-773C-4D7F-8180-B6E7F01A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D78A0-6AF2-4FA8-BEDB-9108C358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458-1626-4A31-B4A3-7E2B0AE2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D999F-2FF8-45A6-8B0A-4D6DFF32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3030-A4A1-4D4A-A766-0A453734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ECE8-E6E1-42FB-BE9A-2D5D1423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5C6B-5E15-4791-A56C-EB90C8B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3FBB-38F0-4C00-B279-56EB24F6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CDD1-0719-419F-A8EE-A74DF6A2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79A7-2AB7-4E83-92F0-BD142A47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0E296-5BC4-42EE-B1ED-454C2758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A24B-3CED-4F30-892D-1E7F6A63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EA92-9290-4C80-992C-0C204CF1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029-AA01-4139-AB60-D48E22CB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EB872-C876-44CE-B015-4A96A0FF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AA4F-639D-497F-8159-0A55E5CE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B09CC-9FD3-4226-92E9-28AED806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449F-CC11-4C1F-9287-615232E9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A750-DF60-4835-A28E-98C004DF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D18E-9893-4B34-9C5A-BD436BE2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F032-AE3A-4649-9318-EA050380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8FA8E-281B-49A8-8AC7-5AC8005E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24C41-D9BC-46D4-8A4A-D567C304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E79-3F3E-4F2A-9625-6EA5D283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474-3ECE-4957-AF79-AE1D5F07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0B2-7BC2-4FAE-A2A9-16DCDF73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1A7-466E-425E-9E23-19294FC8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DA4-CE8C-4052-A28B-5F3646B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F79C-502A-4FF2-A8B0-9EA002DFF8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B326-DA41-4BD1-9482-BF7CC6BD60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E681-2292-4EAC-8477-30FDA9A0002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E58F-23A5-4A1C-9DE6-9E422FF9D12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1890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Quel âge as-tu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700280"/>
          <a:ext cx="9144000" cy="3198600"/>
        </p:xfrm>
        <a:graphic>
          <a:graphicData uri="http://schemas.openxmlformats.org/drawingml/2006/table">
            <a:tbl>
              <a:tblPr/>
              <a:tblGrid>
                <a:gridCol w="2843280"/>
                <a:gridCol w="1996920"/>
                <a:gridCol w="844560"/>
                <a:gridCol w="1230480"/>
                <a:gridCol w="1152360"/>
                <a:gridCol w="1076400"/>
              </a:tblGrid>
              <a:tr h="6426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’appell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uci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atte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amill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ntoin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uca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46:26Z</dcterms:modified>
  <cp:revision>36</cp:revision>
  <dc:subject/>
  <dc:title>Slide 1</dc:title>
</cp:coreProperties>
</file>