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88B-23E6-4CC0-8B9F-C3C3BED9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C38-CF1A-4F08-86AE-FFBCB4A5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6F5-D86F-4576-8526-66E7B9E4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5B9-BECC-42DF-AD00-A45308D1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8B7B-6017-4F15-ADAC-4CC5D73A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4531-B1B9-4B43-BAF7-2232695E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B38F-68FB-43E9-BE1C-8416CCB5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1982-97F8-474C-B7AB-0C176783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A51D-93B5-4EB3-AC60-EDD8199A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8D15-2476-4802-B009-DBB304DF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4AAB-AD99-47E4-B9E2-9A9DFD0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347-525C-4C6A-80F4-2FFD4D2E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4A8F-F8D0-4C07-B1F5-30AB5F9D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0932-5D45-49EE-8644-3558403A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1F43-6A06-4E0B-93E8-C074D8BD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9791-A9CD-4E95-A61E-B58BCBF0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C121-C5BE-4C60-A9F3-01FCDCA8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C8B70-5155-4171-8DC8-008138F7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4102-4F03-46BD-83A1-8B88F54D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EBE1A-EDC2-496F-963F-7D7135B0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FB05-FFDD-46DF-A500-D7C194AD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2090-537C-403B-A769-A4509FA4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407-2265-4077-8082-2F2D3CBA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67F6-E4D3-487C-B0FB-1C0611BD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E76A3-9D93-498A-B420-08AFF447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A131-8805-4165-B54A-99F75DD6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B49BE-153C-4216-9FB3-341E123E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4C45-A96A-4815-A846-8132D528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BF9F-AED2-40D7-8E77-DF49D951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C1744-B019-45E4-BE79-64814961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55BC9-C9BA-4663-9494-5F02187F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2F809-E71E-4119-BC62-9E9BEABA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425B7-3EB1-4990-A635-468BE160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AC5-E285-455F-8550-3196125D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06FD3-568E-4331-B769-A728C1EC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A2DB6-43A6-44FC-B400-9B74F293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13F4C-6EF8-4E5C-B1AA-C0881EEB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75093-A8FD-4412-AA1F-84DF7F5C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0E96-5A51-49AD-A84D-A936AFEE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3EB2-D6E1-4BD0-B881-ABAC683B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B1106-BEED-49E1-90DA-A400E0BF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FAD09-1133-4201-8CA2-BBF8171F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137AD-00D7-4550-BA3B-895A403C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C72-06DE-4E4C-8508-E5BDF917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D2F-55E2-4761-B9C8-60430BEC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7AA-6870-4571-B342-9C3FBAFD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CDA-9762-4F10-99FD-C0BE9AA6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CB3-D945-44D4-9F15-B938579E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4941-75DA-4510-8690-5D8F53037F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73B8-7727-47D1-B492-EEAD27D7C4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8B90-FAA5-452E-9747-E4F42B08D1A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3632-D7D1-4AB1-B5DA-43EC464797A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1890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Quel âge as-tu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700280"/>
          <a:ext cx="9144000" cy="3198600"/>
        </p:xfrm>
        <a:graphic>
          <a:graphicData uri="http://schemas.openxmlformats.org/drawingml/2006/table">
            <a:tbl>
              <a:tblPr/>
              <a:tblGrid>
                <a:gridCol w="2843280"/>
                <a:gridCol w="1996920"/>
                <a:gridCol w="844560"/>
                <a:gridCol w="1230480"/>
                <a:gridCol w="1152360"/>
                <a:gridCol w="1076400"/>
              </a:tblGrid>
              <a:tr h="6426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’appell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uci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’a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s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atte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amill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ntoin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uca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02-20T11:46:26Z</dcterms:modified>
  <cp:revision>36</cp:revision>
  <dc:subject/>
  <dc:title>Slide 1</dc:title>
</cp:coreProperties>
</file>