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7AE-812C-4972-9686-385FDC9845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7DD0-AC56-47A5-BB66-30FE37FD5456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18AF-3839-423E-8190-B078A668E79B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DC9A-D561-4F64-8830-373512643C81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4E71-5926-4F14-B249-372629C95B99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23B6-40EE-4C2D-BAFC-89D26DB813E1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FB6-3458-495E-8DE9-B5329F25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F91-2058-4F7C-BFB1-94D9147E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96C-76C1-437E-B7D2-DD46B9A8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37C-1EA1-4AD7-9E6D-86C66C10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AB9B-C67C-4B83-AF4D-BBDAFC88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8450-CF5D-46C1-B9AE-B94BB8E3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CB12-B89E-429F-96E9-4E919A70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C780-B99F-40FB-BEE1-FC7CE235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048C-4C45-431D-AC28-2AC4FAD3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C607-6638-4820-9137-82B3E885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EA25-1E1B-4DE5-B9BF-D0DB9010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471-9A49-4860-A088-A8F6744C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07BF-C61E-437F-9F9B-C426FB29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133C-9F16-451A-BEBB-8A92B67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D600-5CBC-4508-BE26-34B5E4FA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11A7-4246-474C-A79C-61B6864A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9711-E139-46AF-B5D2-51017E1A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585B-83E6-47AD-870A-01954AE2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C9CB-81E8-443F-BB5F-5403E427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79840-A972-45CD-BEF3-17BA9D0F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A837-FAE0-469C-A130-8EF4F74A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0B62-0026-4EBF-A00C-0CE94BCD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E40-6E5C-47BF-B832-7E7BAA63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2F24-0BDB-4317-9AA1-6E2CDE2A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4AAB-BA56-423E-9B31-C0BD8D9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A1C1-82C1-4504-9526-7D905299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CF2B6-3AAB-4A37-9371-0B340232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B4E0-256D-48A3-A192-1A3160CB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A4BED-32F7-4985-B6EC-3258B513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3EA8-6A35-410E-8221-D2691B5A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9C9B2-B8D4-4B08-A552-8E9D740F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F846-FD83-4BD8-AE65-FD224D93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0C53-7CFD-4F3B-9E67-DAB9A109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0E0-AFB6-4947-B330-75179AD1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085E-1F9C-4C27-A268-D6EB2299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F3609-82C3-43CC-AB63-F9C6BC43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B0B99-2DC6-49CB-91B0-FEF42457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CBF9-88BE-4FC7-9768-8337EF7B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7EB1-05B1-44A5-8A30-0F066B72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C60C5-3E7C-44BF-BA5E-80B2A29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EDBE-6F00-4540-9A91-74F50C0C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9DEEB-A17F-4C1C-A255-389597FF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32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8460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018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32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8460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1B03-9646-4F60-8C0B-93A41305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7C3-83DD-4772-8D6C-6E66B996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144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569-6942-4ECE-91BB-D4ABC69E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C72-817D-4B7A-A7D6-B1589284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032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19D-10D0-4609-B9AD-BBE8E739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180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032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180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689-9489-458A-8BC2-1BBC9462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10CA-DAE8-4B17-A6F3-37BC6CCCB9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2272-6C2A-463A-ADE4-70BE2264CB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D5AF-3625-4CF1-BAED-898242414B5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88E3-57E1-4255-8478-4EC09D04528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MCj03831540000[1]" descr=""/>
          <p:cNvPicPr/>
          <p:nvPr/>
        </p:nvPicPr>
        <p:blipFill>
          <a:blip r:embed="rId2"/>
          <a:stretch/>
        </p:blipFill>
        <p:spPr>
          <a:xfrm>
            <a:off x="2771640" y="476280"/>
            <a:ext cx="4386240" cy="619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95640" y="2997360"/>
            <a:ext cx="187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MCj03831540000[1]" descr=""/>
          <p:cNvPicPr/>
          <p:nvPr/>
        </p:nvPicPr>
        <p:blipFill>
          <a:blip r:embed="rId2"/>
          <a:stretch/>
        </p:blipFill>
        <p:spPr>
          <a:xfrm>
            <a:off x="2771640" y="476280"/>
            <a:ext cx="4386240" cy="6192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95640" y="2997360"/>
            <a:ext cx="187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MCj03831540000[1]" descr=""/>
          <p:cNvPicPr/>
          <p:nvPr/>
        </p:nvPicPr>
        <p:blipFill>
          <a:blip r:embed="rId2"/>
          <a:stretch/>
        </p:blipFill>
        <p:spPr>
          <a:xfrm>
            <a:off x="2771640" y="476280"/>
            <a:ext cx="4386240" cy="6192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95640" y="2997360"/>
            <a:ext cx="187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MCj03831540000[1]" descr=""/>
          <p:cNvPicPr/>
          <p:nvPr/>
        </p:nvPicPr>
        <p:blipFill>
          <a:blip r:embed="rId2"/>
          <a:stretch/>
        </p:blipFill>
        <p:spPr>
          <a:xfrm>
            <a:off x="2771640" y="476280"/>
            <a:ext cx="4386240" cy="6192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5640" y="2997360"/>
            <a:ext cx="187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03640" y="4338720"/>
            <a:ext cx="3961080" cy="2519280"/>
          </a:xfrm>
          <a:prstGeom prst="wedgeRoundRectCallout">
            <a:avLst>
              <a:gd name="adj1" fmla="val -44069"/>
              <a:gd name="adj2" fmla="val -7054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-1189080" y="0"/>
            <a:ext cx="10333080" cy="6888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83280" y="0"/>
            <a:ext cx="3960720" cy="2519280"/>
          </a:xfrm>
          <a:prstGeom prst="wedgeRoundRectCallout">
            <a:avLst>
              <a:gd name="adj1" fmla="val -49037"/>
              <a:gd name="adj2" fmla="val 144768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33080" cy="6886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859280" y="4076640"/>
            <a:ext cx="3960720" cy="2519280"/>
          </a:xfrm>
          <a:prstGeom prst="wedgeRoundRectCallout">
            <a:avLst>
              <a:gd name="adj1" fmla="val -46912"/>
              <a:gd name="adj2" fmla="val -8377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10260000" cy="6840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338720"/>
            <a:ext cx="3961080" cy="2519280"/>
          </a:xfrm>
          <a:prstGeom prst="wedgeRoundRectCallout">
            <a:avLst>
              <a:gd name="adj1" fmla="val -45148"/>
              <a:gd name="adj2" fmla="val -74574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-324000" y="-674640"/>
            <a:ext cx="5391360" cy="8086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859280" y="-387360"/>
            <a:ext cx="5173560" cy="77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2-02-20T11:45:53Z</dcterms:modified>
  <cp:revision>33</cp:revision>
  <dc:subject/>
  <dc:title>Slide 1</dc:title>
</cp:coreProperties>
</file>