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C388-F738-4BBA-BA72-962504C6D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6D9-3257-4666-9803-DA1DA8FBBFB3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85DC-59C6-4A17-8A60-5EE3B4BBEA9F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345-55B7-48D9-B941-9ACFC8DDC026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C3A0-63E7-4CA6-AC26-A96CB3E84E7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0B3A-26E2-4E63-B503-735EDFBED528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43B-B434-4C11-8E71-5055A693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F84-9D25-48A1-A21E-C8C3B8BB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6CE-94A6-4B14-A90C-3AAF2619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2E1-F833-41D9-BBF0-F4959E80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A504-94C7-489C-B6D9-C0833AE2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AE02-32B6-493B-8A81-246988C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C35-991B-4720-942B-868BD84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9EC4-56CA-411D-8217-48D79AE5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79FA-9E8F-49AE-9847-F67429C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08DF-F050-40A4-9156-BAD1B2D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62AB-CC31-48E0-87E8-3FAFFE6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3B3-7E68-4DA5-BBBC-FB767B46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7BB-6C53-4A56-9688-3AAAC40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C16F-8723-49FA-904B-FFFB3344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AC0-A51F-45B6-85DC-70A5F625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683C-983F-465F-8EA7-5EC6CD10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B48-5B6C-4D76-8262-FC90E6F2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1501-3B41-4A57-9D0A-AA1A27C5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8F90-DABE-4813-A9E2-2217254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9F0E-7BF8-42E8-9251-BFBB4871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1A59-C947-4993-A67F-D9DD939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493A-54E0-4ABF-9D04-405CD33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E68-F7B8-4E4D-90A4-A656F9D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455C-C1E7-47F1-BF66-00B3244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B6F3-4BF8-4A04-B428-F535F48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91AA-C5E9-4FE3-AAB8-00F806D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BABF-4DC0-4919-B7F4-ED53D53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B926-2787-4AD4-BFDA-C3CCC32F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F972-5AA1-4F10-9E87-910B8AE7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D711-32FB-4B2F-ADF1-C79109B3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4005-B831-4BEF-AD06-1821BB76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AFC2-04C7-46E1-BCD0-54F98CB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288B-9E1F-4946-8B82-09CEE074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33B-7F94-45CA-A8F9-8627943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2CBA-6C53-47F3-AD8D-CCF2D35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4487-1568-4C97-896C-A0FDA585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17AA-D21D-423E-8A57-3EF6813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D128-79BB-45C0-B959-016D4BC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5E8E-DFF4-4F09-B034-9C29E9A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F4B5-6089-4A91-9162-B102173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004F-5739-42C1-8545-8739ACB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2B76-5711-46E4-B1AE-3DBA249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02FA-36A0-4EB2-BD73-E365FA9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8FA-B276-4BAC-8BA8-233E6FE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8DC-29A4-42C2-B9D3-9F2D022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2E8-C6C1-488B-9364-CA0257E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81B-E871-48E7-A307-1EBC48D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CEC-435A-437B-9E25-56C5C4B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2D22-862F-4437-BC54-E6507E3EDA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BDC-0580-4764-8EB4-940686101A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EB3-B944-4C41-B425-7A644B75327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FA06-C9AB-48E2-BBBF-F09982B8A3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03640" y="4338720"/>
            <a:ext cx="3961080" cy="2519280"/>
          </a:xfrm>
          <a:prstGeom prst="wedgeRoundRectCallout">
            <a:avLst>
              <a:gd name="adj1" fmla="val -44069"/>
              <a:gd name="adj2" fmla="val -7054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-1189080" y="0"/>
            <a:ext cx="10333080" cy="6888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3280" y="0"/>
            <a:ext cx="3960720" cy="2519280"/>
          </a:xfrm>
          <a:prstGeom prst="wedgeRoundRectCallout">
            <a:avLst>
              <a:gd name="adj1" fmla="val -49037"/>
              <a:gd name="adj2" fmla="val 14476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33080" cy="6886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59280" y="4076640"/>
            <a:ext cx="3960720" cy="2519280"/>
          </a:xfrm>
          <a:prstGeom prst="wedgeRoundRectCallout">
            <a:avLst>
              <a:gd name="adj1" fmla="val -46912"/>
              <a:gd name="adj2" fmla="val -8377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260000" cy="684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338720"/>
            <a:ext cx="3961080" cy="2519280"/>
          </a:xfrm>
          <a:prstGeom prst="wedgeRoundRectCallout">
            <a:avLst>
              <a:gd name="adj1" fmla="val -45148"/>
              <a:gd name="adj2" fmla="val -74574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24000" y="-674640"/>
            <a:ext cx="5391360" cy="8086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859280" y="-387360"/>
            <a:ext cx="5173560" cy="77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45:53Z</dcterms:modified>
  <cp:revision>33</cp:revision>
  <dc:subject/>
  <dc:title>Slide 1</dc:title>
</cp:coreProperties>
</file>