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C96-A803-4A4D-99EC-F6733F71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9BB-D4EC-4353-A67B-FA029CE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E8F-AE74-4B85-9E3D-D58D1270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570-F284-44A5-9791-CA421B3F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50F3-D885-45C8-B4D4-CEA27817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B08-39CA-4282-BB40-0C4976B1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594-6B23-43EE-BF18-56E1A838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5046-21F2-4C10-A3A7-A5B66BFE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898-0342-4C37-9AE3-487715CC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80F-F678-47D1-9919-89FB259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29F3-76F7-444D-B2CB-06A8FAF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737-6268-46A4-B1CC-D24862F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F6EB-8A54-448F-970D-4E69FFA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50C-D502-439F-A62E-8ADC810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5A5F-899A-49FC-93D7-58D5481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8CC-CA57-4BDB-A789-4B648698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F689-1103-4F1D-BD87-89EF0966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C361-493E-47F8-AD90-312EA1DC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079E-A6A4-49C1-B580-7F73BEA2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3CDD-66F9-4E96-949A-446E336D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F31D-F88A-4A47-96B4-892562E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30E8-3B2C-4856-98A0-6C9FF386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910-D012-4B43-AD8E-F8F423B2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9DAF-0F6C-40FD-BEA4-9D86B49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C354-957C-45E1-908E-95EC5C3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4AA0-0C07-4C43-AB9D-AB3F030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FCD4-B607-410A-86BB-94FDA57E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ECB0-FF75-4C97-AD4B-F369EB9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D904-81A8-4785-92BC-A0196AA9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DD3F-1E8D-4F22-AB7C-EBCB41EF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9ED7-72E4-444D-BFB3-CF936E99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C9CD-EEBE-4AAD-B5C6-5350E84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7B43-117C-4EB7-B261-E000323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41D-8883-4DAC-9FE2-B5F7FE32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C626-A4E6-4E54-90C4-192544C6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137B-E619-4999-8F2C-6698CC86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53CF-E8D9-45CF-8B00-598163E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A44D0-646E-4429-A814-91B5CB6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FDF7-71B0-4652-885F-AC550EA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23F9-DBA8-4F02-A85B-2F6A9F0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D8BA-753D-4919-9A1F-95093416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21B7-C94D-4E33-BD6B-75BE379F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A939-AFAC-4CEC-97CE-C35C0A06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CA4-1B69-4296-8A1C-E6CE7FD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57A-E14A-401D-A72C-D61E089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FBD-A665-4F8B-A210-EA2B9B6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B8E-9243-4134-BEBC-F0D91AC7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B56-F2E8-4595-9C78-097D4F1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9A05-6E7E-45AD-9844-26F13F38A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3D5C-242E-44EC-B285-DCB249379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0C0-7B2A-4FB9-A6F6-EF34DC375C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DA48-C0D6-4D9E-890D-21DB8F18A0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rrondis les chiffr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573360"/>
            <a:ext cx="0" cy="1150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87280" y="1125000"/>
            <a:ext cx="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7664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upérieu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féri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126720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141192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5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162756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84356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4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205956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227556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249120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70720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5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292320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13884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5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4T23:58:13Z</dcterms:modified>
  <cp:revision>39</cp:revision>
  <dc:subject/>
  <dc:title>Slide 1</dc:title>
</cp:coreProperties>
</file>