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546-C9F5-4675-BC26-D77225AD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E9C-E7BA-4E3A-B657-64ACEC3A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38AB-8B71-4F33-84C2-2F471872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A440-370B-4B09-9AF0-D606D81B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769C-3A51-43FF-993D-C0ACF2CF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41FD-C7CB-44F5-816A-64BCF3D0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CD48-9D23-4FD4-B55F-AD93ADE4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3822-F99A-4FC2-9165-1A1A151A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D60E-E678-4BF3-B8D4-A2C93526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958B-C19D-4237-A152-F6F7743E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AAC5-8421-4471-A1E6-4BB1F840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8C03-63DC-419B-9019-034EDAE5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08EF-8974-40E8-AF2D-2C3FE321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98E4-6DAD-47CE-8407-E4FED242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02BD-AB5E-4D10-A608-AB8107BA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21B6-A447-44B6-BBC8-92009B21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FF1D-32EE-4D59-A0E1-1F42A314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24FE8-3968-4A3F-9140-E367C485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30E49-9732-46CD-BDA5-8D25D571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DB954-5D8C-409A-9278-CAC2B813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B728E-3A54-4613-ACF7-258AAC6D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07B45-3077-4C15-8FDC-C40FD10D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B54-B53E-433A-9819-1F65EDB7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4B222-C29C-4183-B992-A235B0B4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F5EDC-E6BC-4E2E-8DCA-455650F4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7FB24-4EC8-4E74-9AB0-0C3B3148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5BAA7-1ED4-4812-9739-9908AB32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3D704-A809-4952-8EF4-C64C43A5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610C3-9242-47A4-8F64-D29DD61E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5EA8D-B14C-4097-BF0F-8F14FEA1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50CF7-8859-4B52-B5EC-302F132B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A110C-8B5B-49A5-89B9-5E001236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0D70E-1971-41AE-BB5C-4AA32AB4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517-DB9F-4149-B117-94134F3C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B6813-4F7C-4AD2-B14B-5C2D6734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41360-08D5-4A61-9984-353E4CC8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9EA58-C5A7-4E1E-AC96-1FFB361B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7BF84-32EF-4658-8755-B4101256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FD7C5-0D09-41EC-8410-4265A7E1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B1587-A65D-4AAE-B793-548C642B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07128-7A29-4D6A-9B67-6DA8CBAE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9BAB2-E189-43F1-BC1B-150FBF1A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16328-E600-4990-BD9B-B509D3E9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8F1-AD5E-4B8B-94F6-0CD6995F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804E-98C2-4C49-8D1C-F154B895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1F9-19C4-4991-A2E9-9B40CE15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EE04-96EC-4C9B-A3C1-E6AE37E0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CEA3-8E8F-4888-BD7F-C291A964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84DE-6C62-4AB8-BA29-C6520E47BD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E3F5-4286-4AC8-A278-BC344FA92C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7A50-9255-43E2-B548-FBB85FE1EAE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FBF3-4E72-4B35-A318-544EAA8B137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9280" y="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Arrondis les chiffre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3573360"/>
            <a:ext cx="0" cy="1150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87280" y="1125000"/>
            <a:ext cx="0" cy="1079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276640"/>
            <a:ext cx="25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upérieur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férie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7280" y="1267200"/>
            <a:ext cx="2521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27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1411920"/>
            <a:ext cx="2520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5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1627560"/>
            <a:ext cx="2520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1843560"/>
            <a:ext cx="2520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49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92360" y="2059560"/>
            <a:ext cx="2521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3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08360" y="2275560"/>
            <a:ext cx="2521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2491200"/>
            <a:ext cx="2520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1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0360" y="2707200"/>
            <a:ext cx="2520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5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56000" y="2923200"/>
            <a:ext cx="2521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3138840"/>
            <a:ext cx="2521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5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4T23:58:13Z</dcterms:modified>
  <cp:revision>39</cp:revision>
  <dc:subject/>
  <dc:title>Slide 1</dc:title>
</cp:coreProperties>
</file>