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31C-056D-4E24-8C55-3E41A998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AEA-6DF1-4436-88CC-51AE0C8C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940-4E8D-4F31-9015-06594600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01F-9665-485A-A1A4-5F6CF1A9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7F43-FBAB-473B-8F50-812F6E70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D5FC-2ABA-4556-A54F-530F25E4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CBA4-B614-49F3-B5EB-FAC2F95A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530A-AA12-4A63-90A3-5D6D688E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B779-0956-49F3-83E4-5F60123C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E34F-616D-4C8A-8892-BBD52C71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2DC3-9EB8-4BBC-B86B-E60EDB6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01F-5E8E-4199-8761-A87A5EF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93C3-E1F6-457E-A8A4-55F269A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570F-65B7-4C4E-9FC0-B044D51F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05B9-4355-4438-895A-C7B91DC8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8A10-AEE1-4637-90B1-C7ACDA48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731D-DCDE-499F-8F6A-69F67857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4117-3C95-4E9B-8A60-10DBD63D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3E0C-8289-43F4-A49C-FD6B6518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8AB7-A4A0-4595-B7AE-0A530B09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AB13-8DE6-4F07-A26F-1382273D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0D9D-1F1B-45BE-8297-B443A2A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389-BE17-4EFB-956C-1C6A2A84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9653-EDB8-423E-8F3C-6C487982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5E5C-72BC-4EC1-965D-08120328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C189-2A38-4AAC-B646-0C0D102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E4FD-4588-45E4-A30D-BAF7E1F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405E-B8EC-4D9C-A69E-6BD0D782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1B7B-4DFB-4426-8F88-70ED9324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CA01-7AAA-4A4F-A333-46683185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5BE2-37DB-4CF0-9A20-769EF684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99A6-2818-485A-871F-116C2B94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1228-C31C-4EB3-AEF1-9DCD6EDC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52D-F99C-4D90-9286-73E078AB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E14B-C36D-45C0-888E-F2BEE240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CBBBF-3969-41D0-8FF3-C3EC7224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DCC8-F698-4E72-A59D-476C73EA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7FFBA-1178-4AB8-A6BF-AE737325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E149-EE21-4B6B-8A6A-1E4759D7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F09E-7A7A-49DF-87BA-EA303753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C9368-408B-43BB-AFB4-0352CE3D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57DC-8FC8-4D1C-AB8E-F34CE257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F5023-3FE2-4FA8-8E1B-6DBC5912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7DF-C3FC-4232-AFD3-93B75FF1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C92-E536-45DA-ABEB-FD9970D3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DE4-D8D5-497F-A14B-263688F7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CCD-21B1-4A87-B773-9A23B16E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66A-5C37-4596-8B56-D9ACB9D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17B7-87C1-42D9-AA7D-2DC6B3C73D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71A1-CF06-4208-9895-181D75915C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68ED-D36F-437B-982A-412732EB1A0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090C-22FC-41A7-874F-18392BF03A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92360" y="2781360"/>
            <a:ext cx="4680000" cy="2016000"/>
          </a:xfrm>
          <a:prstGeom prst="wedgeRoundRectCallout">
            <a:avLst>
              <a:gd name="adj1" fmla="val 60004"/>
              <a:gd name="adj2" fmla="val 7779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e m’appelle Anto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189000"/>
            <a:ext cx="4968720" cy="2016000"/>
          </a:xfrm>
          <a:prstGeom prst="wedgeRoundRectCallout">
            <a:avLst>
              <a:gd name="adj1" fmla="val -83800"/>
              <a:gd name="adj2" fmla="val 4512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187720" cy="244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804000" y="3500280"/>
            <a:ext cx="2124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92360" y="2781360"/>
            <a:ext cx="4680000" cy="2016000"/>
          </a:xfrm>
          <a:prstGeom prst="wedgeRoundRectCallout">
            <a:avLst>
              <a:gd name="adj1" fmla="val 60004"/>
              <a:gd name="adj2" fmla="val 7779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e m’appelle Anto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189000"/>
            <a:ext cx="4968720" cy="2016000"/>
          </a:xfrm>
          <a:prstGeom prst="wedgeRoundRectCallout">
            <a:avLst>
              <a:gd name="adj1" fmla="val -83800"/>
              <a:gd name="adj2" fmla="val 4512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omment t’appelles-tu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187720" cy="244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804000" y="3500280"/>
            <a:ext cx="2124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9:20Z</dcterms:modified>
  <cp:revision>16</cp:revision>
  <dc:subject/>
  <dc:title>Slide 1</dc:title>
</cp:coreProperties>
</file>