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3A7-C5DE-4B0F-9EAE-BEB98D1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8E2-3FAE-4D2E-9215-401C680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007-54E6-4EA1-AD32-9C888435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2EF-12AA-4880-BD15-37723B41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AAB5-EA0F-4209-9444-A5B34610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28C-6E4D-4532-9A26-D9711137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1377-E5C5-4454-8D92-89FB95F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0C2C-A37A-4D2B-A269-49DFF7C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EAA3-7802-4D19-9F12-72E3E1C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D204-8322-483B-880E-CB45B72F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BCC3-F5A9-4A36-A69B-732476B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360-8A5D-4A7C-A4AD-A068222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C4A1-6721-492E-BD2E-CDD0461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1F04-CE65-4ED6-9B11-A55D7DF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98A-2C1B-4430-8192-0F4EA80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2AA-66EB-42AD-A273-12E60C48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769-6DC8-4384-99B6-EECEAB62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6F26-F2BA-4B49-B4E4-DE99C8D9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F0F4-EC41-47FA-A9C9-3644A5D2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E795-59A6-44A3-BC6F-A656DB6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3E5D-B8D1-44B7-880B-2675211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D772-8F91-4E3F-8988-D3B5CEB3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09F-85F2-4FDE-8D5B-837391FD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3260-1E69-4A9A-B3D5-336E797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F689-D293-43D5-8304-C63165D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C710-EB5B-4C6E-80C7-2AE653B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D721-0BD0-4528-8A47-1CC613F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22E5-7414-4FBF-ADE0-085FD44F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68E3-CDB0-4F41-8FCB-3EE27F68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D3BD-D94B-494B-BE0C-EDB5E1EC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FA44-FFE2-4A7C-A422-6F3BD3BC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BF41-0A17-4441-9658-99BA20B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6933-0BD0-439F-9DE6-5CFA3A1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5C3-7462-42E4-A057-94CF9E4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7E28-F443-4FD2-9885-2F8BEA0B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2EB3-D686-4254-92BB-F183CE3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19A0-EE94-4E36-A1B8-FC4A2EE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A1326-9C6C-43B7-9C63-44849B94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B5F5-9ABD-4C0F-99D5-B473053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554B-DF33-467D-A3EE-8377FCC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6340-A945-4ED8-85D0-16304A5E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6D47-F265-4027-B916-C829B0BD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1EFF-63D7-4442-BEA1-9D4C44A0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C0E-EA66-4D4E-89F7-E664C73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FB9-18F1-48EA-A426-13B1066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43A-89AF-4F59-81EA-F29951A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292-D3EE-4E11-9AA7-02D9543A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C0A-25BE-4CF9-B33D-F97305C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D3E-D907-4AC4-85F1-9BE6C9CD0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0E2F-040B-421E-996B-DD6F8B793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A38-593C-4F88-B68A-6B8B67C864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0BA-685F-4D0E-95D7-AF2C02246D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92360" y="2781360"/>
            <a:ext cx="4680000" cy="2016000"/>
          </a:xfrm>
          <a:prstGeom prst="wedgeRoundRectCallout">
            <a:avLst>
              <a:gd name="adj1" fmla="val 60004"/>
              <a:gd name="adj2" fmla="val 7779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e m’appelle Anto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189000"/>
            <a:ext cx="4968720" cy="2016000"/>
          </a:xfrm>
          <a:prstGeom prst="wedgeRoundRectCallout">
            <a:avLst>
              <a:gd name="adj1" fmla="val -83800"/>
              <a:gd name="adj2" fmla="val 4512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44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12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92360" y="2781360"/>
            <a:ext cx="4680000" cy="2016000"/>
          </a:xfrm>
          <a:prstGeom prst="wedgeRoundRectCallout">
            <a:avLst>
              <a:gd name="adj1" fmla="val 60004"/>
              <a:gd name="adj2" fmla="val 7779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e m’appelle Anto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189000"/>
            <a:ext cx="4968720" cy="2016000"/>
          </a:xfrm>
          <a:prstGeom prst="wedgeRoundRectCallout">
            <a:avLst>
              <a:gd name="adj1" fmla="val -83800"/>
              <a:gd name="adj2" fmla="val 4512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804000" y="3500280"/>
            <a:ext cx="212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9:20Z</dcterms:modified>
  <cp:revision>16</cp:revision>
  <dc:subject/>
  <dc:title>Slide 1</dc:title>
</cp:coreProperties>
</file>