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474-8D54-4528-A3B6-F4651CFD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8BF-E2A4-42A0-82B4-E88F7FF9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D02-0E3B-4318-9008-7F2FC053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ACC-7CA9-4BB2-A7DB-9340A507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436A-8578-43BF-9F32-AB928344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CD84-7E2C-41FD-A4D5-AEA5E422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AE85-8A5B-4FEA-8DC6-99DE70F8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C6BA-7252-4129-9072-F6403260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D4F7-525D-45A5-8A1B-13AF0315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FE85-E37B-4497-961B-C5F587CA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A57F-8B59-4112-80E1-6EE6B4C1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AAC-5694-468F-9BEE-5F835D09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2805-0F21-48DC-91ED-B1786D0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4535-FEF2-456A-90F5-A572AFF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68C5-A5C5-43C0-912A-9EA219C8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2B84-CAEC-4FEA-8697-E9E4D315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428D-1F44-48DE-824B-1E5229A6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EE41-560C-4E9C-AAF2-FF04A76D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3FA7-217F-481D-B755-3082D2EC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B3E0-FB14-49DE-8AA0-A50644BF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AC51-8093-4526-A529-A27FA6C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3350-55D7-4BA9-8FB6-CFD7E1B6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F34-4926-45A8-8D6D-19ADB29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DAEC-0010-47E9-A020-BEDBB1A7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C973-3641-4C6D-9680-522CD20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A398-A3AE-40FC-A3DF-E189F78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4094-E7CB-48DA-8447-FB80A660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A3A8-E3C5-4C87-8836-B8C2EF93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79C1-D33B-4D74-BC02-99254DE7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FF5F-1817-4B14-A103-E97A7820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60AC-6E4C-43AB-B568-083CB082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B700-CBAA-4BD3-B237-8CD1AC3C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EBFD-D5A1-4871-87B4-0581115B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3A9-F043-4D12-8338-B299141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102AE-3946-4946-8EB5-4276FCE5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16E0-7EC6-48CC-8124-6E801D45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D5778-3820-4DFC-8823-F2015A67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F8A4-4C25-4AD3-B6B3-FDDD861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67BD-1F3B-4341-9204-46EF7B4E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569E-C330-4353-AF17-D06049F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6E38-BAE0-42B6-8501-8FDCD676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E70C-9E25-468D-8D45-006FA1B2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2B29-B360-493C-B91E-ACCE47E3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AE7-3B0C-49E5-99AB-3A47C6F1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2F6-6F02-4316-AAE8-31C176B2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BEE-9862-4C3D-8663-48F70F5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597-85F2-431E-BFBB-0BC22B72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802-31D5-416F-8699-1A97DF16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85CB-B868-4245-A8FC-08FA91EF79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EFF9-4E7C-46B5-8CB2-557EFBF879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78F3-C1CE-49CB-B543-824D80E54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193B-1600-4FF2-84F8-7B353F1022D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2"/>
          <a:stretch/>
        </p:blipFill>
        <p:spPr>
          <a:xfrm>
            <a:off x="2195640" y="0"/>
            <a:ext cx="48974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7-02T14:07:49Z</dcterms:modified>
  <cp:revision>29</cp:revision>
  <dc:subject/>
  <dc:title>Slide 1</dc:title>
</cp:coreProperties>
</file>