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CE8-9367-4B43-B0E7-9FE64ADE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774-D318-4A9A-BC30-EBE5E7D2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156-A9BA-4763-901C-C7D9CDC3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30D-BCA9-4B71-A92F-0FD8DD5E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5045-FBF5-4F53-8113-B8B169A5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C00F-0920-4FC1-B29F-00282858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746-DD22-43C6-8036-DC96C68C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4BC8-1AFB-4466-B19C-E1C04260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C77A-F013-4FA6-B0BB-7CB0EE38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9E5D-5D9F-4F3B-8142-AA12A01C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6DC1-AAD3-4E64-9F90-AD87F93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977-FE0F-4C87-A488-5538DBEE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BCFC-3C70-4DC7-AB7F-0A564741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1E48-FC2D-4DB0-829D-A5002E3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4D73-CB95-4A1C-A473-EDAE5DB7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C4DB-C554-4FE5-A3FF-D72583D7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055A-411A-48A7-8FB1-6BD76D74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F2AC0-C4AF-4B67-B100-7A875705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E337-0D2B-4731-A925-8D45437C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C4D4-EA3B-4ADD-90CB-AFD7CD4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24D8-00EE-4475-9DC6-9C95685F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BE1B-C265-4872-9205-1BDF27CC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A98-EAF9-4563-BD40-1C557496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C044-2D65-43B3-9F16-EC29D85D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102E-0B4D-459D-8602-78396C75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A9A4-9C2A-4F4C-A78A-C959A73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DF49-DF17-411E-B949-F13DE66D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4D48-6DF1-47AE-B773-0A0ED513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2784-CEC6-4132-9721-6F3F17D8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B823-44DD-44B8-8402-E3DBEECC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DB614-10F1-47FF-BF71-06D29D79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7E38-A9B3-4389-8D5B-04A5EE44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A630-95FA-4C76-A5FA-E9903B76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A39-743D-4A38-88B8-78BE9C71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33CB-CF82-4056-B53D-098B333A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4D74-F782-4751-83DA-525A4660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A423-DC62-4E2A-9119-972E913C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8ACE-7103-4540-A39E-FEF46C81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DDAF-F013-49DF-8F47-C68138C5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EDF8-46CC-4736-AA7D-B52FC389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45F1-C945-4C02-A8C7-202E5347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5444-6477-4C8C-BC29-DF81A68A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FDE0-21D8-44C8-9F85-4348FF6E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C07-119C-4535-9835-12AEAC61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DFA-DD21-49AE-B100-DF353781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103-BB45-4FFE-973F-B1E95717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662-63FB-41D2-BA24-8667FC1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552-ACEB-4870-B5F2-770882E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7977-18C4-44AC-837D-9E8D87514F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AEE7-9505-401D-A8FF-FB15357835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E97B-BA5B-499F-BE53-3277BAF56D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5EA2-C441-43B4-A459-598BF1706FB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2"/>
          <a:stretch/>
        </p:blipFill>
        <p:spPr>
          <a:xfrm>
            <a:off x="2195640" y="0"/>
            <a:ext cx="48974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7-02T14:07:49Z</dcterms:modified>
  <cp:revision>29</cp:revision>
  <dc:subject/>
  <dc:title>Slide 1</dc:title>
</cp:coreProperties>
</file>