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04D-2979-4E17-928E-3CE6E4E6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654-BDFC-4C27-A9C0-B730ED58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B35-7579-4ABD-A399-5AD97F2C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D79-AD01-4153-951E-78738F3A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E290-9A9D-4AC5-9AB2-ECC6061B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21F9-69AE-4993-A87A-ED5BCBFA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6D96-A7C6-498E-A326-F67651BC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5EC6-23CE-4BBF-B858-DF11F5C5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88C7-E688-450C-B05D-306A35E0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977E-DDCE-42B2-AC44-DD97A7F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E09B-359B-4B4B-95FB-F441827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B9A-7D25-42F5-8EF7-C5763E57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D01C-D4AB-420A-811C-BCF3E48A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48A0-922D-4F6F-8B6F-F160241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4464-5D9F-4EB5-B8A0-1267222E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932E-FD05-49D8-9DAF-965D2A1C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D751-859D-4642-AE3D-D1D22896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6F37-571A-4E80-90D1-2A3427FA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10231-E40D-45B8-BB1B-65B37136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EB20-EE29-414E-8552-BCF42579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1F78F-127F-474F-A6B1-D0D1B11D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11E8-E51A-44C8-8BFC-4F29A799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7EC-C442-4591-B3A1-9CF6A3EB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32D5-D8CD-40D7-9D66-5A22F394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E502E-15E7-445C-B049-D02832E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DC68-45C0-40E3-9DE7-A18BB57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6BF2-1E53-446F-B477-6240546B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DDC0F-F6F2-43E8-92E0-8637F255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07C1-283B-4A8A-8BD6-E93D3041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97C2-4931-42D0-9556-0FEFEDF7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CDDC-E879-4080-8974-D39AFCEC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34EB8-F4F0-436A-A56A-368DC850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950C-F36C-4621-B5BD-D769A248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D2E-B48E-4626-BFCA-AF0E3BD1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ACBC-9AAA-44D8-B6E8-3D9ACB28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CCD82-C6E2-4701-8636-5D058701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E42FC-0256-494D-A57A-296B0EE5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2F72E-D74E-461D-B201-B5B0692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AD350-2527-4264-A553-C6C2468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FDEC9-B1B1-4F51-AE82-A65129AF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CF60-6560-49A6-A433-1498E4B7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C4A9-C03A-44CA-9402-894EA175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C6B83-2E0A-4954-B82F-F3D3BA5F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143-76E8-498D-9F04-758723AE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EDD-993F-450F-A6F7-19B24206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B0D-8B0C-4C60-AE15-8798ADE8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DA3-FE2B-4D2C-AE71-FDA925BA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B69-BA65-4A0D-ADB1-9D688297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5A4E-5750-489A-BD5F-9EC9557686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7416-9B58-4FED-B137-3EBD39CF69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B495-93F0-427B-AB45-92000FB73F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6381-CE3B-4232-9F93-C02D0A9B62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://www.ouest-france.fr/photos/2013/01/21/130121161430786_51_000_apx_470_.jpg"/>
          <p:cNvPicPr/>
          <p:nvPr/>
        </p:nvPicPr>
        <p:blipFill>
          <a:blip r:embed="rId2"/>
          <a:stretch/>
        </p:blipFill>
        <p:spPr>
          <a:xfrm>
            <a:off x="133200" y="165240"/>
            <a:ext cx="3908520" cy="267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www.photoguide.cz/road-signs-michelin/marking-taxi.jpg"/>
          <p:cNvPicPr/>
          <p:nvPr/>
        </p:nvPicPr>
        <p:blipFill>
          <a:blip r:embed="rId3"/>
          <a:stretch/>
        </p:blipFill>
        <p:spPr>
          <a:xfrm>
            <a:off x="5394240" y="4286160"/>
            <a:ext cx="3640320" cy="25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http://img.src.ca/2011/08/16/635x357/110816_vd892_enfant-ecole-velo_sn635.jpg"/>
          <p:cNvPicPr/>
          <p:nvPr/>
        </p:nvPicPr>
        <p:blipFill>
          <a:blip r:embed="rId4"/>
          <a:stretch/>
        </p:blipFill>
        <p:spPr>
          <a:xfrm>
            <a:off x="5016600" y="171360"/>
            <a:ext cx="3944880" cy="2316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Sur le chemin de l'école, l’enfant est particulièrement vulnérable..."/>
          <p:cNvPicPr/>
          <p:nvPr/>
        </p:nvPicPr>
        <p:blipFill>
          <a:blip r:embed="rId5"/>
          <a:stretch/>
        </p:blipFill>
        <p:spPr>
          <a:xfrm>
            <a:off x="133200" y="4627440"/>
            <a:ext cx="4084920" cy="21574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ular Callout 1"/>
          <p:cNvSpPr/>
          <p:nvPr/>
        </p:nvSpPr>
        <p:spPr>
          <a:xfrm>
            <a:off x="108000" y="2565360"/>
            <a:ext cx="2160360" cy="1655640"/>
          </a:xfrm>
          <a:prstGeom prst="wedgeRoundRectCallout">
            <a:avLst>
              <a:gd name="adj1" fmla="val 15625"/>
              <a:gd name="adj2" fmla="val -66601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Je vais à l’école en bu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ounded Rectangular Callout 9"/>
          <p:cNvSpPr/>
          <p:nvPr/>
        </p:nvSpPr>
        <p:spPr>
          <a:xfrm>
            <a:off x="6875640" y="2281320"/>
            <a:ext cx="2116080" cy="1657440"/>
          </a:xfrm>
          <a:prstGeom prst="wedgeRoundRectCallout">
            <a:avLst>
              <a:gd name="adj1" fmla="val 15625"/>
              <a:gd name="adj2" fmla="val -66601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Je vais à l’école en vél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ounded Rectangular Callout 10"/>
          <p:cNvSpPr/>
          <p:nvPr/>
        </p:nvSpPr>
        <p:spPr>
          <a:xfrm>
            <a:off x="2340000" y="2852640"/>
            <a:ext cx="2195640" cy="1656000"/>
          </a:xfrm>
          <a:prstGeom prst="wedgeRoundRectCallout">
            <a:avLst>
              <a:gd name="adj1" fmla="val -33685"/>
              <a:gd name="adj2" fmla="val 75370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Je vais à l’école</a:t>
            </a:r>
            <a:br>
              <a:rPr sz="3600"/>
            </a:b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à pi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ounded Rectangular Callout 11"/>
          <p:cNvSpPr/>
          <p:nvPr/>
        </p:nvSpPr>
        <p:spPr>
          <a:xfrm>
            <a:off x="4643280" y="2573280"/>
            <a:ext cx="2157480" cy="1656000"/>
          </a:xfrm>
          <a:prstGeom prst="wedgeRoundRectCallout">
            <a:avLst>
              <a:gd name="adj1" fmla="val 31194"/>
              <a:gd name="adj2" fmla="val 75370"/>
              <a:gd name="adj3" fmla="val 16667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Comic Sans MS"/>
              </a:rPr>
              <a:t>Je vais à l’école en taxi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ound"/>
          <p:cNvSpPr/>
          <p:nvPr/>
        </p:nvSpPr>
        <p:spPr>
          <a:xfrm>
            <a:off x="4745160" y="492120"/>
            <a:ext cx="688680" cy="615960"/>
          </a:xfrm>
          <a:custGeom>
            <a:avLst/>
            <a:gdLst>
              <a:gd name="textAreaLeft" fmla="*/ 24120 w 688680"/>
              <a:gd name="textAreaRight" fmla="*/ 671760 w 688680"/>
              <a:gd name="textAreaTop" fmla="*/ 640440 h 615960"/>
              <a:gd name="textAreaBottom" fmla="*/ 806760 h 6159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ound"/>
          <p:cNvSpPr/>
          <p:nvPr/>
        </p:nvSpPr>
        <p:spPr>
          <a:xfrm>
            <a:off x="4745160" y="1886040"/>
            <a:ext cx="688680" cy="617400"/>
          </a:xfrm>
          <a:custGeom>
            <a:avLst/>
            <a:gdLst>
              <a:gd name="textAreaLeft" fmla="*/ 24120 w 688680"/>
              <a:gd name="textAreaRight" fmla="*/ 671760 w 688680"/>
              <a:gd name="textAreaTop" fmla="*/ 641880 h 617400"/>
              <a:gd name="textAreaBottom" fmla="*/ 8085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971640" y="29559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99"/>
                </a:solidFill>
                <a:latin typeface="Comic Sans MS"/>
              </a:rPr>
              <a:t>N, S, E et 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ound"/>
          <p:cNvSpPr/>
          <p:nvPr/>
        </p:nvSpPr>
        <p:spPr>
          <a:xfrm>
            <a:off x="4959360" y="5084640"/>
            <a:ext cx="687240" cy="617760"/>
          </a:xfrm>
          <a:custGeom>
            <a:avLst/>
            <a:gdLst>
              <a:gd name="textAreaLeft" fmla="*/ 24120 w 687240"/>
              <a:gd name="textAreaRight" fmla="*/ 670680 w 687240"/>
              <a:gd name="textAreaTop" fmla="*/ 642240 h 617760"/>
              <a:gd name="textAreaBottom" fmla="*/ 809280 h 6177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London_Bus"/>
          <p:cNvPicPr/>
          <p:nvPr/>
        </p:nvPicPr>
        <p:blipFill>
          <a:blip r:embed="rId2"/>
          <a:stretch/>
        </p:blipFill>
        <p:spPr>
          <a:xfrm>
            <a:off x="2195640" y="101520"/>
            <a:ext cx="2244600" cy="1397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London_Bus"/>
          <p:cNvPicPr/>
          <p:nvPr/>
        </p:nvPicPr>
        <p:blipFill>
          <a:blip r:embed="rId3"/>
          <a:stretch/>
        </p:blipFill>
        <p:spPr>
          <a:xfrm>
            <a:off x="2195640" y="1521000"/>
            <a:ext cx="2244600" cy="1396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London_Bus"/>
          <p:cNvPicPr/>
          <p:nvPr/>
        </p:nvPicPr>
        <p:blipFill>
          <a:blip r:embed="rId4"/>
          <a:stretch/>
        </p:blipFill>
        <p:spPr>
          <a:xfrm>
            <a:off x="2556000" y="4694400"/>
            <a:ext cx="22446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ound"/>
          <p:cNvSpPr/>
          <p:nvPr/>
        </p:nvSpPr>
        <p:spPr>
          <a:xfrm>
            <a:off x="4745160" y="492120"/>
            <a:ext cx="688680" cy="615960"/>
          </a:xfrm>
          <a:custGeom>
            <a:avLst/>
            <a:gdLst>
              <a:gd name="textAreaLeft" fmla="*/ 24120 w 688680"/>
              <a:gd name="textAreaRight" fmla="*/ 671760 w 688680"/>
              <a:gd name="textAreaTop" fmla="*/ 640440 h 615960"/>
              <a:gd name="textAreaBottom" fmla="*/ 806760 h 6159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ound"/>
          <p:cNvSpPr/>
          <p:nvPr/>
        </p:nvSpPr>
        <p:spPr>
          <a:xfrm>
            <a:off x="4745160" y="1886040"/>
            <a:ext cx="688680" cy="617400"/>
          </a:xfrm>
          <a:custGeom>
            <a:avLst/>
            <a:gdLst>
              <a:gd name="textAreaLeft" fmla="*/ 24120 w 688680"/>
              <a:gd name="textAreaRight" fmla="*/ 671760 w 688680"/>
              <a:gd name="textAreaTop" fmla="*/ 641880 h 617400"/>
              <a:gd name="textAreaBottom" fmla="*/ 8085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971640" y="29559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99"/>
                </a:solidFill>
                <a:latin typeface="Comic Sans MS"/>
              </a:rPr>
              <a:t>N, S, E et 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ound"/>
          <p:cNvSpPr/>
          <p:nvPr/>
        </p:nvSpPr>
        <p:spPr>
          <a:xfrm>
            <a:off x="4959360" y="5084640"/>
            <a:ext cx="687240" cy="617760"/>
          </a:xfrm>
          <a:custGeom>
            <a:avLst/>
            <a:gdLst>
              <a:gd name="textAreaLeft" fmla="*/ 24120 w 687240"/>
              <a:gd name="textAreaRight" fmla="*/ 670680 w 687240"/>
              <a:gd name="textAreaTop" fmla="*/ 642240 h 617760"/>
              <a:gd name="textAreaBottom" fmla="*/ 809280 h 6177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C:\Users\Clare\AppData\Local\Microsoft\Windows\Temporary Internet Files\Content.IE5\S0RXMQY3\MC900320970[1].wmf"/>
          <p:cNvPicPr/>
          <p:nvPr/>
        </p:nvPicPr>
        <p:blipFill>
          <a:blip r:embed="rId2"/>
          <a:stretch/>
        </p:blipFill>
        <p:spPr>
          <a:xfrm>
            <a:off x="2700360" y="189000"/>
            <a:ext cx="1809720" cy="1363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Clare\AppData\Local\Microsoft\Windows\Temporary Internet Files\Content.IE5\S0RXMQY3\MC900320970[1].wmf"/>
          <p:cNvPicPr/>
          <p:nvPr/>
        </p:nvPicPr>
        <p:blipFill>
          <a:blip r:embed="rId3"/>
          <a:stretch/>
        </p:blipFill>
        <p:spPr>
          <a:xfrm>
            <a:off x="2762280" y="1517760"/>
            <a:ext cx="1809720" cy="1363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Clare\AppData\Local\Microsoft\Windows\Temporary Internet Files\Content.IE5\S0RXMQY3\MC900320970[1].wmf"/>
          <p:cNvPicPr/>
          <p:nvPr/>
        </p:nvPicPr>
        <p:blipFill>
          <a:blip r:embed="rId4"/>
          <a:stretch/>
        </p:blipFill>
        <p:spPr>
          <a:xfrm>
            <a:off x="2914560" y="4711680"/>
            <a:ext cx="18115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ound"/>
          <p:cNvSpPr/>
          <p:nvPr/>
        </p:nvSpPr>
        <p:spPr>
          <a:xfrm>
            <a:off x="4745160" y="492120"/>
            <a:ext cx="688680" cy="615960"/>
          </a:xfrm>
          <a:custGeom>
            <a:avLst/>
            <a:gdLst>
              <a:gd name="textAreaLeft" fmla="*/ 24120 w 688680"/>
              <a:gd name="textAreaRight" fmla="*/ 671760 w 688680"/>
              <a:gd name="textAreaTop" fmla="*/ 640440 h 615960"/>
              <a:gd name="textAreaBottom" fmla="*/ 806760 h 6159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ound"/>
          <p:cNvSpPr/>
          <p:nvPr/>
        </p:nvSpPr>
        <p:spPr>
          <a:xfrm>
            <a:off x="4745160" y="1886040"/>
            <a:ext cx="688680" cy="617400"/>
          </a:xfrm>
          <a:custGeom>
            <a:avLst/>
            <a:gdLst>
              <a:gd name="textAreaLeft" fmla="*/ 24120 w 688680"/>
              <a:gd name="textAreaRight" fmla="*/ 671760 w 688680"/>
              <a:gd name="textAreaTop" fmla="*/ 641880 h 617400"/>
              <a:gd name="textAreaBottom" fmla="*/ 8085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971640" y="29559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99"/>
                </a:solidFill>
                <a:latin typeface="Comic Sans MS"/>
              </a:rPr>
              <a:t>N, S, E et 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ound"/>
          <p:cNvSpPr/>
          <p:nvPr/>
        </p:nvSpPr>
        <p:spPr>
          <a:xfrm>
            <a:off x="4959360" y="5084640"/>
            <a:ext cx="687240" cy="617760"/>
          </a:xfrm>
          <a:custGeom>
            <a:avLst/>
            <a:gdLst>
              <a:gd name="textAreaLeft" fmla="*/ 24120 w 687240"/>
              <a:gd name="textAreaRight" fmla="*/ 670680 w 687240"/>
              <a:gd name="textAreaTop" fmla="*/ 642240 h 617760"/>
              <a:gd name="textAreaBottom" fmla="*/ 809280 h 6177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2563920" y="195120"/>
            <a:ext cx="1976400" cy="120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>
            <a:off x="2563920" y="1460520"/>
            <a:ext cx="1976400" cy="1209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2625840" y="4724280"/>
            <a:ext cx="19764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irls_walking"/>
          <p:cNvPicPr/>
          <p:nvPr/>
        </p:nvPicPr>
        <p:blipFill>
          <a:blip r:embed="rId2"/>
          <a:stretch/>
        </p:blipFill>
        <p:spPr>
          <a:xfrm>
            <a:off x="2971800" y="173160"/>
            <a:ext cx="1231920" cy="1253880"/>
          </a:xfrm>
          <a:prstGeom prst="rect">
            <a:avLst/>
          </a:prstGeom>
          <a:ln w="0">
            <a:noFill/>
          </a:ln>
        </p:spPr>
      </p:pic>
      <p:sp>
        <p:nvSpPr>
          <p:cNvPr id="196" name="Sound"/>
          <p:cNvSpPr/>
          <p:nvPr/>
        </p:nvSpPr>
        <p:spPr>
          <a:xfrm>
            <a:off x="4745160" y="492120"/>
            <a:ext cx="688680" cy="615960"/>
          </a:xfrm>
          <a:custGeom>
            <a:avLst/>
            <a:gdLst>
              <a:gd name="textAreaLeft" fmla="*/ 24120 w 688680"/>
              <a:gd name="textAreaRight" fmla="*/ 671760 w 688680"/>
              <a:gd name="textAreaTop" fmla="*/ 640440 h 615960"/>
              <a:gd name="textAreaBottom" fmla="*/ 806760 h 6159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2" descr="girls_walking"/>
          <p:cNvPicPr/>
          <p:nvPr/>
        </p:nvPicPr>
        <p:blipFill>
          <a:blip r:embed="rId3"/>
          <a:stretch/>
        </p:blipFill>
        <p:spPr>
          <a:xfrm>
            <a:off x="2990880" y="1670040"/>
            <a:ext cx="1230120" cy="1254240"/>
          </a:xfrm>
          <a:prstGeom prst="rect">
            <a:avLst/>
          </a:prstGeom>
          <a:ln w="0">
            <a:noFill/>
          </a:ln>
        </p:spPr>
      </p:pic>
      <p:sp>
        <p:nvSpPr>
          <p:cNvPr id="198" name="Sound"/>
          <p:cNvSpPr/>
          <p:nvPr/>
        </p:nvSpPr>
        <p:spPr>
          <a:xfrm>
            <a:off x="4745160" y="1886040"/>
            <a:ext cx="688680" cy="617400"/>
          </a:xfrm>
          <a:custGeom>
            <a:avLst/>
            <a:gdLst>
              <a:gd name="textAreaLeft" fmla="*/ 24120 w 688680"/>
              <a:gd name="textAreaRight" fmla="*/ 671760 w 688680"/>
              <a:gd name="textAreaTop" fmla="*/ 641880 h 617400"/>
              <a:gd name="textAreaBottom" fmla="*/ 8085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971640" y="29559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99"/>
                </a:solidFill>
                <a:latin typeface="Comic Sans MS"/>
              </a:rPr>
              <a:t>N, S, E et 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" descr="girls_walking"/>
          <p:cNvPicPr/>
          <p:nvPr/>
        </p:nvPicPr>
        <p:blipFill>
          <a:blip r:embed="rId4"/>
          <a:stretch/>
        </p:blipFill>
        <p:spPr>
          <a:xfrm>
            <a:off x="3203640" y="4869000"/>
            <a:ext cx="1230120" cy="1253880"/>
          </a:xfrm>
          <a:prstGeom prst="rect">
            <a:avLst/>
          </a:prstGeom>
          <a:ln w="0">
            <a:noFill/>
          </a:ln>
        </p:spPr>
      </p:pic>
      <p:sp>
        <p:nvSpPr>
          <p:cNvPr id="201" name="Sound"/>
          <p:cNvSpPr/>
          <p:nvPr/>
        </p:nvSpPr>
        <p:spPr>
          <a:xfrm>
            <a:off x="4959360" y="5084640"/>
            <a:ext cx="687240" cy="617760"/>
          </a:xfrm>
          <a:custGeom>
            <a:avLst/>
            <a:gdLst>
              <a:gd name="textAreaLeft" fmla="*/ 24120 w 687240"/>
              <a:gd name="textAreaRight" fmla="*/ 670680 w 687240"/>
              <a:gd name="textAreaTop" fmla="*/ 642240 h 617760"/>
              <a:gd name="textAreaBottom" fmla="*/ 809280 h 61776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40:46Z</dcterms:modified>
  <cp:revision>20</cp:revision>
  <dc:subject/>
  <dc:title>Slide 1</dc:title>
</cp:coreProperties>
</file>