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D32A-DD10-42C7-B611-F3512E8931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l fait froid      il fait chaud        il fait beau      il fait mauv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l pleut      il neige          il y a du vent             il y a du brouill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F2B-C0E5-4DEB-8CCA-089730B9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C04-AE08-46F4-A3C2-F09CA995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E6B-5ECA-49E2-8C2B-EFBE8364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0FB-8EE5-410C-869C-CE22FC4D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5B3F-5CB4-45D3-81E2-452F1DD3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437F-BF5D-471D-9FCB-E97BB680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6600-ECF8-4821-B92E-2E8EB468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D695-01F3-42DB-A587-8FB02F58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5626-9BBB-48C1-93EE-2C6956CC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1A6F-5273-4B22-AB63-BC3DD797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6564-4162-45A0-BF7C-DC98C3D6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E68-5573-4E16-9F32-6383B091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DB43-4050-4AD0-93DA-F495E17D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28CE-AF4F-45F2-BDA6-23CE89E2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A6F7-22FF-4382-860A-8622D2C8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61A3-E730-4915-85EB-C3F1059D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B5CC-C55B-4236-9B5B-EDD7E481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BA522-B3F1-49B0-8E37-324C539C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11B6A-1FA6-4CC4-B742-85F55D9B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D2B8-3ED2-4D94-A59F-F14BA6E4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ED6C9-079A-481A-9BC2-62FD8060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1FB57-43D5-4577-B1F2-9E8CD30F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15E-AE3D-4DCD-AD2C-11327981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FE62-5508-4D2E-B712-E76A26EB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4EAA8-E32C-4AD0-837D-BEA104DE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6FAD-9214-4349-B183-95560CC0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EC30D-B7AA-4089-8C4F-4BBFCC25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7A69C-2719-4623-84F4-1335FD72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1A4DF-8D1C-49DE-87CD-06406368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2189-05D5-4C30-9429-17800762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D062D-91F1-4233-8E96-67376035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5C0E6-9B71-41CE-8E4D-DAC46163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8D599-7AAA-4463-8670-F98FB429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222-ADAA-4814-9AF2-FC32352F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DFC40-3C35-447C-8EB7-119DD6C4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6A575-7B36-48B5-8C5A-666E1CFA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25048-32F5-4DE9-B4FF-1D6C99F8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043C6-5DFF-4480-AF3B-020B8B10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A0EF5-ED92-4E35-8F0D-51274A0D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0595-F623-425F-A592-883044CC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C9A4B-6305-4432-8BBA-D29914C2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4576E-24D0-470A-BD4F-C60688DA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BC9DE-0EFB-4CFC-B82A-2ECE776E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838-281F-46C3-887C-FB457228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749-1816-4D6D-BB96-56A276C8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83A-86DF-41AD-A8E3-FCC51ACB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0B1-F201-45F9-9BA2-2982FF4A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19E-917A-48C9-887D-34CFB357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44A2-88AA-43BA-8867-1CE866E5B1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3064-BEC3-48B4-BDDB-583222704B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FB76-7866-4AD0-8F8F-EFB50DD755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2DF9-C4F6-4220-B182-B3BBD3F28E4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871640" cy="1846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2160360" cy="153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427640" y="0"/>
            <a:ext cx="2050920" cy="2050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108000" y="2205000"/>
            <a:ext cx="2373120" cy="244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6624720" y="0"/>
            <a:ext cx="2519280" cy="185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6659640" y="249228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059280" y="549360"/>
            <a:ext cx="2160360" cy="1530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684360" y="2421000"/>
            <a:ext cx="2050920" cy="2050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6588000" y="3429000"/>
            <a:ext cx="2373480" cy="244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4067280" y="2133720"/>
            <a:ext cx="1911240" cy="2376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6624720" y="0"/>
            <a:ext cx="2519280" cy="1855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3419640" y="486900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651640" y="62064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042920" y="278136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5940360" y="2924280"/>
            <a:ext cx="2373480" cy="244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3492360" y="54936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3419640" y="4653000"/>
            <a:ext cx="2519280" cy="1855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250920" y="404640"/>
            <a:ext cx="2376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4508640"/>
            <a:ext cx="2417760" cy="2033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203640" y="333360"/>
            <a:ext cx="2160360" cy="1530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11280" y="2349360"/>
            <a:ext cx="2373120" cy="2448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5940360" y="692280"/>
            <a:ext cx="2519280" cy="1855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3492360" y="2637000"/>
            <a:ext cx="2376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211640" y="472428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2916360" y="2205000"/>
            <a:ext cx="2373120" cy="2448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3851280" y="189000"/>
            <a:ext cx="251928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443640" y="18900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427640" y="3860640"/>
            <a:ext cx="2373120" cy="2448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68360" y="189000"/>
            <a:ext cx="251928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2373120" cy="2448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780000" y="1484280"/>
            <a:ext cx="251928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348000" y="1628640"/>
            <a:ext cx="2373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871640" cy="1846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2160360" cy="1530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427640" y="0"/>
            <a:ext cx="2050920" cy="2050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6624720" y="0"/>
            <a:ext cx="2519280" cy="1855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6659640" y="249228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871640" cy="1846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2160360" cy="1530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6624720" y="0"/>
            <a:ext cx="2519280" cy="1855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6659640" y="249228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871640" cy="1846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2160360" cy="1530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6659640" y="249228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427640" y="2492280"/>
            <a:ext cx="2160360" cy="1530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659640" y="249228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6659640" y="249228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659640" y="249228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871640" cy="1846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2160360" cy="1530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427640" y="0"/>
            <a:ext cx="2050920" cy="2050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108000" y="2205000"/>
            <a:ext cx="2373120" cy="2448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6624720" y="0"/>
            <a:ext cx="2519280" cy="1855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6659640" y="249228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1-10T09:38:49Z</dcterms:modified>
  <cp:revision>33</cp:revision>
  <dc:subject/>
  <dc:title>Slide 1</dc:title>
</cp:coreProperties>
</file>