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F36E-1047-4504-808F-926FC3B554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 fait froid      il fait chaud        il fait beau      il fait mauv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 pleut      il neige          il y a du vent             il y a du broui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2AD-3C59-4623-8C90-09B137E4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DD9-C94E-4622-ABCE-AD99422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DD5-3C43-45BC-AF25-83993685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392-63DE-4CDB-BBBA-EDC0BDF0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957-99E3-488E-84E2-69C16DD9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67FB-09FC-4D4F-8793-42C49881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AF9-5F96-4A94-89D5-6E605EE6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A65F-1440-4746-9934-662E6253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59AC-AE18-4E9D-82D4-CD0DDC0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B293-FA0A-47FA-87EE-F322CF8D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2CC-8793-47A3-B64B-63749F7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4D8-2898-41C3-B7B1-218160AB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F2B-EB70-4B5F-8759-1D5939E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7118-144F-45F9-8F3F-056C1D3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2624-9195-494E-ADF6-3BFAA0D3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A2CB-E4AB-4276-B67E-BC730BA2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0DE1-7BD3-4DAB-B8BF-2F65E639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1C9E-EEF7-4606-BE2D-3CE31E7F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2717-949E-4EDF-94C0-45B17E3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02D8-F5B9-4950-9B92-F34A6F1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DDA9-CF2B-46D9-923E-435583DA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7774-3F39-47F3-A81F-DC3C1101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9C0-90F1-45E6-9A12-E136C1E2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83F6-277B-46C7-8F06-FBCDDD0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4099-CBC0-4A0A-AE1C-11DB27B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98CA-1713-492F-A35B-B4AF4A3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3B12-965D-443D-A7B5-EBAD854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3A84-4345-4F8F-BBB3-201E7765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E1DD-C624-42E1-95FA-1C28601F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EAE8-283D-4509-8709-6DA2900B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8EA5-E8D9-4B69-B4FC-1CA11EE6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1B4D-AF30-4F3B-A092-315C90A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DFC7-83F2-4181-B68D-334A145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670-B961-4468-BA3C-EE09E730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98EE-23B1-40A7-8775-1BC10D8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EE31-0B18-4C45-85A0-5BF20B5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6631-B642-4623-AB05-B380C2F8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C913-BE2F-41D9-BB1F-1DD9B78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218D-C978-49D2-B7DF-35D62EE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13DD-1545-4AE6-989C-E6C61D7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A8DD-6423-4F73-BD06-0851CAF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8997-F6D0-4E7D-9B42-9EA5515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2DBD-D8E5-4C70-B236-6B965C62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FA7-6D3C-4DE0-B51F-27B6F269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EDA-40A3-486F-8777-99E5E973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54C-3454-45A4-A32C-289B1E5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735-537B-4B02-A3B4-6ED8910B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005-95F1-44E4-ADCE-5D6F2CF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8E9-6D6C-4601-BFBC-2E6B76E04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D19-8BCB-43BC-B02A-6FFD3B220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D6D-EABB-46EA-9DE3-69AD4D23D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F70-D80A-4ABC-A734-ECD8737C16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10800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59280" y="54936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84360" y="242100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6588000" y="3429000"/>
            <a:ext cx="237348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4067280" y="2133720"/>
            <a:ext cx="191124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3419640" y="486900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940360" y="2924280"/>
            <a:ext cx="237348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492360" y="54936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3419640" y="465300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250920" y="404640"/>
            <a:ext cx="2376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4508640"/>
            <a:ext cx="2417760" cy="2033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203640" y="33336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940360" y="69228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492360" y="2637000"/>
            <a:ext cx="2376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211640" y="472428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91636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851280" y="18900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780000" y="1484280"/>
            <a:ext cx="251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2373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417760" cy="20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2160360" cy="153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108000" y="2205000"/>
            <a:ext cx="2373120" cy="244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2484360" y="2276640"/>
            <a:ext cx="191160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624720" y="0"/>
            <a:ext cx="2519280" cy="185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92280"/>
            <a:ext cx="237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8:49Z</dcterms:modified>
  <cp:revision>33</cp:revision>
  <dc:subject/>
  <dc:title>Slide 1</dc:title>
</cp:coreProperties>
</file>