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B3B9-C999-41C3-90A6-03497426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5F4-9976-4C0B-BA6A-EBF304F2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F3A-C578-435A-97D3-1ED4A551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F354-FD3E-4BC9-9B3C-B6387B83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5587-EA99-47A7-8082-C3A69E65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307A-6D40-4A0D-84EC-8F29B651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A79A-0519-491A-8E33-EC05496C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B489-757F-4034-B742-AF510489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53AC-E8E4-4887-9FAB-54832E73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FD67-5E36-4703-9774-1BF3AE9F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BB27-050A-4CE0-BD9A-5BA706D7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FEB-6821-4B81-AF1E-8ED45573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776E-46E8-4CD0-B0A6-036D53C9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97EA-DF11-41E2-8E6C-7488451D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EA41-91E0-4901-9F68-1971A4E8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36C4-388E-4E0D-996C-04B783C0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F72A-DDB0-441D-9B07-901D9316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BFA72-F44C-414F-8E42-56A4BEC6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01DB9-E948-4B75-8C40-F8FC7229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A4AE6-8C2B-48CF-BC9A-05F181C1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D8FF9-6815-432C-98A6-EA2E144E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FB6B6-65AA-4668-BF60-27DB874A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C07-47D1-4852-81AE-17297CDA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30CF6-1479-4D73-B4DE-EC794734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A466C-FDE4-47F7-87EE-3D114E3A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C20DD-F3A4-436F-923B-3DB9960C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7C65C-EBF4-4B31-9A37-47133790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6A6D7-F1BE-42DF-9F00-0AB4AF9D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02CF2-EB51-401D-A96D-C6BEE1DC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058C1-5592-4F2B-AE56-40A3E228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14418-96AC-4256-8081-AE5E259C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AC98C-3E14-4A22-B56E-59D1FC0E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D1DDE-31D8-4FEF-9AA6-DBC62E7E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013-3344-450C-8D21-8FB7F82A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0EFBF-9D60-41D9-9EBE-F552D3A5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7946A-A415-40CD-968A-49E86D7A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01277-E292-4AC6-9418-E4FBBEF1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CF107-E5D4-4E45-9305-050959D8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E742B-3B4F-4B0B-BC84-A2DA6F37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DDE82-C9D3-467C-9B9D-EB47271B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9B499-0640-410C-848A-38251AA6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017B8-1B45-4720-B8FA-A146BB4D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7AE17-3656-4FAF-854C-3AF797D6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DF9-31C3-421A-A75F-E44DCBB4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E89D-D656-4702-BB52-FEE0812D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042A-F5B5-44D3-83B8-D9315B2B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3645-7D63-4158-A0A1-09878CF3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BCC6-8DFC-4039-86F3-5AFFED60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4E39-F9F1-47B5-8907-982579BD12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2C38-9515-45B9-937F-A8D4FB7050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29F1-633C-46F2-9E3D-66AB65B66C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67B8-577D-4ED5-9F31-27EF6A2188A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11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rcRect l="0" t="4873" r="0" b="6706"/>
          <a:stretch/>
        </p:blipFill>
        <p:spPr>
          <a:xfrm>
            <a:off x="684360" y="0"/>
            <a:ext cx="7777080" cy="6877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65164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600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Tro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48000" y="4724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450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orde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0692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5734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P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134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112536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eauv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64000" y="1628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141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Ca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82920" y="2708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27280" y="24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R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200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95640" y="5084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ontéli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32720" y="54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333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Liè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0920" y="189000"/>
            <a:ext cx="3960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À Troyes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À Bordeaux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À Pau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À Beauvais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À Caen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À Rieux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À Montélimar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À Liège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19640" y="189000"/>
            <a:ext cx="482436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l fait froi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l fait bea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l fait chau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l fait mauvai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l y a du v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l pleu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l y a du brouilla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l nei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649080" cy="6411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8244000" y="5157720"/>
            <a:ext cx="792000" cy="5479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8172360" y="1844640"/>
            <a:ext cx="835200" cy="7016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5"/>
          <a:stretch/>
        </p:blipFill>
        <p:spPr>
          <a:xfrm>
            <a:off x="8244000" y="1052640"/>
            <a:ext cx="610920" cy="6109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6"/>
          <a:stretch/>
        </p:blipFill>
        <p:spPr>
          <a:xfrm>
            <a:off x="8244000" y="5877000"/>
            <a:ext cx="695160" cy="8650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7"/>
          <a:stretch/>
        </p:blipFill>
        <p:spPr>
          <a:xfrm>
            <a:off x="8172360" y="2708280"/>
            <a:ext cx="800280" cy="5889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8"/>
          <a:stretch/>
        </p:blipFill>
        <p:spPr>
          <a:xfrm>
            <a:off x="8172360" y="3573360"/>
            <a:ext cx="863640" cy="6112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9"/>
          <a:stretch/>
        </p:blipFill>
        <p:spPr>
          <a:xfrm>
            <a:off x="8244000" y="4292640"/>
            <a:ext cx="72864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rcRect l="0" t="4873" r="0" b="6706"/>
          <a:stretch/>
        </p:blipFill>
        <p:spPr>
          <a:xfrm>
            <a:off x="684360" y="0"/>
            <a:ext cx="7777080" cy="6877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65164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Tro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4724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450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orde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0692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51280" y="5734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P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134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16360" y="112536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eauv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64000" y="1628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08360" y="141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Ca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82920" y="2708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27280" y="24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R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200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95640" y="5084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ontéli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32720" y="54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48360" y="333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Liè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651640" y="2421000"/>
            <a:ext cx="649080" cy="6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rcRect l="0" t="4873" r="0" b="6706"/>
          <a:stretch/>
        </p:blipFill>
        <p:spPr>
          <a:xfrm>
            <a:off x="684360" y="0"/>
            <a:ext cx="7777080" cy="6877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65164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600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Tro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48000" y="4724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450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orde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0692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5734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P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134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16360" y="112536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eauv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1628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141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Ca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82920" y="2708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27280" y="24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R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200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84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ontéli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32720" y="54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48360" y="333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Liè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5651640" y="2421000"/>
            <a:ext cx="649080" cy="641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3203640" y="4005360"/>
            <a:ext cx="6112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rcRect l="0" t="4873" r="0" b="6706"/>
          <a:stretch/>
        </p:blipFill>
        <p:spPr>
          <a:xfrm>
            <a:off x="684360" y="0"/>
            <a:ext cx="7777080" cy="6877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5164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9600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Tro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48000" y="4724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450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orde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0692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51280" y="5734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P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134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16360" y="112536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eauv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64000" y="1628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08360" y="141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Ca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82920" y="2708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24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R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200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95640" y="5084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ontéli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32720" y="54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48360" y="333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Liè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651640" y="2421000"/>
            <a:ext cx="649080" cy="641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3203640" y="4005360"/>
            <a:ext cx="611280" cy="610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2843280" y="5562720"/>
            <a:ext cx="8348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2"/>
          <a:srcRect l="0" t="4873" r="0" b="6706"/>
          <a:stretch/>
        </p:blipFill>
        <p:spPr>
          <a:xfrm>
            <a:off x="684360" y="0"/>
            <a:ext cx="7777080" cy="6877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565164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600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Tro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48000" y="4724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360" y="450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orde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0692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51280" y="5734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P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134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16360" y="112536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eauv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64000" y="1628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08360" y="141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Ca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82920" y="2708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27280" y="24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R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1200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95640" y="5084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ontéli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32720" y="54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48360" y="333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Liè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5651640" y="2421000"/>
            <a:ext cx="649080" cy="6411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3203640" y="4005360"/>
            <a:ext cx="611280" cy="610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2843280" y="5562720"/>
            <a:ext cx="834840" cy="701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4427640" y="692280"/>
            <a:ext cx="79992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rcRect l="0" t="4873" r="0" b="6706"/>
          <a:stretch/>
        </p:blipFill>
        <p:spPr>
          <a:xfrm>
            <a:off x="684360" y="0"/>
            <a:ext cx="7777080" cy="6877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65164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9600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Tro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48000" y="4724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92360" y="450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orde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692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51280" y="5734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P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134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16360" y="112536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eauv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64000" y="1628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08360" y="141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Ca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82920" y="2708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27280" y="24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R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1200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95640" y="5084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ontéli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54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48360" y="333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Liè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651640" y="2421000"/>
            <a:ext cx="649080" cy="6411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203640" y="4005360"/>
            <a:ext cx="611280" cy="610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2843280" y="5562720"/>
            <a:ext cx="834840" cy="7016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4427640" y="692280"/>
            <a:ext cx="799920" cy="5889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3276720" y="981000"/>
            <a:ext cx="8636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2"/>
          <a:srcRect l="0" t="4873" r="0" b="6706"/>
          <a:stretch/>
        </p:blipFill>
        <p:spPr>
          <a:xfrm>
            <a:off x="684360" y="0"/>
            <a:ext cx="7777080" cy="68770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65164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00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Tro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48000" y="4724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2360" y="450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orde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0692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51280" y="5734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P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134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112536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eauv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64000" y="1628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08360" y="141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Ca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2920" y="2708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627280" y="24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R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1200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95640" y="5084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ontéli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2720" y="54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48360" y="333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Liè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5651640" y="2421000"/>
            <a:ext cx="649080" cy="6411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3203640" y="4005360"/>
            <a:ext cx="611280" cy="610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2843280" y="5562720"/>
            <a:ext cx="834840" cy="7016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6"/>
          <a:stretch/>
        </p:blipFill>
        <p:spPr>
          <a:xfrm>
            <a:off x="4427640" y="692280"/>
            <a:ext cx="799920" cy="5889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7"/>
          <a:stretch/>
        </p:blipFill>
        <p:spPr>
          <a:xfrm>
            <a:off x="3276720" y="981000"/>
            <a:ext cx="863640" cy="6112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8"/>
          <a:stretch/>
        </p:blipFill>
        <p:spPr>
          <a:xfrm>
            <a:off x="1979640" y="1989000"/>
            <a:ext cx="72864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rcRect l="0" t="4873" r="0" b="6706"/>
          <a:stretch/>
        </p:blipFill>
        <p:spPr>
          <a:xfrm>
            <a:off x="684360" y="0"/>
            <a:ext cx="7777080" cy="68770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65164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9600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Tro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4724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92360" y="450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orde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0692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51280" y="5734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P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134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716360" y="112536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eauv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1628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08360" y="141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Ca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82920" y="2708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27280" y="24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R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1200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95640" y="5084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ontéli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732720" y="54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48360" y="333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Liè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5651640" y="2421000"/>
            <a:ext cx="649080" cy="6411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3203640" y="4005360"/>
            <a:ext cx="611280" cy="6109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2843280" y="5562720"/>
            <a:ext cx="834840" cy="7016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4427640" y="692280"/>
            <a:ext cx="799920" cy="5889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3276720" y="981000"/>
            <a:ext cx="863640" cy="611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8"/>
          <a:stretch/>
        </p:blipFill>
        <p:spPr>
          <a:xfrm>
            <a:off x="1979640" y="1989000"/>
            <a:ext cx="728640" cy="7509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9"/>
          <a:stretch/>
        </p:blipFill>
        <p:spPr>
          <a:xfrm>
            <a:off x="6084720" y="4740120"/>
            <a:ext cx="79236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2"/>
          <a:srcRect l="0" t="4873" r="0" b="6706"/>
          <a:stretch/>
        </p:blipFill>
        <p:spPr>
          <a:xfrm>
            <a:off x="684360" y="0"/>
            <a:ext cx="7777080" cy="6877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65164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9600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Tro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48000" y="4724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92360" y="450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orde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70692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51280" y="5734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P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0" y="134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16360" y="112536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Beauv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564000" y="1628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08360" y="141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Ca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2920" y="2708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627280" y="24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R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1200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95640" y="5084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Montéli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2720" y="54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48360" y="333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mic Sans MS"/>
              </a:rPr>
              <a:t>Liè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5651640" y="2421000"/>
            <a:ext cx="649080" cy="6411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3203640" y="4005360"/>
            <a:ext cx="611280" cy="6109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2843280" y="5562720"/>
            <a:ext cx="834840" cy="701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"/>
          <a:stretch/>
        </p:blipFill>
        <p:spPr>
          <a:xfrm>
            <a:off x="4427640" y="692280"/>
            <a:ext cx="799920" cy="5889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7"/>
          <a:stretch/>
        </p:blipFill>
        <p:spPr>
          <a:xfrm>
            <a:off x="3276720" y="981000"/>
            <a:ext cx="863640" cy="6112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8"/>
          <a:stretch/>
        </p:blipFill>
        <p:spPr>
          <a:xfrm>
            <a:off x="1979640" y="1989000"/>
            <a:ext cx="728640" cy="7509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9"/>
          <a:stretch/>
        </p:blipFill>
        <p:spPr>
          <a:xfrm>
            <a:off x="6084720" y="4724280"/>
            <a:ext cx="792360" cy="5479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10"/>
          <a:stretch/>
        </p:blipFill>
        <p:spPr>
          <a:xfrm>
            <a:off x="6877080" y="260280"/>
            <a:ext cx="6951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1-10T09:41:50Z</dcterms:modified>
  <cp:revision>32</cp:revision>
  <dc:subject/>
  <dc:title>Slide 1</dc:title>
</cp:coreProperties>
</file>