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780-925C-4D87-9674-CBD111EF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321-FFF8-4A81-81A7-3CE0BDE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A83-18F2-4EA4-AFD0-8DEC33AA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3C0-B754-4193-B735-2C23F560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1876-E854-40B4-AA0E-A8D1A674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CCC0-0084-41DE-9400-F4D50E0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EB4-75C1-459E-8B72-F2C843B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A6B9-3674-4B03-B468-E258C4D5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BDBA-2086-4498-AE5D-35F835A1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59B-ABCD-4AC2-AC9B-400BBCC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F5A-5636-440E-BEAA-12EA87B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7BD-8535-41E7-AD12-8901C613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0A52-3D3D-4FCB-97BE-5EF66AE3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52AD-68A0-4DC5-841A-77047E6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43FA-D0C5-4690-A6EA-18E4E792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F51F-CAF5-4ECD-A3F2-2719E113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BD0-6A54-4685-8F77-168923E0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9266-03F2-47A9-88E6-F4D6AB88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EA6F-8489-4611-893A-E491558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4F83-0B6C-4C2F-BD46-82925B9B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E91F-5ED3-4063-B3A8-E211CA3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CD6B-93D2-42F4-82B6-4AA5E79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764-363C-4F41-9AC1-AAF07B56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7829-32D9-4C73-A728-B81F91DE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084E-07E0-40D4-9E21-365C393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C56D-935B-410E-81EC-7946AF4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842C-E56C-4E9D-BA02-1ACD1A8F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3D69-26BF-4A70-91EE-A115BD50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8D74-F5E6-4168-8563-0BB8769B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0BE7-39F4-4E8A-8D92-6C0ADCDC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F2A9-D446-4197-A033-71E8319E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7269-7B6D-48D9-A333-D3F45FF2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40F3-0878-487C-A106-D876F45E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088-86A4-40E7-81BB-1A20685A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9EC6-B773-4CB9-A4BA-B2C97292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010C-11D3-44A1-A721-DD1A2BA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BC5D-316F-4959-B654-BDC05B0C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D169-26A9-4258-B15D-5A782E8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E10C-B8AD-4AB1-A47A-DE5EBE3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720B-0D58-45AF-9AD0-C2B0331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12F6-414A-481E-B6DE-712AFCED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42DC-11D3-449A-822F-F3A222BC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8F10-0FFB-4E46-9DEF-A0CF106C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DC0-5B84-420C-8147-4E806AE6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31C-90F4-4492-B5E2-BFD92AA2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90D-5BFE-4ABD-B4AC-81152B2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9B0-0CDD-420A-A970-D85DEF4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F90-5D1E-4300-90A7-DFE69F3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A44-114C-43B8-8618-D623B6BB4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AAB1-8C5E-4907-B77C-0A78590EE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4811-05BA-4C98-887D-411AF22114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CF66-7746-4103-B855-552EFC65500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189000"/>
            <a:ext cx="3960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Troyes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Bordeaux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Pau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Beauvais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Caen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Rieux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Montélimar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Liège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189000"/>
            <a:ext cx="4824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froi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bea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cha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mauva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y a du v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ple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y a du brouilla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nei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8244000" y="5157720"/>
            <a:ext cx="792000" cy="547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8172360" y="1844640"/>
            <a:ext cx="835200" cy="701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8244000" y="1052640"/>
            <a:ext cx="610920" cy="610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8244000" y="5877000"/>
            <a:ext cx="695160" cy="865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8172360" y="2708280"/>
            <a:ext cx="800280" cy="588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8172360" y="357336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8244000" y="4292640"/>
            <a:ext cx="728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1979640" y="1989000"/>
            <a:ext cx="728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1979640" y="1989000"/>
            <a:ext cx="728640" cy="750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6084720" y="4740120"/>
            <a:ext cx="79236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1979640" y="1989000"/>
            <a:ext cx="728640" cy="7509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6084720" y="4724280"/>
            <a:ext cx="792360" cy="547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6877080" y="260280"/>
            <a:ext cx="6951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41:50Z</dcterms:modified>
  <cp:revision>32</cp:revision>
  <dc:subject/>
  <dc:title>Slide 1</dc:title>
</cp:coreProperties>
</file>