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A6B0E-3EA8-41BF-80C4-048ABCDB904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4634B-F8F2-4721-982E-E81AA89B4A8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1138B-199C-45FB-96A0-FEDD321C2E4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13C67-5A33-4EB7-8718-B56D745CEBE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10868-AC95-4A8F-84BB-AC2C4972FCE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382E2-9AE2-4C32-924B-78FA902B9ED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41E1A-4AD6-4B58-892D-65DBFD56CBF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78565-B966-4FFA-966F-8E0AE8C9704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808E-4C39-421A-B5FB-D9F18DD2C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8F25-9B3F-4484-915F-F23D17E67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EB4D-2CA2-4DC8-BE90-FF80719A6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2106-7CF2-4345-8467-860CBD204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F2FE3-E95D-4F38-A722-78C413509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A61CE-6122-4A72-92BA-75BD6CD26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C4861-90B2-45B1-A38E-9B831B747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BFD73-88A7-4FBE-905A-3A012F666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BFDFD-C4DA-4FC2-AAEE-471E6F29C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A2D25-5EE1-4D4D-AF7F-B4425CCBD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40584-1362-424E-B1AA-CE3B5BE3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1683-4BF7-4123-8559-8DD46AD1E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C5D92-9858-4E7B-98A3-821AEF0A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D6B9B-7E89-4115-9DBC-D940C650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69AD2-1CC9-4F8C-84E4-77E0D7B4C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668CD-FA5C-4F78-BD7B-B3E4822B9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BDB93-1389-43CE-96F1-80A957D43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B2E2-9D58-4A0B-82A2-0D45C004C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F579-7429-4706-9913-9B55EC3DF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7AE0-89B9-465F-B0B2-A368F814F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6D0D-47E0-46E9-9EBD-664B6CADA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D1F4-5CDD-42F9-B304-1E3FBD85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7117-2871-48DE-BDF0-890CECAC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102F-CF83-4661-83E4-27918FC3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53E4C-D764-48C0-92C1-36456B0FB56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6C871-0B73-4E71-BED9-1384611B3F7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5"/>
          <p:cNvSpPr/>
          <p:nvPr/>
        </p:nvSpPr>
        <p:spPr>
          <a:xfrm>
            <a:off x="2197080" y="4724280"/>
            <a:ext cx="48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 crayon rou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Box 8"/>
          <p:cNvSpPr/>
          <p:nvPr/>
        </p:nvSpPr>
        <p:spPr>
          <a:xfrm>
            <a:off x="8388360" y="18900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2251080" y="1341360"/>
            <a:ext cx="4714920" cy="3382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" descr=""/>
          <p:cNvPicPr/>
          <p:nvPr/>
        </p:nvPicPr>
        <p:blipFill>
          <a:blip r:embed="rId3"/>
          <a:stretch/>
        </p:blipFill>
        <p:spPr>
          <a:xfrm>
            <a:off x="612720" y="198360"/>
            <a:ext cx="778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4"/>
          <p:cNvSpPr/>
          <p:nvPr/>
        </p:nvSpPr>
        <p:spPr>
          <a:xfrm>
            <a:off x="1768320" y="4581360"/>
            <a:ext cx="547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40400"/>
                </a:solidFill>
                <a:latin typeface="Comic Sans MS"/>
              </a:rPr>
              <a:t>un taille-crayon bleu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8388360" y="18900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5" name="Picture 6" descr=""/>
          <p:cNvPicPr/>
          <p:nvPr/>
        </p:nvPicPr>
        <p:blipFill>
          <a:blip r:embed="rId2"/>
          <a:srcRect l="20076" t="0" r="24803" b="0"/>
          <a:stretch/>
        </p:blipFill>
        <p:spPr>
          <a:xfrm>
            <a:off x="3049560" y="765000"/>
            <a:ext cx="3070080" cy="3703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" descr=""/>
          <p:cNvPicPr/>
          <p:nvPr/>
        </p:nvPicPr>
        <p:blipFill>
          <a:blip r:embed="rId3"/>
          <a:stretch/>
        </p:blipFill>
        <p:spPr>
          <a:xfrm>
            <a:off x="600120" y="210960"/>
            <a:ext cx="7781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1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4"/>
          <p:cNvSpPr/>
          <p:nvPr/>
        </p:nvSpPr>
        <p:spPr>
          <a:xfrm>
            <a:off x="1906560" y="4726080"/>
            <a:ext cx="518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40c"/>
                </a:solidFill>
                <a:latin typeface="Comic Sans MS"/>
              </a:rPr>
              <a:t>une règle blanch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8388360" y="18900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2"/>
          <a:stretch/>
        </p:blipFill>
        <p:spPr>
          <a:xfrm>
            <a:off x="2077920" y="1208160"/>
            <a:ext cx="4980240" cy="3322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" descr=""/>
          <p:cNvPicPr/>
          <p:nvPr/>
        </p:nvPicPr>
        <p:blipFill>
          <a:blip r:embed="rId3"/>
          <a:stretch/>
        </p:blipFill>
        <p:spPr>
          <a:xfrm>
            <a:off x="608040" y="189000"/>
            <a:ext cx="7781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2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2"/>
          <a:stretch/>
        </p:blipFill>
        <p:spPr>
          <a:xfrm>
            <a:off x="2340000" y="907920"/>
            <a:ext cx="4513320" cy="3745080"/>
          </a:xfrm>
          <a:prstGeom prst="rect">
            <a:avLst/>
          </a:prstGeom>
          <a:ln w="0">
            <a:noFill/>
          </a:ln>
        </p:spPr>
      </p:pic>
      <p:sp>
        <p:nvSpPr>
          <p:cNvPr id="102" name="TextBox 4"/>
          <p:cNvSpPr/>
          <p:nvPr/>
        </p:nvSpPr>
        <p:spPr>
          <a:xfrm>
            <a:off x="1763640" y="4748040"/>
            <a:ext cx="547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40400"/>
                </a:solidFill>
                <a:latin typeface="Comic Sans MS"/>
              </a:rPr>
              <a:t>un feutre or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8388360" y="18900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4" name="Picture 1" descr=""/>
          <p:cNvPicPr/>
          <p:nvPr/>
        </p:nvPicPr>
        <p:blipFill>
          <a:blip r:embed="rId3"/>
          <a:stretch/>
        </p:blipFill>
        <p:spPr>
          <a:xfrm>
            <a:off x="608040" y="189000"/>
            <a:ext cx="7781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2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2222640" y="312840"/>
            <a:ext cx="4653000" cy="4654440"/>
          </a:xfrm>
          <a:prstGeom prst="rect">
            <a:avLst/>
          </a:prstGeom>
          <a:ln w="0">
            <a:noFill/>
          </a:ln>
        </p:spPr>
      </p:pic>
      <p:sp>
        <p:nvSpPr>
          <p:cNvPr id="106" name="TextBox 4"/>
          <p:cNvSpPr/>
          <p:nvPr/>
        </p:nvSpPr>
        <p:spPr>
          <a:xfrm>
            <a:off x="1768320" y="4581360"/>
            <a:ext cx="547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40400"/>
                </a:solidFill>
                <a:latin typeface="Comic Sans MS"/>
              </a:rPr>
              <a:t>une trousse ver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TextBox 3"/>
          <p:cNvSpPr/>
          <p:nvPr/>
        </p:nvSpPr>
        <p:spPr>
          <a:xfrm>
            <a:off x="8388360" y="18900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8" name="Picture 1" descr=""/>
          <p:cNvPicPr/>
          <p:nvPr/>
        </p:nvPicPr>
        <p:blipFill>
          <a:blip r:embed="rId3"/>
          <a:stretch/>
        </p:blipFill>
        <p:spPr>
          <a:xfrm>
            <a:off x="574560" y="189000"/>
            <a:ext cx="778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3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2932200" y="1268280"/>
            <a:ext cx="3316320" cy="3276720"/>
          </a:xfrm>
          <a:prstGeom prst="rect">
            <a:avLst/>
          </a:prstGeom>
          <a:ln w="0">
            <a:noFill/>
          </a:ln>
        </p:spPr>
      </p:pic>
      <p:sp>
        <p:nvSpPr>
          <p:cNvPr id="110" name="TextBox 4"/>
          <p:cNvSpPr/>
          <p:nvPr/>
        </p:nvSpPr>
        <p:spPr>
          <a:xfrm>
            <a:off x="1768320" y="4581360"/>
            <a:ext cx="547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40400"/>
                </a:solidFill>
                <a:latin typeface="Comic Sans MS"/>
              </a:rPr>
              <a:t>une gomme jau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8388360" y="18900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2" name="Picture 1" descr=""/>
          <p:cNvPicPr/>
          <p:nvPr/>
        </p:nvPicPr>
        <p:blipFill>
          <a:blip r:embed="rId3"/>
          <a:stretch/>
        </p:blipFill>
        <p:spPr>
          <a:xfrm>
            <a:off x="581040" y="189000"/>
            <a:ext cx="7781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4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2933640" y="1197000"/>
            <a:ext cx="3294000" cy="3294000"/>
          </a:xfrm>
          <a:prstGeom prst="rect">
            <a:avLst/>
          </a:prstGeom>
          <a:ln w="0">
            <a:noFill/>
          </a:ln>
        </p:spPr>
      </p:pic>
      <p:sp>
        <p:nvSpPr>
          <p:cNvPr id="114" name="TextBox 4"/>
          <p:cNvSpPr/>
          <p:nvPr/>
        </p:nvSpPr>
        <p:spPr>
          <a:xfrm>
            <a:off x="1768320" y="4581360"/>
            <a:ext cx="547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40400"/>
                </a:solidFill>
                <a:latin typeface="Comic Sans MS"/>
              </a:rPr>
              <a:t>une calculatrice violet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8388360" y="18900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6" name="Picture 1" descr=""/>
          <p:cNvPicPr/>
          <p:nvPr/>
        </p:nvPicPr>
        <p:blipFill>
          <a:blip r:embed="rId3"/>
          <a:stretch/>
        </p:blipFill>
        <p:spPr>
          <a:xfrm>
            <a:off x="625320" y="209520"/>
            <a:ext cx="778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4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0-03-26T11:11:50Z</dcterms:modified>
  <cp:revision>156</cp:revision>
  <dc:subject/>
  <dc:title>TITLE</dc:title>
</cp:coreProperties>
</file>