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B5EE-02E5-4B55-A616-961D5F99C1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AF0F-2B47-4E4B-8EF9-125A6CEB5D4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8F2C-6C7E-41D9-B43C-5FB62B07CB5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ED82-2804-47F9-9902-158AC5AAED5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E9F1-9504-4458-A2D6-ABB9BD00A05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D70E-6F3D-4F88-99CA-A246B2575A5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2BD1-6C82-4ED7-A80F-C27D38D8566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F0F5-32B8-40C3-96BF-F2B18BCD783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4A5-49E2-4932-A0C1-DF7D8558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AF58-BDD0-49FF-AA40-A9202A5D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E96-F76F-4A8F-9644-8631708C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9A22-E45C-4139-920D-A500478D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7269-6BA1-44F5-A028-6414DC70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3A7C-37B6-40EA-AA48-8F6193C2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4985-CFFD-4D6D-AD53-62C7C9C1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0E5E-D333-41CC-86EE-BAAA7141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1C7C-B209-49A5-B3F5-874D0510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0F2D-B6E3-4593-9E4B-00506FAF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6170-ADC8-4F51-9CDE-C22F98A5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6978-DED5-4DC9-8573-76F49F02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0FD8-1659-4FAD-99DF-A497B64E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1A76-F87C-4391-9A37-16BE8C64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D31F-9CA0-4880-95AA-1CE689EA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A06F-E170-4E39-938F-166148F2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3BF6-BA6A-4CEE-ABD7-FA45AABE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0AF-561C-4A89-91FA-33CF979D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1D3-7EF8-4AFE-94E1-8E4591E4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C9E-9B0D-4223-8E30-F5063D3A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75DA-11F2-42F5-A085-9313DD0E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B0F-ED00-4BC6-BA50-754D0849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EFE-F8D1-4167-92FD-1A6538A3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4877-B107-4DA3-8E9B-8E394D97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10A3-EFD5-4104-9567-B55549E2275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5529-1BBF-49FA-8DCC-ABF6BEDA229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5"/>
          <p:cNvSpPr/>
          <p:nvPr/>
        </p:nvSpPr>
        <p:spPr>
          <a:xfrm>
            <a:off x="2197080" y="472428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crayon rou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2251080" y="1341360"/>
            <a:ext cx="4714920" cy="3382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3"/>
          <a:stretch/>
        </p:blipFill>
        <p:spPr>
          <a:xfrm>
            <a:off x="612720" y="198360"/>
            <a:ext cx="778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4"/>
          <p:cNvSpPr/>
          <p:nvPr/>
        </p:nvSpPr>
        <p:spPr>
          <a:xfrm>
            <a:off x="1768320" y="4581360"/>
            <a:ext cx="54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40400"/>
                </a:solidFill>
                <a:latin typeface="Comic Sans MS"/>
              </a:rPr>
              <a:t>un taille-crayon ble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rcRect l="20076" t="0" r="24803" b="0"/>
          <a:stretch/>
        </p:blipFill>
        <p:spPr>
          <a:xfrm>
            <a:off x="3049560" y="765000"/>
            <a:ext cx="3070080" cy="3703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"/>
          <p:cNvPicPr/>
          <p:nvPr/>
        </p:nvPicPr>
        <p:blipFill>
          <a:blip r:embed="rId3"/>
          <a:stretch/>
        </p:blipFill>
        <p:spPr>
          <a:xfrm>
            <a:off x="600120" y="210960"/>
            <a:ext cx="77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4"/>
          <p:cNvSpPr/>
          <p:nvPr/>
        </p:nvSpPr>
        <p:spPr>
          <a:xfrm>
            <a:off x="1906560" y="4726080"/>
            <a:ext cx="51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40c"/>
                </a:solidFill>
                <a:latin typeface="Comic Sans MS"/>
              </a:rPr>
              <a:t>une règle blanch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2077920" y="1208160"/>
            <a:ext cx="4980240" cy="3322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3"/>
          <a:stretch/>
        </p:blipFill>
        <p:spPr>
          <a:xfrm>
            <a:off x="608040" y="189000"/>
            <a:ext cx="77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2340000" y="907920"/>
            <a:ext cx="4513320" cy="37450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763640" y="4748040"/>
            <a:ext cx="54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40400"/>
                </a:solidFill>
                <a:latin typeface="Comic Sans MS"/>
              </a:rPr>
              <a:t>un feutre or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3"/>
          <a:stretch/>
        </p:blipFill>
        <p:spPr>
          <a:xfrm>
            <a:off x="608040" y="189000"/>
            <a:ext cx="77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222640" y="312840"/>
            <a:ext cx="4653000" cy="46544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1768320" y="4581360"/>
            <a:ext cx="54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40400"/>
                </a:solidFill>
                <a:latin typeface="Comic Sans MS"/>
              </a:rPr>
              <a:t>une trousse ver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3"/>
          <a:stretch/>
        </p:blipFill>
        <p:spPr>
          <a:xfrm>
            <a:off x="574560" y="189000"/>
            <a:ext cx="778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2932200" y="1268280"/>
            <a:ext cx="3316320" cy="32767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1768320" y="4581360"/>
            <a:ext cx="54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40400"/>
                </a:solidFill>
                <a:latin typeface="Comic Sans MS"/>
              </a:rPr>
              <a:t>une gomme jau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581040" y="189000"/>
            <a:ext cx="77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2933640" y="1197000"/>
            <a:ext cx="3294000" cy="3294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1768320" y="4581360"/>
            <a:ext cx="54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40400"/>
                </a:solidFill>
                <a:latin typeface="Comic Sans MS"/>
              </a:rPr>
              <a:t>une calculatrice violet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388360" y="1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3"/>
          <a:stretch/>
        </p:blipFill>
        <p:spPr>
          <a:xfrm>
            <a:off x="625320" y="209520"/>
            <a:ext cx="778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3-26T11:11:50Z</dcterms:modified>
  <cp:revision>156</cp:revision>
  <dc:subject/>
  <dc:title>TITLE</dc:title>
</cp:coreProperties>
</file>