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9481-A5DF-4DC4-8CB2-AFC55DC64CF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all out the correct La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24C7-45A4-4FED-AEFA-21C9D9D67BB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all out “Lander” if it is one, stay quiet if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249C-0ED2-44E3-849D-76B4C7C7B3C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all out the correct la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8F45-C581-49DC-96DB-1E505436562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7DC8-28AF-46D6-B34B-207C04B5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0126-44EE-4C2C-AE44-221FD449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2F74-351D-4C47-8BC3-B50E0CCD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505B-C22F-49C6-8880-14D014F7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698C-4607-4303-A22A-A8F265A5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D327-58A0-4E99-BAC0-56DD4FBD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4939-802C-4E8B-B43B-66DC0AD2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130D-B400-41CD-B237-C9F83722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62B1-066D-47AE-A270-FB175566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B8B9-37DB-4D8F-9E07-12DF99BB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093B-3BE9-40B5-866E-968C74A2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D0C2-433E-44A9-BC7C-774648DD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4750-1C77-42BF-B5F4-69E56B3F63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5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221"/>
          <p:cNvSpPr/>
          <p:nvPr/>
        </p:nvSpPr>
        <p:spPr>
          <a:xfrm>
            <a:off x="324000" y="3573360"/>
            <a:ext cx="345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Belgie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224"/>
          <p:cNvSpPr/>
          <p:nvPr/>
        </p:nvSpPr>
        <p:spPr>
          <a:xfrm>
            <a:off x="2771640" y="5415120"/>
            <a:ext cx="48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Frankreich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225"/>
          <p:cNvSpPr/>
          <p:nvPr/>
        </p:nvSpPr>
        <p:spPr>
          <a:xfrm>
            <a:off x="2023920" y="4400640"/>
            <a:ext cx="689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Die Niederland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226"/>
          <p:cNvSpPr/>
          <p:nvPr/>
        </p:nvSpPr>
        <p:spPr>
          <a:xfrm>
            <a:off x="4284720" y="189000"/>
            <a:ext cx="475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Deutschlan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228"/>
          <p:cNvSpPr/>
          <p:nvPr/>
        </p:nvSpPr>
        <p:spPr>
          <a:xfrm>
            <a:off x="2178000" y="2593800"/>
            <a:ext cx="43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Österreich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229"/>
          <p:cNvSpPr/>
          <p:nvPr/>
        </p:nvSpPr>
        <p:spPr>
          <a:xfrm>
            <a:off x="684360" y="1413000"/>
            <a:ext cx="54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Die Schweiz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9280" y="232236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Dänemark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68360" y="5759280"/>
            <a:ext cx="76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Die Niederlande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-442800" y="343836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uxemburg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187800" y="5135400"/>
            <a:ext cx="570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Tschechien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6041880" y="2489040"/>
            <a:ext cx="4118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Köln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0" y="115920"/>
            <a:ext cx="442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Frankreich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4284720" y="1306440"/>
            <a:ext cx="539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Die Schweiz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66760" y="4338720"/>
            <a:ext cx="539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München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69920" y="1235160"/>
            <a:ext cx="532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tuttgart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4740120" y="65160"/>
            <a:ext cx="511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Belgien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4684680" y="3568680"/>
            <a:ext cx="4695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Österreich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7" dur="1" fill="hold"/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11160"/>
            <a:ext cx="9144000" cy="6858000"/>
          </a:xfrm>
          <a:prstGeom prst="rect">
            <a:avLst/>
          </a:prstGeom>
          <a:solidFill>
            <a:srgbClr val="ffccff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971640" y="2374920"/>
            <a:ext cx="101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_ ie  S _ _ w _ _ z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1125360"/>
            <a:ext cx="88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D_ _  N_ _ der_ _d_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755640" y="57240"/>
            <a:ext cx="80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D_ _ ts _ _ la_ _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1762200" y="4811760"/>
            <a:ext cx="68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Fr _ nkr _ _ c h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39640" y="356220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D _ n_ m_rk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1219320" y="585000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_ sch_ ch _ _ n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9-02-21T17:16:07Z</dcterms:modified>
  <cp:revision>167</cp:revision>
  <dc:subject/>
  <dc:title>TITLE</dc:title>
</cp:coreProperties>
</file>