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FF63-013C-407A-B49B-88C40700F0B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all out the correct La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6615-9E0B-4C2C-8C8C-1EDA9A4ECA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all out “Lander” if it is one, stay quiet if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4A3A-2C5B-4D35-AC8E-80BC86A7775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all out the correct la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93DA-187F-4BB3-9674-EE73FD5C051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380-812F-4D64-B3B2-77F7C420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587-8800-47D9-B18F-35B00F8C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77B-8D1A-4996-9380-7097EFB0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3B4-FF01-4C89-815C-31E04E9C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5AF-BAEA-4FF1-933F-3652FF6B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CF4-1A5D-494B-9A1D-4B13285D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1F8-8AD6-453D-968A-8E9D1D7B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9CE-3AA9-4554-A017-F5CE4EB1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71A-E500-4736-9925-175A6567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4DB-9FFE-41F3-B2F3-29E8B358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535-2A2E-409D-911A-2B308DBA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9FC-E1BA-4965-8AB9-B74B515E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2E62-BE58-4508-981D-B2F83869D7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5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221"/>
          <p:cNvSpPr/>
          <p:nvPr/>
        </p:nvSpPr>
        <p:spPr>
          <a:xfrm>
            <a:off x="324000" y="3573360"/>
            <a:ext cx="345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Belgie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224"/>
          <p:cNvSpPr/>
          <p:nvPr/>
        </p:nvSpPr>
        <p:spPr>
          <a:xfrm>
            <a:off x="2771640" y="5415120"/>
            <a:ext cx="48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Frankreich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225"/>
          <p:cNvSpPr/>
          <p:nvPr/>
        </p:nvSpPr>
        <p:spPr>
          <a:xfrm>
            <a:off x="2023920" y="4400640"/>
            <a:ext cx="689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ie Niederland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226"/>
          <p:cNvSpPr/>
          <p:nvPr/>
        </p:nvSpPr>
        <p:spPr>
          <a:xfrm>
            <a:off x="4284720" y="189000"/>
            <a:ext cx="47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eutschlan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228"/>
          <p:cNvSpPr/>
          <p:nvPr/>
        </p:nvSpPr>
        <p:spPr>
          <a:xfrm>
            <a:off x="2178000" y="259380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Österreich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229"/>
          <p:cNvSpPr/>
          <p:nvPr/>
        </p:nvSpPr>
        <p:spPr>
          <a:xfrm>
            <a:off x="684360" y="1413000"/>
            <a:ext cx="54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ie Schweiz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9280" y="2322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änemark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8360" y="5759280"/>
            <a:ext cx="76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ie Niederland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-442800" y="3438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uxemburg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187800" y="5135400"/>
            <a:ext cx="570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Tschechie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6041880" y="2489040"/>
            <a:ext cx="411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Köl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0" y="115920"/>
            <a:ext cx="442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Frankreich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284720" y="1306440"/>
            <a:ext cx="539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ie Schweiz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66760" y="4338720"/>
            <a:ext cx="539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Münche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69920" y="1235160"/>
            <a:ext cx="532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tuttgar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4740120" y="65160"/>
            <a:ext cx="511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Belgie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4684680" y="3568680"/>
            <a:ext cx="4695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Österreich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7" dur="1" fill="hold"/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11160"/>
            <a:ext cx="9144000" cy="6858000"/>
          </a:xfrm>
          <a:prstGeom prst="rect">
            <a:avLst/>
          </a:prstGeom>
          <a:solidFill>
            <a:srgbClr val="ffccff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971640" y="2374920"/>
            <a:ext cx="101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 ie  S _ _ w _ _ z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1125360"/>
            <a:ext cx="88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_ _  N_ _ der_ _d_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755640" y="57240"/>
            <a:ext cx="80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_ _ ts _ _ la_ _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762200" y="481176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Fr _ nkr _ _ c h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39640" y="356220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 _ n_ m_rk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219320" y="585000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 sch_ ch _ _ 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9-02-21T17:16:07Z</dcterms:modified>
  <cp:revision>167</cp:revision>
  <dc:subject/>
  <dc:title>TITLE</dc:title>
</cp:coreProperties>
</file>