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BCA2-D8E5-4D5A-9678-30D8C5B4E9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E9AF-F6FA-4AE3-BE3A-B603A517B4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1124-7EE1-4C92-A3E2-114958C8E7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2221-FD0B-48ED-94A0-BFA580C06D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292C-AC36-4B8D-B8A7-A146585C8F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079C-6CA6-4234-9392-9389941333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588D-716B-4EB6-982F-764145A073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8206-C182-478B-9BDD-A604442FF4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7DD7-1749-4277-9BFB-5BB192C83D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60C3-B1DD-445B-91ED-E7E98E11D2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B793-AF76-487A-BD73-64C8F97407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CA5D-D8AD-4BFD-939D-FAD82ADB54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18E-7255-4491-A94B-F7BF69F6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A9B-7595-4864-9110-44C5728C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E06-5921-4D23-BB98-D0553EF1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AD1-F7BB-4226-B657-35FAC39F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C3B-06E1-4CD1-9DDC-4823E98C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70C-2D17-45D9-9671-0C9A5D62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7EA-AE3B-4FE4-A9A7-FF982ADA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D00-2ED9-4318-BAA8-2B319BAC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EC7-EC83-475E-9C08-7BE14D38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9BF-C3EF-4B88-8ED9-E6B0BE96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794-CE78-4943-8F71-23A11C07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DEE-3178-463E-8905-F5D4D809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8109-4711-4CA0-BC62-BE1541153E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4.34652E-006 C 0.00296 -0.0037 0.00487 -0.00833 0.00799 -0.0118 C 0.02067 -0.02568 0.03525 -0.03747 0.05157 -0.0421 C 0.0606 -0.04904 0.07014 -0.05297 0.08021 -0.05667 C 0.08855 -0.06315 0.09723 -0.06546 0.10608 -0.06986 C 0.11667 -0.07518 0.12935 -0.08235 0.13872 -0.09091 C 0.14462 -0.09623 0.15209 -0.09947 0.15747 -0.10548 C 0.16667 -0.11589 0.17605 -0.12607 0.18629 -0.1344 C 0.19098 -0.14481 0.1974 -0.15522 0.20313 -0.16493 C 0.20417 -0.16956 0.20573 -0.17349 0.20695 -0.17812 C 0.20903 -0.18529 0.20955 -0.19315 0.21094 -0.20055 C 0.2106 -0.21698 0.21389 -0.24127 0.20608 -0.25723 C 0.20435 -0.26579 0.20226 -0.26764 0.19705 -0.27435 C 0.19428 -0.27805 0.1915 -0.28314 0.1882 -0.28614 C 0.18056 -0.29262 0.17014 -0.29794 0.16146 -0.29933 C 0.14619 -0.30557 0.12987 -0.31043 0.11389 -0.31251 C 0.10296 -0.31205 0.09167 -0.31436 0.08126 -0.30997 C 0.0698 -0.30534 0.05764 -0.30025 0.04653 -0.29401 C 0.03646 -0.28846 0.0257 -0.28152 0.01494 -0.27967 C 0.00157 -0.27342 -0.01163 -0.26532 -0.02569 -0.26255 C -0.0276 -0.26116 -0.02951 -0.25954 -0.03159 -0.25862 C -0.0342 -0.25746 -0.03958 -0.25584 -0.03958 -0.25584 C -0.04617 -0.2563 -0.05277 -0.25653 -0.05937 -0.25723 C -0.06961 -0.25839 -0.0776 -0.28152 -0.08506 -0.28892 C -0.08906 -0.30557 -0.08454 -0.28799 -0.0901 -0.30465 C -0.09288 -0.31275 -0.09322 -0.32246 -0.09496 -0.33102 C -0.09427 -0.35808 -0.09774 -0.36919 -0.08802 -0.38769 C -0.08576 -0.39648 -0.07621 -0.39741 -0.07013 -0.39833 C -0.04826 -0.4018 -0.02656 -0.40574 -0.00486 -0.40897 C -0.00416 -0.40897 0.01146 -0.41221 0.01494 -0.41291 C 0.01685 -0.41337 0.02084 -0.41406 0.02084 -0.41406 C 0.03039 -0.41846 0.0382 -0.42008 0.04567 -0.43003 C 0.04688 -0.43558 0.05001 -0.4409 0.05261 -0.44575 C 0.05226 -0.45755 0.05226 -0.46958 0.05157 -0.48138 C 0.05122 -0.48901 0.04671 -0.49433 0.04358 -0.49988 C 0.03855 -0.50914 0.03542 -0.51631 0.02778 -0.52232 C 0.02448 -0.52903 0.01546 -0.53296 0.0099 -0.5369 C 0.00365 -0.54545 -0.00885 -0.55054 -0.0177 -0.55263 C -0.02829 -0.5598 -0.0401 -0.56211 -0.05138 -0.5672 C -0.05277 -0.56789 -0.05416 -0.56789 -0.05538 -0.56859 C -0.05677 -0.56928 -0.05798 -0.57044 -0.05937 -0.57113 C -0.06197 -0.57229 -0.06718 -0.57391 -0.06718 -0.57391 C -0.09149 -0.57252 -0.10781 -0.57437 -0.12864 -0.5672 C -0.13767 -0.55933 -0.14861 -0.55795 -0.15833 -0.55263 C -0.16215 -0.55054 -0.17013 -0.5473 -0.17013 -0.5473 C -0.17829 -0.54106 -0.17343 -0.5443 -0.18506 -0.53828 C -0.19583 -0.53111 -0.20694 -0.52325 -0.21874 -0.51978 C -0.22673 -0.51423 -0.23576 -0.50821 -0.24444 -0.5052 C -0.2526 -0.49711 -0.26336 -0.49433 -0.27326 -0.49202 C -0.29305 -0.48277 -0.31041 -0.47814 -0.33159 -0.47606 C -0.36545 -0.47675 -0.39756 -0.48022 -0.43055 -0.48022 E">
                                      <p:cBhvr>
                                        <p:cTn id="5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3347E-006 C -0.00086 -0.01179 0.000880000000000001 -0.01619 -0.00694 -0.01989 C -0.01527 -0.03099 -0.02378 -0.04302 -0.03367 -0.05135 C -0.04513 -0.06083 -0.07031 -0.06107 -0.08107 -0.06199 C -0.08871 -0.06268 -0.09635 -0.0643 -0.10399 -0.06453 C -0.12048 -0.06523 -0.13697 -0.06546 -0.15347 -0.06592 C -0.16267 -0.06731 -0.17187 -0.06824 -0.18107 -0.06986 C -0.1894 -0.07356 -0.18506 -0.07217 -0.19409 -0.07379 C -0.20121 -0.07633 -0.20815 -0.08003 -0.21475 -0.08443 C -0.21857 -0.08697 -0.22169 -0.09044 -0.22569 -0.09229 C -0.23541 -0.10525 -0.2361 -0.10039 -0.24253 -0.11751 C -0.24426 -0.12213 -0.24756 -0.13185 -0.24756 -0.13185 C -0.24965 -0.15359 -0.24635 -0.17811 -0.25433 -0.19778 C -0.26926 -0.23456 -0.30347 -0.24612 -0.33072 -0.25861 C -0.34322 -0.2644 -0.35711 -0.2607 -0.37031 -0.26116 C -0.37465 -0.26231 -0.37742 -0.26324 -0.38107 -0.26648 C -0.38767 -0.27897 -0.39218 -0.29285 -0.396 -0.30742 C -0.39565 -0.32593 -0.39548 -0.3442 -0.39496 -0.36271 C -0.39478 -0.36895 -0.39201 -0.3752 -0.39097 -0.38121 C -0.3861 -0.40828 -0.37812 -0.43534 -0.35537 -0.44321 C -0.34253 -0.45524 -0.32708 -0.45431 -0.3118 -0.45524 C -0.30642 -0.45871 -0.2986 -0.46287 -0.29409 -0.46842 C -0.29166 -0.4712 -0.2894 -0.47444 -0.28715 -0.47744 C -0.28541 -0.47976 -0.28315 -0.48554 -0.28315 -0.48554 C -0.28055 -0.50196 -0.28333 -0.52001 -0.27916 -0.5355 C -0.27794 -0.54545 -0.27708 -0.55147 -0.27222 -0.55933 C -0.27083 -0.56835 -0.26961 -0.56835 -0.26527 -0.57506 C -0.2644 -0.57622 -0.26406 -0.57784 -0.26336 -0.57922 C -0.26267 -0.58061 -0.26215 -0.582 -0.26128 -0.58316 C -0.25503 -0.59287 -0.24374 -0.60236 -0.23454 -0.60559 C -0.23107 -0.6086 -0.22673 -0.61184 -0.22274 -0.61346 C -0.21978 -0.61462 -0.21388 -0.616 -0.21388 -0.616 C -0.19722 -0.61323 -0.19982 -0.61693 -0.19496 -0.60166 C -0.19531 -0.58848 -0.19496 -0.57506 -0.196 -0.56187 C -0.19669 -0.55424 -0.20277 -0.54337 -0.2059 -0.53689 C -0.21249 -0.52301 -0.21718 -0.50936 -0.21978 -0.4934 C -0.21944 -0.48022 -0.21944 -0.46703 -0.21874 -0.45385 C -0.21822 -0.4439 -0.20711 -0.44436 -0.2019 -0.44182 C -0.18142 -0.44228 -0.1611 -0.44182 -0.14062 -0.44321 C -0.13159 -0.44367 -0.1243 -0.45709 -0.11579 -0.46032 C -0.11458 -0.4483 -0.11301 -0.43673 -0.1118 -0.4247 C -0.11232 -0.40157 -0.10989 -0.37289 -0.12083 -0.3523 C -0.12222 -0.34328 -0.12569 -0.33587 -0.1276 -0.32708 C -0.12864 -0.32223 -0.13072 -0.31274 -0.13072 -0.31274 C -0.13159 -0.30418 -0.13281 -0.29609 -0.13367 -0.28753 C -0.13333 -0.2792 -0.1335 -0.27087 -0.13263 -0.26255 C -0.13159 -0.25329 -0.11718 -0.25283 -0.1118 -0.2519 C -0.06978 -0.23386 -0.04166 -0.2563 -0.00781 -0.27828 C -0.00225 -0.28591 0.00522 -0.291 0.0099 -0.29956 C 0.01459 -0.30788 0.01806 -0.31714 0.02379 -0.32454 C 0.02831 -0.34212 0.02605 -0.33518 0.02969 -0.34559 C 0.03074 -0.35322 0.03317 -0.35692 0.03473 -0.3641 C 0.03403 -0.38538 0.03351 -0.40643 0.03265 -0.42748 C 0.03178 -0.44668 0.02449 -0.48739 0.00886 -0.49479 C -0.00312 -0.51029 -0.02013 -0.51399 -0.03454 -0.52371 C -0.0401 -0.52741 -0.04548 -0.53319 -0.05138 -0.5355 C -0.05416 -0.53921 -0.05746 -0.54337 -0.06128 -0.54476 C -0.07395 -0.56072 -0.08593 -0.57992 -0.09097 -0.60282 C -0.09062 -0.61785 -0.09131 -0.63289 -0.0901 -0.64769 C -0.08992 -0.64978 -0.08784 -0.65116 -0.08715 -0.65302 C -0.0802 -0.67129 -0.07465 -0.67892 -0.06232 -0.69118 C -0.05694 -0.6965 -0.04166 -0.69997 -0.03454 -0.70321 C -0.01527 -0.70206 -0.01145 -0.70529 5.55556E-006 -0.69003 C 0.00278 -0.67962 0.00938 -0.67175 0.01199 -0.66088 C 0.01528 -0.64769 0.01633 -0.64284 0.02188 -0.63197 C 0.02535 -0.61739 0.02848 -0.60305 0.03178 -0.58848 C 0.03282 -0.57807 0.03386 -0.56511 0.03664 -0.5554 C 0.04063 -0.54198 0.05157 -0.52139 0.06147 -0.51445 C 0.0639 -0.5126 0.06737 -0.51191 0.07032 -0.51052 C 0.07553 -0.51145 0.08091 -0.51168 0.08612 -0.51307 C 0.08994 -0.51399 0.09306 -0.51954 0.09601 -0.52232 C 0.11251 -0.53782 0.12119 -0.56465 0.13265 -0.5857 C 0.13594 -0.59172 0.14133 -0.59657 0.14463 -0.60282 C 0.14584 -0.60513 0.14636 -0.60814 0.14758 -0.61068 C 0.15365 -0.62341 0.16407 -0.63451 0.1724 -0.64515 C 0.17605 -0.64978 0.18525 -0.65556 0.18525 -0.65556 C 0.19272 -0.66551 0.204 -0.66967 0.2139 -0.67407 C 0.21581 -0.67499 0.21719 -0.67707 0.21893 -0.678 C 0.22726 -0.68239 0.23681 -0.68309 0.24567 -0.68471 C 0.25088 -0.68424 0.25643 -0.6854 0.26147 -0.68332 C 0.2632 -0.68262 0.26355 -0.67915 0.26442 -0.67684 C 0.26615 -0.67245 0.26772 -0.66805 0.26928 -0.66366 C 0.26997 -0.66181 0.27136 -0.65834 0.27136 -0.65834 C 0.27327 -0.64376 0.27501 -0.62919 0.27726 -0.61485 C 0.27674 -0.5857 0.279 -0.54221 0.26841 -0.51307 C 0.26893 -0.47952 0.25956 -0.46264 0.28022 -0.45778 C 0.27987 -0.44992 0.28143 -0.44089 0.27831 -0.43395 C 0.27483 -0.42632 0.26615 -0.42308 0.26042 -0.41961 C 0.24497 -0.41059 0.22778 -0.40365 0.21094 -0.40111 C 0.20348 -0.39856 0.19671 -0.39602 0.1889 -0.3944 C 0.18317 -0.39185 0.18369 -0.39185 0.17831 -0.39047 C 0.17449 -0.38954 0.16737 -0.38792 0.16737 -0.38792 C 0.16094 -0.38491 0.15539 -0.38399 0.14844 -0.3826 C 0.13473 -0.37705 0.12153 -0.36988 0.10782 -0.36271 C 0.08699 -0.35184 0.06268 -0.33796 0.05643 -0.30603 C 0.05678 -0.29863 0.05574 -0.29077 0.05747 -0.2836 C 0.06025 -0.26995 0.07258 -0.26278 0.08126 -0.25861 C 0.0915 -0.25352 0.10244 -0.24635 0.11285 -0.24265 C 0.12258 -0.23918 0.13265 -0.2371 0.14254 -0.23479 C 0.15591 -0.23525 0.16963 -0.23525 0.18317 -0.23618 C 0.19115 -0.23664 0.19879 -0.24265 0.20574 -0.24658 C 0.2191 -0.25376 0.23959 -0.25699 0.25348 -0.25861 C 0.28629 -0.26255 0.31963 -0.26255 0.35244 -0.26393 C 0.36511 -0.26625 0.38004 -0.25954 0.39115 -0.26787 C 0.39549 -0.2711 0.39949 -0.2755 0.404 -0.27828 C 0.40591 -0.27943 0.40782 -0.28036 0.4099 -0.28105 C 0.41094 -0.28151 0.41285 -0.28221 0.41285 -0.28221 E">
                                      <p:cBhvr>
                                        <p:cTn id="6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15845E-007 L 0.22048 -0.66111 E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4.66111E-006 L -0.11423 -4.66111E-006 C -0.16545 -4.66111E-006 -0.22847 -0.1839 -0.22847 -0.33333 L -0.22847 -0.66736 E">
                                      <p:cBhvr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3.78441E-006 C 0.00921 -0.04187 -0.00242 -0.10548 0.00782 -0.15452 C 0.00869 -0.16609 0.01008 -0.17465 0.01372 -0.18482 C 0.01528 -0.19662 0.0139 -0.19038 0.01876 -0.20333 C 0.02171 -0.2112 0.02188 -0.21813 0.0257 -0.22577 C 0.02865 -0.23988 0.03594 -0.25121 0.04254 -0.26255 C 0.04567 -0.26787 0.04792 -0.27481 0.0514 -0.27967 C 0.06164 -0.29378 0.0724 -0.30627 0.08317 -0.31922 C 0.08855 -0.3257 0.09306 -0.33218 0.09896 -0.33773 C 0.10452 -0.34282 0.11008 -0.35022 0.1158 -0.35485 C 0.12501 -0.36202 0.10973 -0.34652 0.12362 -0.36017 C 0.12952 -0.36595 0.12396 -0.36271 0.12969 -0.36549 C 0.13369 -0.36988 0.13664 -0.37243 0.1415 -0.37474 C 0.14619 -0.38052 0.15643 -0.38445 0.16233 -0.38792 C 0.18473 -0.40065 0.20834 -0.41013 0.23265 -0.41291 C 0.24167 -0.41615 0.25122 -0.41615 0.26042 -0.41823 C 0.2639 -0.41985 0.27136 -0.42401 0.27518 -0.42494 C 0.28004 -0.42609 0.29011 -0.42748 0.29011 -0.42748 C 0.31025 -0.43558 0.33247 -0.44275 0.35348 -0.4446 C 0.36025 -0.44645 0.3665 -0.44946 0.37327 -0.45131 C 0.37917 -0.45293 0.38525 -0.45385 0.39098 -0.45663 C 0.3981 -0.45501 0.39705 -0.45801 0.39705 -0.45131 E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9.25515E-006 C -0.00764 -0.0037 -0.01666 -0.00462 -0.02482 -0.00647 C -0.03437 -0.01087 -0.04635 -0.01434 -0.05642 -0.01572 C -0.07239 -0.02128 -0.08871 -0.0259 -0.10503 -0.02891 C -0.11909 -0.03701 -0.13489 -0.03562 -0.14948 -0.04094 C -0.15052 -0.0414 -0.15746 -0.04441 -0.15937 -0.04487 C -0.16371 -0.0458 -0.17239 -0.04742 -0.17239 -0.04742 C -0.18628 -0.05528 -0.21875 -0.05898 -0.23368 -0.05944 C -0.26302 -0.06014 -0.29253 -0.06014 -0.32187 -0.0606 C -0.35225 -0.07286 -0.40017 -0.06985 -0.42968 -0.06985 E">
                                      <p:cBhvr>
                                        <p:cTn id="2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6.60421E-006 C 0.00695 -0.05296 0.00678 -0.11681 -0.00399 -0.1714 C -0.00676 -0.20032 -0.01423 -0.22831 -0.01683 -0.25722 C -0.02031 -0.29539 -0.02169 -0.33402 -0.02673 -0.37196 C -0.02777 -0.39347 -0.03246 -0.41267 -0.03454 -0.43395 C -0.03645 -0.45269 -0.03593 -0.47142 -0.04062 -0.48924 C -0.04287 -0.50959 -0.04357 -0.52995 -0.04756 -0.55007 C -0.04878 -0.56372 -0.05103 -0.57691 -0.05433 -0.58963 C -0.05711 -0.60073 -0.05815 -0.61276 -0.06128 -0.62386 C -0.06492 -0.63728 -0.07031 -0.65023 -0.07031 -0.66481 E">
                                      <p:cBhvr>
                                        <p:cTn id="3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6.22484E-006 C -0.00174 -0.00763 -0.00261 -0.01341 -0.00886 -0.01572 C -0.01545 -0.0222 -0.02413 -0.02521 -0.0316 -0.02891 C -0.03854 -0.03238 -0.04184 -0.03561 -0.04948 -0.03677 C -0.05677 -0.04094 -0.06441 -0.04348 -0.07222 -0.04602 C -0.07743 -0.04764 -0.08542 -0.04857 -0.09011 -0.05273 C -0.10208 -0.06314 -0.12031 -0.06707 -0.13368 -0.07517 C -0.14254 -0.08072 -0.15226 -0.08651 -0.16042 -0.09368 C -0.16667 -0.09923 -0.17344 -0.1064 -0.18021 -0.11079 C -0.18646 -0.11496 -0.19167 -0.12097 -0.19705 -0.12652 C -0.20417 -0.13393 -0.21302 -0.1411 -0.21875 -0.15035 C -0.22413 -0.15914 -0.21771 -0.14966 -0.2217 -0.15822 C -0.22535 -0.16585 -0.23038 -0.17233 -0.23368 -0.18065 C -0.23507 -0.18944 -0.2342 -0.18412 -0.23663 -0.19661 C -0.23733 -0.20055 -0.23854 -0.20864 -0.23854 -0.20864 C -0.2382 -0.22599 -0.24202 -0.24565 -0.23559 -0.26115 C -0.23403 -0.26485 -0.23177 -0.26786 -0.23056 -0.27179 C -0.22865 -0.27827 -0.22969 -0.27711 -0.22674 -0.28105 C -0.22049 -0.28937 -0.21285 -0.29608 -0.20486 -0.30071 C -0.20052 -0.30302 -0.20295 -0.30117 -0.19792 -0.30325 C -0.19583 -0.30395 -0.19202 -0.30603 -0.19202 -0.30603 C -0.17292 -0.3051 -0.16719 -0.30487 -0.15243 -0.3021 C -0.14688 -0.29654 -0.1408 -0.29608 -0.13455 -0.29284 C -0.12483 -0.28775 -0.11632 -0.28174 -0.1059 -0.27966 C -0.09757 -0.27503 -0.08872 -0.27411 -0.08021 -0.27041 C -0.0724 -0.26694 -0.06667 -0.2637 -0.05833 -0.26254 C -0.05035 -0.25815 -0.0441 -0.25583 -0.03559 -0.25444 C -0.02205 -0.24542 -0.00886 -0.24265 0.00607 -0.24126 C 0.01927 -0.24172 0.03246 -0.24126 0.04566 -0.24265 C 0.04878 -0.24288 0.05156 -0.24542 0.05451 -0.24658 C 0.07048 -0.25283 0.08316 -0.26092 0.09601 -0.27434 C 0.10312 -0.28174 0.11441 -0.28961 0.11979 -0.29932 C 0.1309 -0.31945 0.1401 -0.34026 0.14861 -0.3627 C 0.15035 -0.37219 0.1526 -0.38098 0.15451 -0.39046 C 0.15573 -0.41128 0.15677 -0.41845 0.15451 -0.4432 C 0.15399 -0.44852 0.14045 -0.46101 0.13767 -0.4631 C 0.12934 -0.46934 0.12205 -0.47836 0.11493 -0.48669 C 0.10937 -0.49317 0.11232 -0.48831 0.10607 -0.49456 C 0.10087 -0.49964 0.09618 -0.50635 0.09114 -0.5119 C 0.08594 -0.52347 0.07934 -0.53388 0.07326 -0.54475 C 0.07118 -0.55424 0.06979 -0.56349 0.06632 -0.57251 C 0.05937 -0.61507 0.0625 -0.60952 0.0625 -0.68331 E">
                                      <p:cBhvr>
                                        <p:cTn id="3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6.60421E-006 C -0.00034 -0.00161 -0.00017 -0.00369 -0.00104 -0.00508 C -0.00173 -0.00624 -0.00312 -0.00577 -0.00399 -0.00647 C -0.00676 -0.00878 -0.00919 -0.01202 -0.01197 -0.01433 C -0.01979 -0.02104 -0.02985 -0.0259 -0.03871 -0.03145 C -0.04062 -0.03261 -0.04183 -0.03538 -0.04357 -0.03677 C -0.04808 -0.04047 -0.05173 -0.04209 -0.05642 -0.04464 C -0.06267 -0.05296 -0.07013 -0.05667 -0.07725 -0.06314 C -0.08385 -0.06916 -0.09166 -0.07633 -0.09808 -0.08304 C -0.10433 -0.08951 -0.11041 -0.09483 -0.11683 -0.10154 C -0.12204 -0.10709 -0.12899 -0.10964 -0.13367 -0.11588 C -0.14062 -0.12514 -0.14843 -0.13323 -0.15642 -0.1411 C -0.16024 -0.1448 -0.16249 -0.15081 -0.16544 -0.15567 C -0.16996 -0.16307 -0.17656 -0.17117 -0.1802 -0.17927 C -0.18454 -0.18875 -0.1861 -0.19939 -0.19114 -0.20841 C -0.19253 -0.21489 -0.19374 -0.2209 -0.19617 -0.22669 C -0.19739 -0.23386 -0.19826 -0.23802 -0.19808 -0.24658 C -0.19791 -0.26416 -0.19808 -0.28197 -0.19617 -0.29932 C -0.19565 -0.30418 -0.19288 -0.30811 -0.19114 -0.31251 C -0.18819 -0.32037 -0.1861 -0.32754 -0.18229 -0.33494 C -0.17673 -0.34582 -0.16701 -0.34882 -0.1585 -0.35345 C -0.14652 -0.35993 -0.13541 -0.36317 -0.12291 -0.36664 C -0.09843 -0.36594 -0.07951 -0.36409 -0.05642 -0.36132 C -0.03906 -0.35438 -0.04999 -0.35831 -0.02378 -0.35206 C -0.02013 -0.35114 -0.01301 -0.34952 -0.01301 -0.34952 C -0.00433 -0.34443 0.01962 -0.33356 0.02761 -0.32454 C 0.03369 -0.3176 0.04046 -0.31251 0.04653 -0.30603 C 0.05469 -0.29724 0.06181 -0.28637 0.06928 -0.27688 C 0.07709 -0.26717 0.08577 -0.25838 0.09393 -0.24912 C 0.10938 -0.23154 0.12223 -0.20841 0.13751 -0.19129 C 0.14202 -0.18621 0.14688 -0.18181 0.1514 -0.17672 C 0.17015 -0.15498 0.18803 -0.1337 0.20886 -0.11588 C 0.21581 -0.10987 0.22362 -0.09992 0.2316 -0.09761 C 0.24237 -0.09021 0.25226 -0.08234 0.26424 -0.0791 C 0.26876 -0.07795 0.27813 -0.07633 0.27813 -0.07633 C 0.28004 -0.07494 0.28195 -0.07332 0.28403 -0.0724 C 0.28751 -0.07101 0.29497 -0.06985 0.29497 -0.06985 C 0.30296 -0.07031 0.31094 -0.07008 0.31876 -0.07124 C 0.32067 -0.07147 0.32865 -0.07725 0.32969 -0.07772 C 0.34185 -0.08396 0.35296 -0.09183 0.36528 -0.09761 C 0.36876 -0.09923 0.37188 -0.10339 0.37518 -0.10547 C 0.37865 -0.10756 0.39393 -0.11403 0.39393 -0.11866 E">
                                      <p:cBhvr>
                                        <p:cTn id="4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474E-007 C -0.00121 -0.0074 -0.00243 -0.01457 -0.00503 -0.02128 C -0.00625 -0.0377 -0.00729 -0.06083 -0.01493 -0.07517 C -0.01649 -0.08119 -0.01736 -0.08767 -0.01892 -0.09368 C -0.02014 -0.09831 -0.02326 -0.10386 -0.02482 -0.10825 C -0.02639 -0.11265 -0.02673 -0.11589 -0.02882 -0.12005 C -0.03003 -0.12792 -0.03559 -0.1448 -0.03958 -0.15059 C -0.04253 -0.16539 -0.04722 -0.18043 -0.0526 -0.19407 C -0.05399 -0.20217 -0.05781 -0.21004 -0.06041 -0.21767 C -0.06354 -0.22692 -0.06493 -0.23687 -0.06944 -0.24543 C -0.07135 -0.25399 -0.07569 -0.25908 -0.08021 -0.26532 C -0.08403 -0.27064 -0.08316 -0.27365 -0.08819 -0.27851 C -0.09132 -0.28475 -0.09514 -0.28799 -0.09913 -0.29285 C -0.11076 -0.30696 -0.12222 -0.31644 -0.13663 -0.32454 C -0.14045 -0.32662 -0.14357 -0.33078 -0.14757 -0.33264 C -0.15017 -0.33379 -0.15295 -0.33402 -0.15555 -0.33518 C -0.16944 -0.34073 -0.18264 -0.3486 -0.19705 -0.3523 C -0.20798 -0.35507 -0.21962 -0.3553 -0.23073 -0.35623 C -0.26024 -0.36317 -0.29705 -0.35808 -0.32378 -0.35762 C -0.33316 -0.35438 -0.34305 -0.35183 -0.3526 -0.34975 C -0.35781 -0.34675 -0.36302 -0.34582 -0.3684 -0.34304 C -0.3743 -0.33981 -0.38003 -0.33587 -0.38628 -0.33379 C -0.39253 -0.32847 -0.3993 -0.32477 -0.40607 -0.32061 C -0.41354 -0.31598 -0.42187 -0.30788 -0.42969 -0.30488 C -0.43333 -0.30141 -0.4368 -0.29771 -0.44062 -0.29424 C -0.44253 -0.29239 -0.44462 -0.29077 -0.44653 -0.28892 C -0.44757 -0.28799 -0.45069 -0.28637 -0.44948 -0.28637 C -0.44826 -0.28637 -0.44687 -0.28637 -0.44566 -0.28637 E">
                                      <p:cBhvr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17:11Z</dcterms:modified>
  <cp:revision>132</cp:revision>
  <dc:subject/>
  <dc:title>TITLE</dc:title>
</cp:coreProperties>
</file>